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IVEBY.WAV" ContentType="audio/x-wav"/>
  <Override PartName="/ppt/media/image11.wmf" ContentType="image/x-wmf"/>
  <Override PartName="/ppt/media/image9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3.jpeg" ContentType="image/jpeg"/>
  <Override PartName="/ppt/media/image3.wmf" ContentType="image/x-wmf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2.jpeg" ContentType="image/jpeg"/>
  <Override PartName="/ppt/media/image6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3CF-AE9A-4ACD-B6DB-E16A8C8F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9A4-E1CB-4AFD-B39C-CBFB1936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71D-E26F-44D0-9ABE-74F7D453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AA7-B2EE-44C8-8A05-F933605C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A50-44EE-45F7-9A20-09FDB787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C43-A31C-4D83-9E84-6CFDF432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0DE-3D6D-47E7-9175-024ABD66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AC1-B76D-4CD7-B8D4-34EE34D0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35D-7F41-40EB-A991-AD1D684F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445-DE96-4043-AD30-5ABBBBF9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3F5-B0E0-4039-AF6D-74B91511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AFC-3E29-4293-9E21-C65FAD7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5FA8-5664-407E-A64D-1037EEEA6846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mailto:meu@thailocaladmin.go.th" TargetMode="External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666880"/>
            <a:ext cx="8137440" cy="321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36602"/>
                    </a:gs>
                    <a:gs pos="50000">
                      <a:srgbClr val="fbde05"/>
                    </a:gs>
                    <a:gs pos="100000">
                      <a:srgbClr val="736602"/>
                    </a:gs>
                  </a:gsLst>
                  <a:lin ang="13500000"/>
                </a:gradFill>
                <a:latin typeface="Angsana New"/>
              </a:rPr>
              <a:t>การติดตามและประเมินผลแผนพัฒนาท้องถิ่น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36602"/>
                  </a:gs>
                  <a:gs pos="50000">
                    <a:srgbClr val="fbde05"/>
                  </a:gs>
                  <a:gs pos="100000">
                    <a:srgbClr val="736602"/>
                  </a:gs>
                </a:gsLst>
                <a:lin ang="13500000"/>
              </a:gradFill>
              <a:latin typeface="Angsana New"/>
              <a:ea typeface="Angsana New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08360" y="1052640"/>
            <a:ext cx="1943280" cy="193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BD3-69AA-4226-9A00-47EF6902646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การวิเคราะห์สถานการณ์ในการพัฒนาของท้องถิ่น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โดยการใช้เทคนิค 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SWO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S  = Strength      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จุดแข็ง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W = Weakness   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จุดอ่อ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O  = Opportunity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โอกาส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T  = Threat          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อุปสรรค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A1B-B6AB-41F6-B90D-77290A04C267}" type="slidenum">
              <a:t>10</a:t>
            </a:fld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755640" y="1125360"/>
            <a:ext cx="7721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ngsana New"/>
              </a:rPr>
              <a:t>1) </a:t>
            </a:r>
            <a:r>
              <a:rPr b="1" lang="hi-IN" sz="5400" spc="-1" strike="noStrike">
                <a:solidFill>
                  <a:srgbClr val="ff66ff"/>
                </a:solidFill>
                <a:latin typeface="Angsana New"/>
                <a:cs typeface="Angsana New"/>
              </a:rPr>
              <a:t>มิได้ไตร่ตรองรอบคอบว่าคาดหวังอะไร และจะวัดความสำเร็จอย่างไ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1" name=""/>
          <p:cNvSpPr/>
          <p:nvPr/>
        </p:nvSpPr>
        <p:spPr>
          <a:xfrm>
            <a:off x="755640" y="2924280"/>
            <a:ext cx="77216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cc"/>
                </a:solidFill>
                <a:latin typeface="Angsana New"/>
              </a:rPr>
              <a:t>2) </a:t>
            </a:r>
            <a:r>
              <a:rPr b="1" lang="hi-IN" sz="5400" spc="-1" strike="noStrike">
                <a:solidFill>
                  <a:srgbClr val="99ffcc"/>
                </a:solidFill>
                <a:latin typeface="Angsana New"/>
                <a:cs typeface="Angsana New"/>
              </a:rPr>
              <a:t>กำหนดเป้าหมาย</a:t>
            </a:r>
            <a:r>
              <a:rPr b="1" lang="en-US" sz="5400" spc="-1" strike="noStrike">
                <a:solidFill>
                  <a:srgbClr val="99ffcc"/>
                </a:solidFill>
                <a:latin typeface="Angsana New"/>
                <a:ea typeface="Angsana New"/>
              </a:rPr>
              <a:t>/</a:t>
            </a:r>
            <a:r>
              <a:rPr b="1" lang="hi-IN" sz="5400" spc="-1" strike="noStrike">
                <a:solidFill>
                  <a:srgbClr val="99ffcc"/>
                </a:solidFill>
                <a:latin typeface="Angsana New"/>
                <a:cs typeface="Angsana New"/>
              </a:rPr>
              <a:t>มาตรฐานตามอำเภอใจ ทำอยู่ฝ่ายเดียว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2" name=""/>
          <p:cNvSpPr/>
          <p:nvPr/>
        </p:nvSpPr>
        <p:spPr>
          <a:xfrm>
            <a:off x="826920" y="4653000"/>
            <a:ext cx="772164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Angsana New"/>
                <a:ea typeface="Angsana New"/>
              </a:rPr>
              <a:t>3</a:t>
            </a:r>
            <a:r>
              <a:rPr b="1" lang="en-US" sz="4800" spc="-1" strike="noStrike">
                <a:solidFill>
                  <a:srgbClr val="ff66ff"/>
                </a:solidFill>
                <a:latin typeface="Angsana New"/>
              </a:rPr>
              <a:t>) </a:t>
            </a:r>
            <a:r>
              <a:rPr b="1" lang="hi-IN" sz="4800" spc="-1" strike="noStrike">
                <a:solidFill>
                  <a:srgbClr val="ff66ff"/>
                </a:solidFill>
                <a:latin typeface="Angsana New"/>
                <a:cs typeface="Angsana New"/>
              </a:rPr>
              <a:t>ไม่รับฟัง</a:t>
            </a:r>
            <a:r>
              <a:rPr b="1" lang="en-US" sz="4800" spc="-1" strike="noStrike">
                <a:solidFill>
                  <a:srgbClr val="ff66ff"/>
                </a:solidFill>
                <a:latin typeface="Angsana New"/>
                <a:ea typeface="Angsana New"/>
              </a:rPr>
              <a:t>/</a:t>
            </a:r>
            <a:r>
              <a:rPr b="1" lang="hi-IN" sz="4800" spc="-1" strike="noStrike">
                <a:solidFill>
                  <a:srgbClr val="ff66ff"/>
                </a:solidFill>
                <a:latin typeface="Angsana New"/>
                <a:cs typeface="Angsana New"/>
              </a:rPr>
              <a:t>แสวงหาความคิดผู้อื่น </a:t>
            </a:r>
            <a:r>
              <a:rPr b="1" lang="en-US" sz="5400" spc="-1" strike="noStrike">
                <a:solidFill>
                  <a:srgbClr val="ff66ff"/>
                </a:solidFill>
                <a:latin typeface="Angsana New"/>
                <a:ea typeface="Angsana New"/>
              </a:rPr>
              <a:t> </a:t>
            </a:r>
            <a:r>
              <a:rPr b="1" lang="en-US" sz="4800" spc="-1" strike="noStrike">
                <a:solidFill>
                  <a:srgbClr val="ff66ff"/>
                </a:solidFill>
                <a:latin typeface="Angsana New"/>
                <a:ea typeface="Angsana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66ff"/>
                </a:solidFill>
                <a:latin typeface="Angsana New"/>
                <a:cs typeface="Angsana New"/>
              </a:rPr>
              <a:t>ชอบที่ตอบปัญหาแทนผู้อื่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704-28FA-4485-B1F6-03E1284E78EF}" type="slidenum">
              <a:t>100</a:t>
            </a:fld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11280" y="3141720"/>
            <a:ext cx="772164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ff"/>
                </a:solidFill>
                <a:latin typeface="Angsana New"/>
                <a:ea typeface="Angsana New"/>
              </a:rPr>
              <a:t>5</a:t>
            </a:r>
            <a:r>
              <a:rPr b="1" lang="en-US" sz="5400" spc="-1" strike="noStrike">
                <a:solidFill>
                  <a:srgbClr val="9999ff"/>
                </a:solidFill>
                <a:latin typeface="Angsana New"/>
              </a:rPr>
              <a:t>) </a:t>
            </a:r>
            <a:r>
              <a:rPr b="1" lang="hi-IN" sz="5400" spc="-1" strike="noStrike">
                <a:solidFill>
                  <a:srgbClr val="9999ff"/>
                </a:solidFill>
                <a:latin typeface="Angsana New"/>
                <a:cs typeface="Angsana New"/>
              </a:rPr>
              <a:t>ใช้เวลามากไป          สิ่งผิด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ff"/>
                </a:solidFill>
                <a:latin typeface="Angsana New"/>
                <a:ea typeface="Angsana New"/>
              </a:rPr>
              <a:t>    </a:t>
            </a:r>
            <a:r>
              <a:rPr b="1" lang="hi-IN" sz="5400" spc="-1" strike="noStrike">
                <a:solidFill>
                  <a:srgbClr val="9999ff"/>
                </a:solidFill>
                <a:latin typeface="Angsana New"/>
                <a:cs typeface="Angsana New"/>
              </a:rPr>
              <a:t>ใช้เวลาน้อยไป          สิ่งถูก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4" name=""/>
          <p:cNvSpPr/>
          <p:nvPr/>
        </p:nvSpPr>
        <p:spPr>
          <a:xfrm>
            <a:off x="539640" y="5229360"/>
            <a:ext cx="84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66"/>
                </a:solidFill>
                <a:latin typeface="Angsana New"/>
              </a:rPr>
              <a:t>6) </a:t>
            </a:r>
            <a:r>
              <a:rPr b="1" lang="hi-IN" sz="5400" spc="-1" strike="noStrike">
                <a:solidFill>
                  <a:srgbClr val="ff9966"/>
                </a:solidFill>
                <a:latin typeface="Angsana New"/>
                <a:cs typeface="Angsana New"/>
              </a:rPr>
              <a:t>ไม่มุ่งมั่น จริงจังติดตามงานว่าทำอย่างไ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5" name=""/>
          <p:cNvSpPr/>
          <p:nvPr/>
        </p:nvSpPr>
        <p:spPr>
          <a:xfrm>
            <a:off x="611280" y="836640"/>
            <a:ext cx="772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ngsana New"/>
                <a:ea typeface="Angsana New"/>
              </a:rPr>
              <a:t>4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</a:rPr>
              <a:t>) </a:t>
            </a:r>
            <a:r>
              <a:rPr b="1" lang="hi-IN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วิจารณ์ผลการดำเนินงานอย่างเปิดเผยโดยมิได้ให้ความชื่นชมในวาระอันคว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6" name=""/>
          <p:cNvSpPr/>
          <p:nvPr/>
        </p:nvSpPr>
        <p:spPr>
          <a:xfrm>
            <a:off x="3924360" y="328464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7" name=""/>
          <p:cNvSpPr/>
          <p:nvPr/>
        </p:nvSpPr>
        <p:spPr>
          <a:xfrm>
            <a:off x="3995640" y="4365720"/>
            <a:ext cx="792360" cy="288720"/>
          </a:xfrm>
          <a:prstGeom prst="rightArrow">
            <a:avLst>
              <a:gd name="adj1" fmla="val 50000"/>
              <a:gd name="adj2" fmla="val 686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245-C334-4BED-989C-F72917788951}" type="slidenum">
              <a:t>101</a:t>
            </a:fld>
          </a:p>
        </p:txBody>
      </p:sp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cc00ff"/>
                </a:solidFill>
                <a:latin typeface="Angsana New"/>
                <a:cs typeface="Angsana New"/>
              </a:rPr>
              <a:t>กรณีศึกษา</a:t>
            </a:r>
            <a:br>
              <a:rPr sz="2000"/>
            </a:br>
            <a:r>
              <a:rPr b="1" lang="hi-IN" sz="2000" spc="-1" strike="noStrike">
                <a:solidFill>
                  <a:srgbClr val="cc00ff"/>
                </a:solidFill>
                <a:latin typeface="Angsana New"/>
                <a:cs typeface="Angsana New"/>
              </a:rPr>
              <a:t>ปฏิทินการติดตามและประเมินผลการดำเนินงานของกรมส่งเสริมการปกครองท้องถิ่น</a:t>
            </a:r>
            <a:br>
              <a:rPr sz="2000"/>
            </a:br>
            <a:r>
              <a:rPr b="1" lang="en-US" sz="2000" spc="-1" strike="noStrike">
                <a:solidFill>
                  <a:srgbClr val="cc00ff"/>
                </a:solidFill>
                <a:latin typeface="Angsana New"/>
                <a:ea typeface="Angsana New"/>
              </a:rPr>
              <a:t> ปี พ</a:t>
            </a:r>
            <a:r>
              <a:rPr b="1" lang="en-US" sz="2000" spc="-1" strike="noStrike">
                <a:solidFill>
                  <a:srgbClr val="cc00ff"/>
                </a:solidFill>
                <a:latin typeface="Angsana New"/>
                <a:ea typeface="Angsana New"/>
              </a:rPr>
              <a:t>.</a:t>
            </a:r>
            <a:r>
              <a:rPr b="1" lang="hi-IN" sz="2000" spc="-1" strike="noStrike">
                <a:solidFill>
                  <a:srgbClr val="cc00ff"/>
                </a:solidFill>
                <a:latin typeface="Angsana New"/>
                <a:cs typeface="Angsana New"/>
              </a:rPr>
              <a:t>ศ</a:t>
            </a:r>
            <a:r>
              <a:rPr b="1" lang="en-US" sz="2000" spc="-1" strike="noStrike">
                <a:solidFill>
                  <a:srgbClr val="cc00ff"/>
                </a:solidFill>
                <a:latin typeface="Angsana New"/>
                <a:ea typeface="Angsana New"/>
              </a:rPr>
              <a:t>. 2549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395280" y="1268280"/>
          <a:ext cx="8282160" cy="5288040"/>
        </p:xfrm>
        <a:graphic>
          <a:graphicData uri="http://schemas.openxmlformats.org/drawingml/2006/table">
            <a:tbl>
              <a:tblPr/>
              <a:tblGrid>
                <a:gridCol w="2089080"/>
                <a:gridCol w="647640"/>
                <a:gridCol w="648000"/>
                <a:gridCol w="504720"/>
                <a:gridCol w="574560"/>
                <a:gridCol w="649440"/>
                <a:gridCol w="503280"/>
                <a:gridCol w="144144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เรื่องที่ต้องต้องติดตา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ดั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วา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สำเร็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ยะเวลา ปีงบประมาณ 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ต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ม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..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จัดเก็บข้อมูล จปฐ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2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ส่งเสริมอาชีพกลุ่มสตร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3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จัดตั้งศูนย์พัฒนาครอบครั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4.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Home Health 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5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สงเคราะห์เบี้ยยังชีพผู้สูงอายุ ผู้พิการ และผู้ติดเชื้อเอดส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6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เทศบาล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อบต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สัญจ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   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ngsana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ก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ข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,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ทุกกลุ่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0" name=""/>
          <p:cNvSpPr/>
          <p:nvPr/>
        </p:nvSpPr>
        <p:spPr>
          <a:xfrm>
            <a:off x="3995640" y="335772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2699640" y="263700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2" name=""/>
          <p:cNvSpPr/>
          <p:nvPr/>
        </p:nvSpPr>
        <p:spPr>
          <a:xfrm>
            <a:off x="2700360" y="2492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3" name=""/>
          <p:cNvSpPr/>
          <p:nvPr/>
        </p:nvSpPr>
        <p:spPr>
          <a:xfrm>
            <a:off x="3564000" y="29242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4" name=""/>
          <p:cNvSpPr/>
          <p:nvPr/>
        </p:nvSpPr>
        <p:spPr>
          <a:xfrm>
            <a:off x="2700360" y="3284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5" name=""/>
          <p:cNvSpPr/>
          <p:nvPr/>
        </p:nvSpPr>
        <p:spPr>
          <a:xfrm>
            <a:off x="2700360" y="29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6" name=""/>
          <p:cNvSpPr/>
          <p:nvPr/>
        </p:nvSpPr>
        <p:spPr>
          <a:xfrm>
            <a:off x="2700360" y="3933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7" name=""/>
          <p:cNvSpPr/>
          <p:nvPr/>
        </p:nvSpPr>
        <p:spPr>
          <a:xfrm>
            <a:off x="2700360" y="46530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8" name=""/>
          <p:cNvSpPr/>
          <p:nvPr/>
        </p:nvSpPr>
        <p:spPr>
          <a:xfrm>
            <a:off x="2700360" y="5589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0E6-DD4A-43D6-A828-1949873F2D75}" type="slidenum">
              <a:t>102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ff"/>
                </a:solidFill>
                <a:latin typeface="Angsana New"/>
                <a:cs typeface="Angsana New"/>
              </a:rPr>
              <a:t>ปฏิทินการติดตามและประเมินผลการดำเนินงานของกรมส่งเสริมการปกครองท้องถิ่น</a:t>
            </a:r>
            <a:br>
              <a:rPr sz="2800"/>
            </a:br>
            <a:r>
              <a:rPr b="1" lang="en-US" sz="2800" spc="-1" strike="noStrike">
                <a:solidFill>
                  <a:srgbClr val="cc00ff"/>
                </a:solidFill>
                <a:latin typeface="Angsana New"/>
                <a:ea typeface="Angsana New"/>
              </a:rPr>
              <a:t> ปี พ</a:t>
            </a:r>
            <a:r>
              <a:rPr b="1" lang="en-US" sz="2800" spc="-1" strike="noStrike">
                <a:solidFill>
                  <a:srgbClr val="cc00ff"/>
                </a:solidFill>
                <a:latin typeface="Angsana New"/>
                <a:ea typeface="Angsana New"/>
              </a:rPr>
              <a:t>.</a:t>
            </a:r>
            <a:r>
              <a:rPr b="1" lang="hi-IN" sz="2800" spc="-1" strike="noStrike">
                <a:solidFill>
                  <a:srgbClr val="cc00ff"/>
                </a:solidFill>
                <a:latin typeface="Angsana New"/>
                <a:cs typeface="Angsana New"/>
              </a:rPr>
              <a:t>ศ</a:t>
            </a:r>
            <a:r>
              <a:rPr b="1" lang="en-US" sz="2800" spc="-1" strike="noStrike">
                <a:solidFill>
                  <a:srgbClr val="cc00ff"/>
                </a:solidFill>
                <a:latin typeface="Angsana New"/>
                <a:ea typeface="Angsana New"/>
              </a:rPr>
              <a:t>. 2549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395280" y="1268280"/>
          <a:ext cx="8282160" cy="5042160"/>
        </p:xfrm>
        <a:graphic>
          <a:graphicData uri="http://schemas.openxmlformats.org/drawingml/2006/table">
            <a:tbl>
              <a:tblPr/>
              <a:tblGrid>
                <a:gridCol w="2305080"/>
                <a:gridCol w="576360"/>
                <a:gridCol w="503280"/>
                <a:gridCol w="504720"/>
                <a:gridCol w="574560"/>
                <a:gridCol w="649440"/>
                <a:gridCol w="503280"/>
                <a:gridCol w="144144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เรื่องที่ต้องติดตา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ดั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วา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สำเร็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ยะเวลา ปีงบประมาณ 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ต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 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ม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..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7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ประชุมผู้นำชุมชน                  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ทุกเดือน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8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ีฬาชุมชนสัมพันธ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9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ติดตามประเมินผล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O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0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พัฒนาศักยภาพ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S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1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คาราวานแก้จ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2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หนึ่งฝน หนึ่งต้น เพื่อปวงชนชาวไท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3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องทุนออมทรัพย์หมู่บ้า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4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อบรมค่ายเยาวช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ก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ข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,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ทุกกลุ่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 flipH="1" flipV="1">
            <a:off x="2699640" y="263700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2" name=""/>
          <p:cNvSpPr/>
          <p:nvPr/>
        </p:nvSpPr>
        <p:spPr>
          <a:xfrm>
            <a:off x="2771640" y="249228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3" name=""/>
          <p:cNvSpPr/>
          <p:nvPr/>
        </p:nvSpPr>
        <p:spPr>
          <a:xfrm>
            <a:off x="2771640" y="31417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4" name=""/>
          <p:cNvSpPr/>
          <p:nvPr/>
        </p:nvSpPr>
        <p:spPr>
          <a:xfrm>
            <a:off x="2771640" y="350028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5" name=""/>
          <p:cNvSpPr/>
          <p:nvPr/>
        </p:nvSpPr>
        <p:spPr>
          <a:xfrm>
            <a:off x="2771640" y="386064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6" name=""/>
          <p:cNvSpPr/>
          <p:nvPr/>
        </p:nvSpPr>
        <p:spPr>
          <a:xfrm>
            <a:off x="2771640" y="450864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7" name=""/>
          <p:cNvSpPr/>
          <p:nvPr/>
        </p:nvSpPr>
        <p:spPr>
          <a:xfrm>
            <a:off x="2771640" y="494172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8" name=""/>
          <p:cNvSpPr/>
          <p:nvPr/>
        </p:nvSpPr>
        <p:spPr>
          <a:xfrm>
            <a:off x="2771640" y="55897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9" name=""/>
          <p:cNvSpPr/>
          <p:nvPr/>
        </p:nvSpPr>
        <p:spPr>
          <a:xfrm>
            <a:off x="2771640" y="602136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755-8EDC-4637-9C0D-382DE0959EE8}" type="slidenum">
              <a:t>103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971640" y="1700280"/>
            <a:ext cx="76327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นางคณิตา  ราษฎร์นุ้ย   เจ้าพนักงานปกครอง </a:t>
            </a:r>
            <a:r>
              <a:rPr b="1" lang="th-TH" sz="3500" spc="-1" strike="noStrike">
                <a:solidFill>
                  <a:srgbClr val="66ffff"/>
                </a:solidFill>
                <a:latin typeface="Angsana New"/>
                <a:ea typeface="Angsana New"/>
              </a:rPr>
              <a:t>7</a:t>
            </a:r>
            <a:r>
              <a:rPr b="1" lang="th-TH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ว                                 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ำนักพัฒนาและส่งเสริมการบริหารงานท้องถิ่น                       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ea typeface="Angsana New"/>
              </a:rPr>
              <a:t>(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นโยบายและแผน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ea typeface="Angsana New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ff99"/>
                </a:solidFill>
                <a:latin typeface="Angsana New"/>
                <a:cs typeface="Angsana New"/>
              </a:rPr>
              <a:t>ส่วนติดตามและประเมินผล                                                                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ea typeface="Angsana New"/>
              </a:rPr>
              <a:t>0-2241-9000 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cs typeface="Angsana New"/>
              </a:rPr>
              <a:t>ต่อ 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ea typeface="Angsana New"/>
              </a:rPr>
              <a:t>2102-4                          </a:t>
            </a:r>
            <a:r>
              <a:rPr b="0" lang="en-US" sz="3500" spc="-1" strike="noStrike" u="sng">
                <a:solidFill>
                  <a:srgbClr val="ccccff"/>
                </a:solidFill>
                <a:uFillTx/>
                <a:latin typeface="Angsana New"/>
                <a:ea typeface="Angsana New"/>
                <a:hlinkClick r:id="rId1"/>
              </a:rPr>
              <a:t>meu@thailocaladmin.go.th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ea typeface="Angsana New"/>
              </a:rPr>
              <a:t>  ,  </a:t>
            </a:r>
            <a:r>
              <a:rPr b="1" lang="en-US" sz="3500" spc="-1" strike="noStrike">
                <a:solidFill>
                  <a:srgbClr val="ccccff"/>
                </a:solidFill>
                <a:latin typeface="Angsana New"/>
                <a:ea typeface="Angsana New"/>
              </a:rPr>
              <a:t>Kanita_bam@yahoo.com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1" name=""/>
          <p:cNvSpPr/>
          <p:nvPr/>
        </p:nvSpPr>
        <p:spPr>
          <a:xfrm>
            <a:off x="755640" y="404640"/>
            <a:ext cx="7991640" cy="2226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fccff"/>
                </a:solidFill>
                <a:latin typeface="Angsana New"/>
              </a:rPr>
              <a:t>กรม</a:t>
            </a:r>
            <a:r>
              <a:rPr b="1" lang="hi-IN" sz="7000" spc="-1" strike="noStrike">
                <a:solidFill>
                  <a:srgbClr val="ffccff"/>
                </a:solidFill>
                <a:latin typeface="Angsana New"/>
                <a:cs typeface="Angsana New"/>
              </a:rPr>
              <a:t>ส่งเสริมการปกครองท้องถิ่น</a:t>
            </a:r>
            <a:endParaRPr b="0" lang="en-US" sz="7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8317080" y="5300640"/>
            <a:ext cx="572760" cy="11430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539640" y="494172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4"/>
          <a:stretch/>
        </p:blipFill>
        <p:spPr>
          <a:xfrm>
            <a:off x="1692360" y="522936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5"/>
          <a:stretch/>
        </p:blipFill>
        <p:spPr>
          <a:xfrm>
            <a:off x="5940360" y="522936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6"/>
          <a:stretch/>
        </p:blipFill>
        <p:spPr>
          <a:xfrm>
            <a:off x="3276720" y="530064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7"/>
          <a:stretch/>
        </p:blipFill>
        <p:spPr>
          <a:xfrm>
            <a:off x="6659640" y="544500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8"/>
          <a:stretch/>
        </p:blipFill>
        <p:spPr>
          <a:xfrm>
            <a:off x="5292720" y="501336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9"/>
          <a:stretch/>
        </p:blipFill>
        <p:spPr>
          <a:xfrm>
            <a:off x="3708360" y="508464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0"/>
          <a:stretch/>
        </p:blipFill>
        <p:spPr>
          <a:xfrm>
            <a:off x="2195640" y="5084640"/>
            <a:ext cx="1447560" cy="154476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11"/>
          <a:stretch/>
        </p:blipFill>
        <p:spPr>
          <a:xfrm>
            <a:off x="4211640" y="501336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12"/>
          <a:stretch/>
        </p:blipFill>
        <p:spPr>
          <a:xfrm>
            <a:off x="7093080" y="5084640"/>
            <a:ext cx="1447560" cy="154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C6E-E03D-45C3-A983-1E1CB69B680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ตาราง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SWOT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ประเด็น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99072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429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" name=""/>
          <p:cNvSpPr/>
          <p:nvPr/>
        </p:nvSpPr>
        <p:spPr>
          <a:xfrm>
            <a:off x="947880" y="99000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แข็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"/>
          <p:cNvSpPr/>
          <p:nvPr/>
        </p:nvSpPr>
        <p:spPr>
          <a:xfrm>
            <a:off x="4601520" y="106596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อ่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1095120" y="365688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อกาส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4591080" y="3656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ุปสรรค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024040" y="1066680"/>
            <a:ext cx="581400" cy="4724640"/>
            <a:chOff x="8024040" y="1066680"/>
            <a:chExt cx="581400" cy="4724640"/>
          </a:xfrm>
        </p:grpSpPr>
        <p:sp>
          <p:nvSpPr>
            <p:cNvPr id="92" name=""/>
            <p:cNvSpPr/>
            <p:nvPr/>
          </p:nvSpPr>
          <p:spPr>
            <a:xfrm rot="5400000">
              <a:off x="7133400" y="195696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ใน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7133400" y="431928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นอก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65E-D57D-4583-9F0C-33033AD8B3B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55640" y="2278080"/>
            <a:ext cx="75898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3300"/>
                </a:solidFill>
                <a:latin typeface="Browallia New"/>
              </a:rPr>
              <a:t>ตัวอย่างการทำ </a:t>
            </a:r>
            <a:r>
              <a:rPr b="1" lang="en-US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3300"/>
                </a:solidFill>
                <a:latin typeface="Browallia New"/>
              </a:rPr>
              <a:t>SWOT </a:t>
            </a: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3300"/>
                </a:solidFill>
                <a:latin typeface="Browallia New"/>
              </a:rPr>
              <a:t>กับการวางแผนพัฒนาท้องถิ่น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3300"/>
              </a:solidFill>
              <a:latin typeface="Browallia New"/>
              <a:ea typeface="Browalli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3300"/>
              </a:solidFill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6FE-EA10-4D7C-909B-94EC44AEA6AA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90080"/>
            <a:ext cx="80629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ตาราง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SWOT </a:t>
            </a:r>
            <a:br>
              <a:rPr sz="2400"/>
            </a:br>
            <a:r>
              <a:rPr b="1" lang="en-US" sz="3000" spc="-1" strike="noStrike">
                <a:solidFill>
                  <a:srgbClr val="000000"/>
                </a:solidFill>
                <a:latin typeface="Angsana New"/>
              </a:rPr>
              <a:t>ประเด็น</a:t>
            </a:r>
            <a:r>
              <a:rPr b="1" lang="en-US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 การติดตามประเมินผลการวางแผนพัฒนาท้องถิ่น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9072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429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947880" y="99000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แข็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4601520" y="106596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อ่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1095120" y="365688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อกาส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4591080" y="3656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ุปสรรค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024040" y="1066680"/>
            <a:ext cx="581400" cy="4724640"/>
            <a:chOff x="8024040" y="1066680"/>
            <a:chExt cx="581400" cy="4724640"/>
          </a:xfrm>
        </p:grpSpPr>
        <p:sp>
          <p:nvSpPr>
            <p:cNvPr id="103" name=""/>
            <p:cNvSpPr/>
            <p:nvPr/>
          </p:nvSpPr>
          <p:spPr>
            <a:xfrm rot="5400000">
              <a:off x="7133400" y="195696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ใน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7133400" y="431928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นอก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16000" y="1557360"/>
            <a:ext cx="3240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น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ข้าใจบทบาท หน้าที่ของตนเองในการวางแผนพัฒนาท้องถิ่นดี มีความตั้งใจทำงานมา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ทำงานใน อป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ลักษณะเป็นทีมเวิร์ค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บริหารให้ความสำคัญกับการติดตามประเมินผลมา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1700280"/>
            <a:ext cx="324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 จน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การพัฒนาท้องถิ่นจำนวนน้อ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น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ังไม่มีความรู้ด้านการติดตามและประเมินผลนั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าดงบประมาณสนับสนุนการติดตามประเมินผลโดยวิธีวิจั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4149720"/>
            <a:ext cx="32400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การอบรมการวางแผน การติดตามประเมินผลการดำเนินงา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คู่มือติดตามและประเมินผลแบบง่าย ไม่ต้องใช้งบประมาณมากนั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การสร้างเครือข่ายการติดตามและประเมินผลท้องถิ่น เพื่อช่วยเหลือซึ่งกันและกันในด้านต่าง ๆ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4292640"/>
            <a:ext cx="324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hi-IN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ประสานงานระหว่างหน่วยงานไม่ค่อยราบรื่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hi-IN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าดการสนับสนุนงบประมาณจากหน่วยงานอื่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FDC-E9DB-4250-84DE-52C765F7EEC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80880" y="360360"/>
          <a:ext cx="8001000" cy="6138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60360"/>
                    <a:ext cx="800100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7D4-AB65-40F0-94C4-B50CD4D614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ngsana New"/>
              </a:rPr>
              <a:t>แผน</a:t>
            </a:r>
            <a:r>
              <a:rPr b="1" lang="hi-IN" sz="66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ลยุทธ์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ความหมาย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อง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กำหนดแนวทางหรือวิธีการ “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ต่อสู้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” เพื่อ “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เอาชนะ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” อย่าง “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เบ็ดเสร็จเด็ดขาด ยั่งยืน และเป็นระบบ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โดยเน้นทั้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</a:rPr>
              <a:t>เชิงรุกและเชิงรับ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หลักคิด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รู้อดีต คิดในโลกปัจจุบัน  มุ่งมั่นเพื่อความยั่งยืนในอนาคต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พัฒนาควบคู่กับการสร้างภูมิคุ้มกั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15F-0F5F-4843-8AE1-BF5C2235792E}" type="slidenum">
              <a:t>15</a:t>
            </a:fld>
          </a:p>
        </p:txBody>
      </p:sp>
    </p:spTree>
  </p:cSld>
  <p:transition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คำถามเชิง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ลยุทธ์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การวางแผนพัฒนา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ติดตามประเมินผล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เราเคยเป็นอย่างไ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เราอยู่ตรงไห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อยากเป็นอย่างไ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เราจะทำอย่างไรจึงจะไปสู่สิ่งที่อยากจะเป็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จะแน่ใจได้อย่างไรว่าสิ่งที่เราทำจะนำเราไปสู่สิ่งที่เราอยากจะเป็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น่ใจอย่างไรว่าเราได้เป็นสิ่งทีเราอยากจะเป็นแล้ว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DCE-3448-47C3-B63E-821FC21BD6BD}" type="slidenum">
              <a:t>16</a:t>
            </a:fld>
          </a:p>
        </p:txBody>
      </p:sp>
    </p:spTree>
  </p:cSld>
  <p:transition>
    <p:cover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ส่วนประกอบของแผนยุทธศาสตร์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              </a:t>
            </a: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พัฒนา</a:t>
            </a:r>
            <a:r>
              <a:rPr b="0" lang="hi-IN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้องถิ่น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0" lang="hi-IN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ุมช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นำ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2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สภาพทั่วไปและข้อมูลพื้นฐานสำคัญของท้องถิ่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ารวิเคราะห์ศักยภาพการพัฒนาท้องถิ่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4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วิสัยทัศน์ ภารกิจ วัตถุประสงค์ เป้าหมายการพัฒนา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และตัวชี้วั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ยุทธศาสตร์การพัฒนาท้องถิ่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876"/>
              </a:spcBef>
              <a:buClr>
                <a:srgbClr val="ff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0066"/>
                </a:solidFill>
                <a:latin typeface="Angsana New"/>
              </a:rPr>
              <a:t>บทที่ </a:t>
            </a:r>
            <a:r>
              <a:rPr b="1" lang="en-US" sz="3500" spc="-1" strike="noStrike">
                <a:solidFill>
                  <a:srgbClr val="ff0066"/>
                </a:solidFill>
                <a:latin typeface="Angsana New"/>
              </a:rPr>
              <a:t>6 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</a:rPr>
              <a:t>การนำแผนยุทธศาสตร์ไปสู่การปฏิบัติ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                 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</a:rPr>
              <a:t> และการติดตามประเมินผล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17C-4ABA-48D6-BA95-675B32C5BD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ngsana New"/>
              </a:rPr>
              <a:t>การสรุปข้อมูลพื้นฐาน </a:t>
            </a:r>
            <a:r>
              <a:rPr b="1" lang="en-US" sz="4400" spc="-1" strike="noStrike">
                <a:solidFill>
                  <a:srgbClr val="ff0066"/>
                </a:solidFill>
                <a:latin typeface="Angsana New"/>
              </a:rPr>
              <a:t>(Base line Data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99"/>
                </a:solidFill>
                <a:latin typeface="Angsana New"/>
              </a:rPr>
              <a:t>บอกว่ามีอะไร จำนวน เท่าใ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-29484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99"/>
                </a:solidFill>
                <a:latin typeface="Angsana New"/>
              </a:rPr>
              <a:t>ขาด เกิน จากจำนวนที่ควรจะมีเท่าใ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-29484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99"/>
                </a:solidFill>
                <a:latin typeface="Angsana New"/>
              </a:rPr>
              <a:t>จะต้องสร้าง ซ่อม เพิ่ม ลดลง คงที่ ไว้ในระดับใ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83B-DE19-4D3A-AC4E-AA896919436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130640" y="2724120"/>
            <a:ext cx="898560" cy="925920"/>
            <a:chOff x="4130640" y="2724120"/>
            <a:chExt cx="898560" cy="925920"/>
          </a:xfrm>
        </p:grpSpPr>
        <p:sp>
          <p:nvSpPr>
            <p:cNvPr id="120" name=""/>
            <p:cNvSpPr/>
            <p:nvPr/>
          </p:nvSpPr>
          <p:spPr>
            <a:xfrm>
              <a:off x="4487760" y="2724120"/>
              <a:ext cx="160560" cy="198360"/>
            </a:xfrm>
            <a:prstGeom prst="downArrow">
              <a:avLst>
                <a:gd name="adj1" fmla="val 50000"/>
                <a:gd name="adj2" fmla="val 308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30640" y="2946240"/>
              <a:ext cx="8985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SWO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037120" y="2374920"/>
            <a:ext cx="4433760" cy="1435680"/>
            <a:chOff x="5037120" y="2374920"/>
            <a:chExt cx="4433760" cy="1435680"/>
          </a:xfrm>
        </p:grpSpPr>
        <p:sp>
          <p:nvSpPr>
            <p:cNvPr id="123" name=""/>
            <p:cNvSpPr/>
            <p:nvPr/>
          </p:nvSpPr>
          <p:spPr>
            <a:xfrm>
              <a:off x="5037120" y="31240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001200" y="2374920"/>
              <a:ext cx="3469680" cy="1435680"/>
              <a:chOff x="6001200" y="2374920"/>
              <a:chExt cx="3469680" cy="1435680"/>
            </a:xfrm>
          </p:grpSpPr>
          <p:sp>
            <p:nvSpPr>
              <p:cNvPr id="125" name=""/>
              <p:cNvSpPr/>
              <p:nvPr/>
            </p:nvSpPr>
            <p:spPr>
              <a:xfrm>
                <a:off x="6256440" y="25146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6440" y="2514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56440" y="28954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56440" y="32767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56440" y="3657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6640" y="2374920"/>
                <a:ext cx="288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จุดแข็ง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</a:t>
                </a: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       โครงการส่งเสริม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75440" y="253368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34400" y="2711520"/>
                <a:ext cx="257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จุดอ่อน           โครงการรักษ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4520" y="289548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42960" y="3137040"/>
                <a:ext cx="311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โอกาส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</a:t>
                </a: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       โครงการริเริ่ม พัฒน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91280" y="329580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01200" y="3473280"/>
                <a:ext cx="3469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อุปสรรค           โครงการป้องกันบรรเท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0720" y="364320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2606760" y="3200400"/>
            <a:ext cx="1719000" cy="1371600"/>
            <a:chOff x="2606760" y="3200400"/>
            <a:chExt cx="1719000" cy="1371600"/>
          </a:xfrm>
        </p:grpSpPr>
        <p:sp>
          <p:nvSpPr>
            <p:cNvPr id="139" name=""/>
            <p:cNvSpPr/>
            <p:nvPr/>
          </p:nvSpPr>
          <p:spPr>
            <a:xfrm flipH="1" rot="3600000">
              <a:off x="3931920" y="3314160"/>
              <a:ext cx="305280" cy="380880"/>
            </a:xfrm>
            <a:prstGeom prst="downArrow">
              <a:avLst>
                <a:gd name="adj1" fmla="val 50000"/>
                <a:gd name="adj2" fmla="val 3119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8480" y="3200400"/>
              <a:ext cx="110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ทำไม่ได้เอ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06760" y="3524400"/>
              <a:ext cx="12794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ประสาน</a:t>
              </a:r>
              <a:br>
                <a:rPr sz="1600"/>
              </a:b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หน่วยสูงขึ้นไป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 rot="16200000">
              <a:off x="3542400" y="4152600"/>
              <a:ext cx="457200" cy="381240"/>
            </a:xfrm>
            <a:custGeom>
              <a:avLst/>
              <a:gdLst>
                <a:gd name="textAreaLeft" fmla="*/ 152640 w 457200"/>
                <a:gd name="textAreaRight" fmla="*/ 392040 w 457200"/>
                <a:gd name="textAreaTop" fmla="*/ 219600 h 381240"/>
                <a:gd name="textAreaBottom" fmla="*/ 3265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120600"/>
            <a:ext cx="4777920" cy="644400"/>
            <a:chOff x="2286000" y="120600"/>
            <a:chExt cx="4777920" cy="644400"/>
          </a:xfrm>
        </p:grpSpPr>
        <p:grpSp>
          <p:nvGrpSpPr>
            <p:cNvPr id="144" name=""/>
            <p:cNvGrpSpPr/>
            <p:nvPr/>
          </p:nvGrpSpPr>
          <p:grpSpPr>
            <a:xfrm>
              <a:off x="3178440" y="123840"/>
              <a:ext cx="1146960" cy="350280"/>
              <a:chOff x="3178440" y="123840"/>
              <a:chExt cx="1146960" cy="350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352680" y="123840"/>
                <a:ext cx="9144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78440" y="136800"/>
                <a:ext cx="114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ngsana New"/>
                    <a:ea typeface="Angsana New"/>
                  </a:rPr>
                  <a:t>    </a:t>
                </a: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ศักยภาพ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2286000" y="120600"/>
              <a:ext cx="762120" cy="337320"/>
              <a:chOff x="2286000" y="120600"/>
              <a:chExt cx="762120" cy="337320"/>
            </a:xfrm>
          </p:grpSpPr>
          <p:sp>
            <p:nvSpPr>
              <p:cNvPr id="148" name=""/>
              <p:cNvSpPr/>
              <p:nvPr/>
            </p:nvSpPr>
            <p:spPr>
              <a:xfrm>
                <a:off x="2286000" y="164880"/>
                <a:ext cx="76212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31360" y="120600"/>
                <a:ext cx="71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ปัญห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6160" y="152280"/>
              <a:ext cx="2597760" cy="612720"/>
              <a:chOff x="4466160" y="152280"/>
              <a:chExt cx="2597760" cy="612720"/>
            </a:xfrm>
          </p:grpSpPr>
          <p:sp>
            <p:nvSpPr>
              <p:cNvPr id="151" name=""/>
              <p:cNvSpPr/>
              <p:nvPr/>
            </p:nvSpPr>
            <p:spPr>
              <a:xfrm>
                <a:off x="4800600" y="152280"/>
                <a:ext cx="198108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6160" y="184320"/>
                <a:ext cx="259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นโยบายของรัฐ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ยุทธศาสตร์การพัฒนาจังหวัด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3472560" y="2209680"/>
            <a:ext cx="2266920" cy="534240"/>
            <a:chOff x="3472560" y="2209680"/>
            <a:chExt cx="2266920" cy="534240"/>
          </a:xfrm>
        </p:grpSpPr>
        <p:grpSp>
          <p:nvGrpSpPr>
            <p:cNvPr id="154" name=""/>
            <p:cNvGrpSpPr/>
            <p:nvPr/>
          </p:nvGrpSpPr>
          <p:grpSpPr>
            <a:xfrm>
              <a:off x="3472560" y="2406600"/>
              <a:ext cx="2266920" cy="337320"/>
              <a:chOff x="3472560" y="2406600"/>
              <a:chExt cx="2266920" cy="337320"/>
            </a:xfrm>
          </p:grpSpPr>
          <p:sp>
            <p:nvSpPr>
              <p:cNvPr id="155" name=""/>
              <p:cNvSpPr/>
              <p:nvPr/>
            </p:nvSpPr>
            <p:spPr>
              <a:xfrm>
                <a:off x="3665520" y="2438280"/>
                <a:ext cx="304920" cy="2588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70440" y="2438280"/>
                <a:ext cx="304560" cy="258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75000" y="2438280"/>
                <a:ext cx="304920" cy="2588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9920" y="2438280"/>
                <a:ext cx="304920" cy="258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84840" y="2438280"/>
                <a:ext cx="304560" cy="2588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89400" y="2438280"/>
                <a:ext cx="304920" cy="258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72560" y="2406600"/>
                <a:ext cx="226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ประเด็นหลักในการพัฒน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491000" y="2209680"/>
              <a:ext cx="160200" cy="198720"/>
            </a:xfrm>
            <a:prstGeom prst="downArrow">
              <a:avLst>
                <a:gd name="adj1" fmla="val 50000"/>
                <a:gd name="adj2" fmla="val 310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193120" y="425520"/>
            <a:ext cx="1123920" cy="977760"/>
            <a:chOff x="2193120" y="425520"/>
            <a:chExt cx="1123920" cy="977760"/>
          </a:xfrm>
        </p:grpSpPr>
        <p:grpSp>
          <p:nvGrpSpPr>
            <p:cNvPr id="164" name=""/>
            <p:cNvGrpSpPr/>
            <p:nvPr/>
          </p:nvGrpSpPr>
          <p:grpSpPr>
            <a:xfrm>
              <a:off x="2209680" y="425520"/>
              <a:ext cx="1067040" cy="977760"/>
              <a:chOff x="2209680" y="425520"/>
              <a:chExt cx="1067040" cy="977760"/>
            </a:xfrm>
          </p:grpSpPr>
          <p:sp>
            <p:nvSpPr>
              <p:cNvPr id="165" name=""/>
              <p:cNvSpPr/>
              <p:nvPr/>
            </p:nvSpPr>
            <p:spPr>
              <a:xfrm>
                <a:off x="2209680" y="1066680"/>
                <a:ext cx="1067040" cy="336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2286000" y="554040"/>
                <a:ext cx="762120" cy="337320"/>
                <a:chOff x="2286000" y="554040"/>
                <a:chExt cx="762120" cy="3373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286000" y="628560"/>
                  <a:ext cx="762120" cy="228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25960" y="554040"/>
                  <a:ext cx="718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cc0000"/>
                      </a:solidFill>
                      <a:latin typeface="Angsana New"/>
                      <a:cs typeface="Angsana New"/>
                    </a:rPr>
                    <a:t>สาเหตุ</a:t>
                  </a:r>
                  <a:endParaRPr b="0" lang="en-US" sz="16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2651040" y="4255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51040" y="8701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193120" y="1030320"/>
              <a:ext cx="112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cc0000"/>
                  </a:solidFill>
                  <a:latin typeface="Angsana New"/>
                  <a:cs typeface="Angsana New"/>
                </a:rPr>
                <a:t>จุดคานงัด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36520" y="1784520"/>
            <a:ext cx="5797800" cy="380880"/>
            <a:chOff x="1136520" y="1784520"/>
            <a:chExt cx="5797800" cy="380880"/>
          </a:xfrm>
        </p:grpSpPr>
        <p:sp>
          <p:nvSpPr>
            <p:cNvPr id="173" name=""/>
            <p:cNvSpPr/>
            <p:nvPr/>
          </p:nvSpPr>
          <p:spPr>
            <a:xfrm>
              <a:off x="2209680" y="1784520"/>
              <a:ext cx="472464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36520" y="1784520"/>
              <a:ext cx="55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ngsana New"/>
                  <a:ea typeface="Angsana New"/>
                </a:rPr>
                <a:t>                                 </a:t>
              </a:r>
              <a:r>
                <a:rPr b="1" lang="hi-IN" sz="1800" spc="-1" strike="noStrike">
                  <a:solidFill>
                    <a:srgbClr val="cc0000"/>
                  </a:solidFill>
                  <a:latin typeface="Angsana New"/>
                  <a:cs typeface="Angsana New"/>
                </a:rPr>
                <a:t>ความต้องการการพัฒนาของท้องถิ่น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1600" y="304920"/>
            <a:ext cx="1139400" cy="2394720"/>
            <a:chOff x="291600" y="304920"/>
            <a:chExt cx="1139400" cy="2394720"/>
          </a:xfrm>
        </p:grpSpPr>
        <p:sp>
          <p:nvSpPr>
            <p:cNvPr id="176" name=""/>
            <p:cNvSpPr/>
            <p:nvPr/>
          </p:nvSpPr>
          <p:spPr>
            <a:xfrm>
              <a:off x="421560" y="236232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พรวม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1600" y="30492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รายละเอียด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120" y="609480"/>
              <a:ext cx="228600" cy="1828800"/>
            </a:xfrm>
            <a:prstGeom prst="upDownArrow">
              <a:avLst>
                <a:gd name="adj1" fmla="val 50000"/>
                <a:gd name="adj2" fmla="val 15925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91600" y="4038480"/>
            <a:ext cx="1139400" cy="2471040"/>
            <a:chOff x="291600" y="4038480"/>
            <a:chExt cx="1139400" cy="2471040"/>
          </a:xfrm>
        </p:grpSpPr>
        <p:sp>
          <p:nvSpPr>
            <p:cNvPr id="180" name=""/>
            <p:cNvSpPr/>
            <p:nvPr/>
          </p:nvSpPr>
          <p:spPr>
            <a:xfrm>
              <a:off x="291600" y="617220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รายละเอียด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4419720"/>
              <a:ext cx="228600" cy="1828800"/>
            </a:xfrm>
            <a:prstGeom prst="upDownArrow">
              <a:avLst>
                <a:gd name="adj1" fmla="val 50000"/>
                <a:gd name="adj2" fmla="val 15925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560" y="403848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พรวม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962520" y="3390840"/>
            <a:ext cx="2255040" cy="1333440"/>
            <a:chOff x="3962520" y="3390840"/>
            <a:chExt cx="2255040" cy="1333440"/>
          </a:xfrm>
        </p:grpSpPr>
        <p:grpSp>
          <p:nvGrpSpPr>
            <p:cNvPr id="184" name=""/>
            <p:cNvGrpSpPr/>
            <p:nvPr/>
          </p:nvGrpSpPr>
          <p:grpSpPr>
            <a:xfrm>
              <a:off x="4714920" y="3390840"/>
              <a:ext cx="973080" cy="381240"/>
              <a:chOff x="4714920" y="3390840"/>
              <a:chExt cx="973080" cy="381240"/>
            </a:xfrm>
          </p:grpSpPr>
          <p:sp>
            <p:nvSpPr>
              <p:cNvPr id="185" name=""/>
              <p:cNvSpPr/>
              <p:nvPr/>
            </p:nvSpPr>
            <p:spPr>
              <a:xfrm>
                <a:off x="4784760" y="3397320"/>
                <a:ext cx="90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ทำได้เอง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14920" y="3390840"/>
                <a:ext cx="304920" cy="381240"/>
              </a:xfrm>
              <a:prstGeom prst="downArrow">
                <a:avLst>
                  <a:gd name="adj1" fmla="val 50000"/>
                  <a:gd name="adj2" fmla="val 3125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288400" y="41911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ิสัยทัศน์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2520" y="3809880"/>
              <a:ext cx="1447560" cy="914400"/>
            </a:xfrm>
            <a:prstGeom prst="cloudCallout">
              <a:avLst>
                <a:gd name="adj1" fmla="val -27129"/>
                <a:gd name="adj2" fmla="val 4482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108320" y="3916440"/>
            <a:ext cx="11401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2209680" y="1403280"/>
            <a:ext cx="4724640" cy="387360"/>
            <a:chOff x="2209680" y="1403280"/>
            <a:chExt cx="4724640" cy="387360"/>
          </a:xfrm>
        </p:grpSpPr>
        <p:sp>
          <p:nvSpPr>
            <p:cNvPr id="191" name=""/>
            <p:cNvSpPr/>
            <p:nvPr/>
          </p:nvSpPr>
          <p:spPr>
            <a:xfrm>
              <a:off x="2209680" y="1403280"/>
              <a:ext cx="47246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37640" y="1422360"/>
              <a:ext cx="24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cc0000"/>
                  </a:solidFill>
                  <a:latin typeface="Angsana New"/>
                  <a:cs typeface="Angsana New"/>
                </a:rPr>
                <a:t>ข้อมูลพื้นฐานการพัฒนา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37120" y="441360"/>
            <a:ext cx="1379880" cy="961920"/>
            <a:chOff x="3237120" y="441360"/>
            <a:chExt cx="1379880" cy="961920"/>
          </a:xfrm>
        </p:grpSpPr>
        <p:grpSp>
          <p:nvGrpSpPr>
            <p:cNvPr id="194" name=""/>
            <p:cNvGrpSpPr/>
            <p:nvPr/>
          </p:nvGrpSpPr>
          <p:grpSpPr>
            <a:xfrm>
              <a:off x="3313080" y="609480"/>
              <a:ext cx="1303920" cy="339120"/>
              <a:chOff x="3313080" y="609480"/>
              <a:chExt cx="1303920" cy="339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352680" y="609480"/>
                <a:ext cx="9144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13080" y="611280"/>
                <a:ext cx="130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ความคิดริเริ่ม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809880" y="44136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9880" y="923760"/>
              <a:ext cx="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237120" y="1022400"/>
              <a:ext cx="1290240" cy="380880"/>
              <a:chOff x="3237120" y="1022400"/>
              <a:chExt cx="1290240" cy="380880"/>
            </a:xfrm>
          </p:grpSpPr>
          <p:sp>
            <p:nvSpPr>
              <p:cNvPr id="200" name=""/>
              <p:cNvSpPr/>
              <p:nvPr/>
            </p:nvSpPr>
            <p:spPr>
              <a:xfrm>
                <a:off x="3276720" y="1066680"/>
                <a:ext cx="1143000" cy="3366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37120" y="1022400"/>
                <a:ext cx="129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ความจำเป็น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2400480" y="4724280"/>
            <a:ext cx="5939280" cy="1904760"/>
            <a:chOff x="2400480" y="4724280"/>
            <a:chExt cx="5939280" cy="1904760"/>
          </a:xfrm>
        </p:grpSpPr>
        <p:sp>
          <p:nvSpPr>
            <p:cNvPr id="203" name=""/>
            <p:cNvSpPr/>
            <p:nvPr/>
          </p:nvSpPr>
          <p:spPr>
            <a:xfrm>
              <a:off x="6705720" y="6400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9080" y="6216480"/>
              <a:ext cx="14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โครงการพัฒนา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400480" y="4724280"/>
              <a:ext cx="4343400" cy="1904760"/>
              <a:chOff x="2400480" y="4724280"/>
              <a:chExt cx="4343400" cy="1904760"/>
            </a:xfrm>
          </p:grpSpPr>
          <p:sp>
            <p:nvSpPr>
              <p:cNvPr id="206" name=""/>
              <p:cNvSpPr/>
              <p:nvPr/>
            </p:nvSpPr>
            <p:spPr>
              <a:xfrm>
                <a:off x="2400480" y="4735080"/>
                <a:ext cx="4343400" cy="1893960"/>
              </a:xfrm>
              <a:prstGeom prst="flowChartExtra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2000" y="629820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326016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85264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3667320" y="6298200"/>
                <a:ext cx="226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074120" y="6298200"/>
                <a:ext cx="135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4344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2452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560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86320" y="6298200"/>
                <a:ext cx="135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6740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4848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1992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303336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344088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384804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07720" y="6298200"/>
                <a:ext cx="450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3380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1488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95960" y="6298200"/>
                <a:ext cx="135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7704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5812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84200" y="6298200"/>
                <a:ext cx="226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0100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580840" y="6298200"/>
                <a:ext cx="36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716560" y="6298200"/>
                <a:ext cx="36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0480" y="6298200"/>
                <a:ext cx="36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30020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94300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312408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335052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53160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762280" y="4724280"/>
                <a:ext cx="3619440" cy="1580400"/>
                <a:chOff x="2762280" y="4724280"/>
                <a:chExt cx="3619440" cy="158040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2762280" y="4724280"/>
                  <a:ext cx="3619440" cy="1580400"/>
                  <a:chOff x="2762280" y="4724280"/>
                  <a:chExt cx="3619440" cy="158040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762280" y="4730760"/>
                    <a:ext cx="3619440" cy="1573920"/>
                    <a:chOff x="2762280" y="4730760"/>
                    <a:chExt cx="3619440" cy="15739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2762280" y="4730760"/>
                      <a:ext cx="3619440" cy="1573920"/>
                    </a:xfrm>
                    <a:prstGeom prst="flowChartExtract">
                      <a:avLst/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572000" y="5924520"/>
                      <a:ext cx="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>
                      <a:off x="3531240" y="5924520"/>
                      <a:ext cx="27144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H="1">
                      <a:off x="3169080" y="5924520"/>
                      <a:ext cx="31644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>
                      <a:off x="3893400" y="5924520"/>
                      <a:ext cx="22608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4933800" y="5924520"/>
                      <a:ext cx="9036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205240" y="5924520"/>
                      <a:ext cx="18072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522040" y="5924520"/>
                      <a:ext cx="22608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3192120" y="4724280"/>
                    <a:ext cx="2759760" cy="1200240"/>
                    <a:chOff x="3192120" y="4724280"/>
                    <a:chExt cx="2759760" cy="1200240"/>
                  </a:xfrm>
                </p:grpSpPr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3192120" y="4724280"/>
                      <a:ext cx="2759760" cy="1200240"/>
                      <a:chOff x="3192120" y="4724280"/>
                      <a:chExt cx="2759760" cy="120024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3192120" y="4724280"/>
                        <a:ext cx="2759760" cy="1200240"/>
                      </a:xfrm>
                      <a:prstGeom prst="flowChartExtract">
                        <a:avLst/>
                      </a:prstGeom>
                      <a:solidFill>
                        <a:srgbClr val="99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flipH="1">
                        <a:off x="3802680" y="5604480"/>
                        <a:ext cx="22608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flipH="1">
                        <a:off x="3485880" y="5604480"/>
                        <a:ext cx="27144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flipH="1">
                        <a:off x="4119480" y="5604480"/>
                        <a:ext cx="18072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4572000" y="5604480"/>
                        <a:ext cx="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843440" y="5604480"/>
                        <a:ext cx="9036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69520" y="5604480"/>
                        <a:ext cx="13572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5340960" y="5604480"/>
                        <a:ext cx="18072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</p:grpSp>
                <p:grpSp>
                  <p:nvGrpSpPr>
                    <p:cNvPr id="259" name=""/>
                    <p:cNvGrpSpPr/>
                    <p:nvPr/>
                  </p:nvGrpSpPr>
                  <p:grpSpPr>
                    <a:xfrm>
                      <a:off x="3553920" y="4724280"/>
                      <a:ext cx="2024280" cy="880200"/>
                      <a:chOff x="3553920" y="4724280"/>
                      <a:chExt cx="2024280" cy="880200"/>
                    </a:xfrm>
                  </p:grpSpPr>
                  <p:grpSp>
                    <p:nvGrpSpPr>
                      <p:cNvPr id="260" name=""/>
                      <p:cNvGrpSpPr/>
                      <p:nvPr/>
                    </p:nvGrpSpPr>
                    <p:grpSpPr>
                      <a:xfrm>
                        <a:off x="3553920" y="4724280"/>
                        <a:ext cx="2024280" cy="880200"/>
                        <a:chOff x="3553920" y="4724280"/>
                        <a:chExt cx="2024280" cy="880200"/>
                      </a:xfrm>
                    </p:grpSpPr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3553920" y="4724280"/>
                          <a:ext cx="2024280" cy="880200"/>
                        </a:xfrm>
                        <a:prstGeom prst="flowChartExtract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H="1">
                          <a:off x="4021200" y="5337720"/>
                          <a:ext cx="180720" cy="26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4564080" y="5337720"/>
                          <a:ext cx="0" cy="26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>
                          <a:off x="4925880" y="5337720"/>
                          <a:ext cx="135360" cy="26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</p:grpSp>
                  <p:grpSp>
                    <p:nvGrpSpPr>
                      <p:cNvPr id="265" name=""/>
                      <p:cNvGrpSpPr/>
                      <p:nvPr/>
                    </p:nvGrpSpPr>
                    <p:grpSpPr>
                      <a:xfrm>
                        <a:off x="3862800" y="4724280"/>
                        <a:ext cx="1402200" cy="613440"/>
                        <a:chOff x="3862800" y="4724280"/>
                        <a:chExt cx="1402200" cy="613440"/>
                      </a:xfrm>
                    </p:grpSpPr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3862800" y="4724280"/>
                          <a:ext cx="1402200" cy="613440"/>
                        </a:xfrm>
                        <a:prstGeom prst="flowChartExtract">
                          <a:avLst/>
                        </a:prstGeom>
                        <a:solidFill>
                          <a:srgbClr val="ff99cc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4563720" y="4724280"/>
                          <a:ext cx="0" cy="613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268" name=""/>
                <p:cNvSpPr/>
                <p:nvPr/>
              </p:nvSpPr>
              <p:spPr>
                <a:xfrm flipH="1">
                  <a:off x="4209840" y="5924520"/>
                  <a:ext cx="13572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753080" y="5924520"/>
                  <a:ext cx="9036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069520" y="5924520"/>
                  <a:ext cx="13572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40960" y="5924520"/>
                  <a:ext cx="22608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703120" y="5924520"/>
                  <a:ext cx="31644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712320" y="5924520"/>
                  <a:ext cx="27144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349800" y="5924520"/>
                  <a:ext cx="31644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2942640" y="5924520"/>
                  <a:ext cx="40716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4071960" y="779400"/>
            <a:ext cx="3521160" cy="623880"/>
            <a:chOff x="4071960" y="779400"/>
            <a:chExt cx="3521160" cy="623880"/>
          </a:xfrm>
        </p:grpSpPr>
        <p:sp>
          <p:nvSpPr>
            <p:cNvPr id="277" name=""/>
            <p:cNvSpPr/>
            <p:nvPr/>
          </p:nvSpPr>
          <p:spPr>
            <a:xfrm>
              <a:off x="5791320" y="7794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071960" y="1022400"/>
              <a:ext cx="3521160" cy="380880"/>
              <a:chOff x="4071960" y="1022400"/>
              <a:chExt cx="3521160" cy="380880"/>
            </a:xfrm>
          </p:grpSpPr>
          <p:sp>
            <p:nvSpPr>
              <p:cNvPr id="279" name=""/>
              <p:cNvSpPr/>
              <p:nvPr/>
            </p:nvSpPr>
            <p:spPr>
              <a:xfrm>
                <a:off x="4419720" y="1066680"/>
                <a:ext cx="2514600" cy="336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71960" y="1022400"/>
                <a:ext cx="352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b2b2b2"/>
                    </a:solidFill>
                    <a:latin typeface="Angsana New"/>
                    <a:cs typeface="Angsana New"/>
                  </a:rPr>
                  <a:t>ความเชื่อมโยงกับสภาวะของท้องถิ่น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3870360" y="4724280"/>
            <a:ext cx="3117240" cy="612720"/>
            <a:chOff x="3870360" y="4724280"/>
            <a:chExt cx="3117240" cy="612720"/>
          </a:xfrm>
        </p:grpSpPr>
        <p:sp>
          <p:nvSpPr>
            <p:cNvPr id="282" name=""/>
            <p:cNvSpPr/>
            <p:nvPr/>
          </p:nvSpPr>
          <p:spPr>
            <a:xfrm>
              <a:off x="5029200" y="49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5240" y="476892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จุดมุ่งหมาย 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/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ันธกิจ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870360" y="4724280"/>
              <a:ext cx="1403280" cy="612720"/>
              <a:chOff x="3870360" y="4724280"/>
              <a:chExt cx="1403280" cy="612720"/>
            </a:xfrm>
          </p:grpSpPr>
          <p:sp>
            <p:nvSpPr>
              <p:cNvPr id="285" name=""/>
              <p:cNvSpPr/>
              <p:nvPr/>
            </p:nvSpPr>
            <p:spPr>
              <a:xfrm>
                <a:off x="3870360" y="4724280"/>
                <a:ext cx="1403280" cy="612720"/>
              </a:xfrm>
              <a:prstGeom prst="flowChartExtra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72000" y="4724280"/>
                <a:ext cx="0" cy="61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3562200" y="4724280"/>
            <a:ext cx="4890600" cy="879480"/>
            <a:chOff x="3562200" y="4724280"/>
            <a:chExt cx="4890600" cy="879480"/>
          </a:xfrm>
        </p:grpSpPr>
        <p:sp>
          <p:nvSpPr>
            <p:cNvPr id="288" name=""/>
            <p:cNvSpPr/>
            <p:nvPr/>
          </p:nvSpPr>
          <p:spPr>
            <a:xfrm>
              <a:off x="5560920" y="5378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04760" y="5194440"/>
              <a:ext cx="294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ัตถุประสงค์ห้าปี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ตัวชี้วัด 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(KPIs) 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562200" y="4724280"/>
              <a:ext cx="2024280" cy="879480"/>
              <a:chOff x="3562200" y="4724280"/>
              <a:chExt cx="2024280" cy="8794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562200" y="4724280"/>
                <a:ext cx="2024280" cy="879480"/>
                <a:chOff x="3562200" y="4724280"/>
                <a:chExt cx="2024280" cy="87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562200" y="4724280"/>
                  <a:ext cx="2024280" cy="879480"/>
                </a:xfrm>
                <a:prstGeom prst="flowChartExtra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4029480" y="5337360"/>
                  <a:ext cx="180720" cy="26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572360" y="5337360"/>
                  <a:ext cx="0" cy="26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34160" y="5337360"/>
                  <a:ext cx="135360" cy="26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871080" y="4724280"/>
                <a:ext cx="1402200" cy="613080"/>
                <a:chOff x="3871080" y="4724280"/>
                <a:chExt cx="1402200" cy="6130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871080" y="4724280"/>
                  <a:ext cx="1402200" cy="613080"/>
                </a:xfrm>
                <a:prstGeom prst="flowChartExtra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572000" y="4724280"/>
                  <a:ext cx="0" cy="61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</p:grpSp>
      <p:grpSp>
        <p:nvGrpSpPr>
          <p:cNvPr id="299" name=""/>
          <p:cNvGrpSpPr/>
          <p:nvPr/>
        </p:nvGrpSpPr>
        <p:grpSpPr>
          <a:xfrm>
            <a:off x="2762280" y="4724280"/>
            <a:ext cx="5350320" cy="1581120"/>
            <a:chOff x="2762280" y="4724280"/>
            <a:chExt cx="5350320" cy="1581120"/>
          </a:xfrm>
        </p:grpSpPr>
        <p:sp>
          <p:nvSpPr>
            <p:cNvPr id="300" name=""/>
            <p:cNvSpPr/>
            <p:nvPr/>
          </p:nvSpPr>
          <p:spPr>
            <a:xfrm>
              <a:off x="6324480" y="6051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54360" y="5867280"/>
              <a:ext cx="175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แนวทางการพัฒนา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762280" y="4724280"/>
              <a:ext cx="3619440" cy="1581120"/>
              <a:chOff x="2762280" y="4724280"/>
              <a:chExt cx="3619440" cy="158112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2762280" y="4724280"/>
                <a:ext cx="3619440" cy="1581120"/>
                <a:chOff x="2762280" y="4724280"/>
                <a:chExt cx="3619440" cy="158112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2762280" y="4730760"/>
                  <a:ext cx="3619440" cy="1574640"/>
                  <a:chOff x="2762280" y="4730760"/>
                  <a:chExt cx="3619440" cy="15746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2762280" y="4730760"/>
                    <a:ext cx="3619440" cy="1574640"/>
                  </a:xfrm>
                  <a:prstGeom prst="flowChartExtra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572000" y="5925240"/>
                    <a:ext cx="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3531240" y="5925240"/>
                    <a:ext cx="27144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>
                    <a:off x="3169080" y="5925240"/>
                    <a:ext cx="31644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>
                    <a:off x="3893400" y="5925240"/>
                    <a:ext cx="22608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4933800" y="5925240"/>
                    <a:ext cx="9036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205240" y="5925240"/>
                    <a:ext cx="18072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522040" y="5925240"/>
                    <a:ext cx="22608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3192120" y="4724280"/>
                  <a:ext cx="2759760" cy="1200960"/>
                  <a:chOff x="3192120" y="4724280"/>
                  <a:chExt cx="2759760" cy="12009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3192120" y="4724280"/>
                    <a:ext cx="2759760" cy="1200960"/>
                    <a:chOff x="3192120" y="4724280"/>
                    <a:chExt cx="2759760" cy="12009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192120" y="4724280"/>
                      <a:ext cx="2759760" cy="1200960"/>
                    </a:xfrm>
                    <a:prstGeom prst="flowChartExtra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>
                      <a:off x="3802680" y="5604840"/>
                      <a:ext cx="22608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3485880" y="5604840"/>
                      <a:ext cx="27144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>
                      <a:off x="4119480" y="5604840"/>
                      <a:ext cx="18072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4572000" y="5604840"/>
                      <a:ext cx="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4843440" y="5604840"/>
                      <a:ext cx="9036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5069520" y="5604840"/>
                      <a:ext cx="13572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5340960" y="5604840"/>
                      <a:ext cx="18072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3553920" y="4724280"/>
                    <a:ext cx="2024280" cy="880560"/>
                    <a:chOff x="3553920" y="4724280"/>
                    <a:chExt cx="2024280" cy="880560"/>
                  </a:xfrm>
                </p:grpSpPr>
                <p:grpSp>
                  <p:nvGrpSpPr>
                    <p:cNvPr id="324" name=""/>
                    <p:cNvGrpSpPr/>
                    <p:nvPr/>
                  </p:nvGrpSpPr>
                  <p:grpSpPr>
                    <a:xfrm>
                      <a:off x="3553920" y="4724280"/>
                      <a:ext cx="2024280" cy="880560"/>
                      <a:chOff x="3553920" y="4724280"/>
                      <a:chExt cx="2024280" cy="880560"/>
                    </a:xfrm>
                  </p:grpSpPr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3553920" y="4724280"/>
                        <a:ext cx="2024280" cy="880560"/>
                      </a:xfrm>
                      <a:prstGeom prst="flowChartExtra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 flipH="1">
                        <a:off x="4021200" y="5338080"/>
                        <a:ext cx="180720" cy="266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4564080" y="5338080"/>
                        <a:ext cx="0" cy="266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4925880" y="5338080"/>
                        <a:ext cx="135360" cy="266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</p:grpSp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3862800" y="4724280"/>
                      <a:ext cx="1402200" cy="613800"/>
                      <a:chOff x="3862800" y="4724280"/>
                      <a:chExt cx="1402200" cy="613800"/>
                    </a:xfrm>
                  </p:grpSpPr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3862800" y="4724280"/>
                        <a:ext cx="1402200" cy="613800"/>
                      </a:xfrm>
                      <a:prstGeom prst="flowChartExtract">
                        <a:avLst/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4563720" y="4724280"/>
                        <a:ext cx="0" cy="613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32" name=""/>
              <p:cNvSpPr/>
              <p:nvPr/>
            </p:nvSpPr>
            <p:spPr>
              <a:xfrm flipH="1">
                <a:off x="4209840" y="5925240"/>
                <a:ext cx="13572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3080" y="5925240"/>
                <a:ext cx="9036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069520" y="5925240"/>
                <a:ext cx="13572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40960" y="5925240"/>
                <a:ext cx="22608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03120" y="5925240"/>
                <a:ext cx="31644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712320" y="5925240"/>
                <a:ext cx="27144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349800" y="5925240"/>
                <a:ext cx="31644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942640" y="5925240"/>
                <a:ext cx="40716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3192480" y="4724280"/>
            <a:ext cx="4252320" cy="1200240"/>
            <a:chOff x="3192480" y="4724280"/>
            <a:chExt cx="4252320" cy="1200240"/>
          </a:xfrm>
        </p:grpSpPr>
        <p:sp>
          <p:nvSpPr>
            <p:cNvPr id="341" name=""/>
            <p:cNvSpPr/>
            <p:nvPr/>
          </p:nvSpPr>
          <p:spPr>
            <a:xfrm>
              <a:off x="594828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8440" y="55627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เป้าหมายรายปี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192480" y="4724280"/>
              <a:ext cx="2759040" cy="1200240"/>
              <a:chOff x="3192480" y="4724280"/>
              <a:chExt cx="2759040" cy="1200240"/>
            </a:xfrm>
          </p:grpSpPr>
          <p:sp>
            <p:nvSpPr>
              <p:cNvPr id="344" name=""/>
              <p:cNvSpPr/>
              <p:nvPr/>
            </p:nvSpPr>
            <p:spPr>
              <a:xfrm>
                <a:off x="4572000" y="56044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3192480" y="4724280"/>
                <a:ext cx="2759040" cy="1200240"/>
                <a:chOff x="3192480" y="4724280"/>
                <a:chExt cx="2759040" cy="120024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3192480" y="4724280"/>
                  <a:ext cx="2759040" cy="1200240"/>
                  <a:chOff x="3192480" y="4724280"/>
                  <a:chExt cx="2759040" cy="12002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3192480" y="4724280"/>
                    <a:ext cx="2759040" cy="1200240"/>
                  </a:xfrm>
                  <a:prstGeom prst="flowChartExtra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>
                    <a:off x="3803040" y="5604480"/>
                    <a:ext cx="22608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>
                    <a:off x="3485880" y="5604480"/>
                    <a:ext cx="27108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>
                    <a:off x="4119480" y="5604480"/>
                    <a:ext cx="18072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572000" y="5604480"/>
                    <a:ext cx="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843440" y="5604480"/>
                    <a:ext cx="9036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5069520" y="5604480"/>
                    <a:ext cx="13536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5340600" y="5604480"/>
                    <a:ext cx="18072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3554280" y="4724280"/>
                  <a:ext cx="2023920" cy="880200"/>
                  <a:chOff x="3554280" y="4724280"/>
                  <a:chExt cx="2023920" cy="88020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554280" y="4724280"/>
                    <a:ext cx="2023920" cy="880200"/>
                    <a:chOff x="3554280" y="4724280"/>
                    <a:chExt cx="2023920" cy="88020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3554280" y="4724280"/>
                      <a:ext cx="2023920" cy="880200"/>
                    </a:xfrm>
                    <a:prstGeom prst="flowChartExtract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>
                      <a:off x="4021560" y="5337720"/>
                      <a:ext cx="180720" cy="26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4564080" y="5337720"/>
                      <a:ext cx="0" cy="26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4925880" y="5337720"/>
                      <a:ext cx="135360" cy="26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3863160" y="4724280"/>
                    <a:ext cx="1402200" cy="613440"/>
                    <a:chOff x="3863160" y="4724280"/>
                    <a:chExt cx="1402200" cy="61344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3863160" y="4724280"/>
                      <a:ext cx="1402200" cy="613440"/>
                    </a:xfrm>
                    <a:prstGeom prst="flowChartExtract">
                      <a:avLst/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4564080" y="4724280"/>
                      <a:ext cx="0" cy="61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8EB-61C0-46C5-AD95-3CF862F0FA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1628640"/>
            <a:ext cx="8077320" cy="567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50000"/>
              </a:lnSpc>
              <a:spcBef>
                <a:spcPts val="3750"/>
              </a:spcBef>
              <a:buClr>
                <a:srgbClr val="ffff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หลักการวางแผนในการ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    </a:t>
            </a:r>
            <a:r>
              <a:rPr b="1" lang="hi-IN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ติดตามประเมินผล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ngsana New"/>
              </a:rPr>
              <a:t>2. </a:t>
            </a:r>
            <a:r>
              <a:rPr b="1" lang="hi-IN" sz="6000" spc="-1" strike="noStrike">
                <a:solidFill>
                  <a:srgbClr val="00ffcc"/>
                </a:solidFill>
                <a:latin typeface="Angsana New"/>
                <a:cs typeface="Angsana New"/>
              </a:rPr>
              <a:t>ปัจจัยสภาวะแวดล้อม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ngsana New"/>
                <a:ea typeface="Angsana New"/>
              </a:rPr>
              <a:t>    </a:t>
            </a:r>
            <a:r>
              <a:rPr b="1" lang="hi-IN" sz="6000" spc="-1" strike="noStrike">
                <a:solidFill>
                  <a:srgbClr val="00ffcc"/>
                </a:solidFill>
                <a:latin typeface="Angsana New"/>
                <a:cs typeface="Angsana New"/>
              </a:rPr>
              <a:t>ที่เกี่ยวข้องกับการวางแผนพัฒนา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ngsana New"/>
              </a:rPr>
              <a:t>3. </a:t>
            </a:r>
            <a:r>
              <a:rPr b="1" lang="hi-IN" sz="6000" spc="-1" strike="noStrike">
                <a:solidFill>
                  <a:srgbClr val="ffccff"/>
                </a:solidFill>
                <a:latin typeface="Angsana New"/>
                <a:cs typeface="Angsana New"/>
              </a:rPr>
              <a:t>การประเมินผลกับ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ngsana New"/>
                <a:ea typeface="Angsana New"/>
              </a:rPr>
              <a:t>    </a:t>
            </a:r>
            <a:r>
              <a:rPr b="1" lang="hi-IN" sz="6000" spc="-1" strike="noStrike">
                <a:solidFill>
                  <a:srgbClr val="ffccff"/>
                </a:solidFill>
                <a:latin typeface="Angsana New"/>
                <a:cs typeface="Angsana New"/>
              </a:rPr>
              <a:t>การจัดการเชิงกลยุทธ์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0"/>
            <a:ext cx="8153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ประเด็นที่ต้องศึกษา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B97-5B62-433F-9FEE-45676E9F1D4A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ข้อมูลปัญหาด้า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133720"/>
                <a:gridCol w="1371600"/>
                <a:gridCol w="1371600"/>
                <a:gridCol w="1371600"/>
                <a:gridCol w="1371600"/>
              </a:tblGrid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ภา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นาดของ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ได้ร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ลกระท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ควา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รุนแรงของ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DD1-C37B-46B2-AE28-7D406D5FD6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ข้อมูลในช่องสภาพของปัญห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ลักษณะของปัญหา และขนาด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ระยะเวลาที่เกิดปัญห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พื้นที่ที่ครอบคลุ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ูลค่าความเสียหายในปัจจุบัน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ประวัติการเกิดของปัญหาและความเสียหายย้อนหลั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ผลการดำเนินการแก้ไขในอดีต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แนวโน้มของปัญหาในอนาคต และความเสียหาย    ที่อาจจะเกิด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3B8-89CE-4762-A74C-6103334F869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ตารางสรุปปัญหาและสาเหตุ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ัญห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าเหต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026-7683-47CC-A8DC-D2242108E5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ตารางสรุปประเด็นและข้อมูลพื้นฐานปัญห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ปัญห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E7E-619E-40EB-B5AE-2EAB8D6B84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ความต้องการที่ตอบสนองต่อปัญหา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ต้องกา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อบสนองต่อ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ที่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ที่คาดว่าจะต้องใช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5EC-A84D-444C-8D59-9AE58B92A6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ngsana New"/>
              </a:rPr>
              <a:t>ศักยภาพของท้องถิ่นหมายถึง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248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ทางสังคมและวัฒนธรร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ด้านทรัพยากรมนุษย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ด้านทรัพยากรธรรมชาติและสิ่งแวดล้อ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ด้านสภาพภูมิประเทศและภูมิอากาศ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ทางด้านเทคโนโลยี และโครงสร้างพื้นฐา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5029200"/>
            <a:ext cx="6781680" cy="1434600"/>
          </a:xfrm>
          <a:prstGeom prst="rect">
            <a:avLst/>
          </a:prstGeom>
          <a:solidFill>
            <a:srgbClr val="f7f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Arial Narrow"/>
                <a:cs typeface="Angsana New"/>
              </a:rPr>
              <a:t>ที่จะสามารถนำมาพัฒนาให้เกิดมูลค่าเพิ่มขึ้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A7B-D261-4736-B4E9-2A5593BB4C4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ศักยภาพ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ศักยภา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ใช้ศักยภา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ัจจุบั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อกาสในการพัฒน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ใช้เป็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ได้รับผล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ร้าง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ำ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......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จำเป็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.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ได้รับผล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5B6-240B-4C3F-A5DA-9138976829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ตารางสรุปประเด็นและข้อมูลพื้นฐานศักยภาพ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ศักยภา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9E6-81B6-47B8-83EA-0E61A90299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ความต้องการที่ตอบสนองต่อศักยภาพ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ต้องกา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อบสนองต่อศักยภา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ที่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ที่คาดว่าจะต้องใช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273-FC5B-4C21-B606-A05E36B606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ารางสรุปประเด็นและข้อมูลพื้นฐานยุทธศาสตร์แห่งรัฐ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ฯ แห่งรั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B7E-0920-4F9F-98EF-DB3AE0EC27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0"/>
            <a:ext cx="8077320" cy="934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99"/>
                </a:solidFill>
                <a:latin typeface="Angsana New"/>
                <a:ea typeface="Angsana New"/>
              </a:rPr>
              <a:t>4. </a:t>
            </a:r>
            <a:r>
              <a:rPr b="1" lang="hi-IN" sz="6000" spc="-1" strike="noStrike">
                <a:solidFill>
                  <a:srgbClr val="99ff99"/>
                </a:solidFill>
                <a:latin typeface="Angsana New"/>
                <a:cs typeface="Angsana New"/>
              </a:rPr>
              <a:t>รูปแบบ</a:t>
            </a:r>
            <a:r>
              <a:rPr b="1" lang="en-US" sz="6000" spc="-1" strike="noStrike">
                <a:solidFill>
                  <a:srgbClr val="99ff99"/>
                </a:solidFill>
                <a:latin typeface="Angsana New"/>
                <a:ea typeface="Angsana New"/>
              </a:rPr>
              <a:t>/</a:t>
            </a:r>
            <a:r>
              <a:rPr b="1" lang="hi-IN" sz="6000" spc="-1" strike="noStrike">
                <a:solidFill>
                  <a:srgbClr val="99ff99"/>
                </a:solidFill>
                <a:latin typeface="Angsana New"/>
                <a:cs typeface="Angsana New"/>
              </a:rPr>
              <a:t>ประเด็นการติดตามประเมินผล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5. </a:t>
            </a:r>
            <a:r>
              <a:rPr b="1" lang="hi-IN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ารติดตามผลการปฏิบัติงานอย่างมีประสิทธิภาพ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6. </a:t>
            </a:r>
            <a:r>
              <a:rPr b="1" lang="hi-IN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การรายงานผลจากการติดตามและประเมินผลงาน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DA8-C43D-4559-B653-D5D4B8663F76}" type="slidenum">
              <a:t>3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ความต้องการที่ตอบสนองยุทธศาสตร์แห่งรัฐ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ต้องกา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อบสนองต่อยุทธศาสตร์แห่งรั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ที่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ที่คาดว่าจะต้องใช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FE6-1D4B-4023-907D-8F5A3E92B7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905120" y="4572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สรุปประเด็นหลักในการพัฒน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838080" y="1828800"/>
          <a:ext cx="7925040" cy="398772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25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สาเหตุของปัญห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ศักยภาพ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นโยบายท้องถิ่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นโยบายของรั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C6F-1A1C-4794-9207-AFA8FC06B82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ตารางวิเคราะห์ผลที่มุ่งมั่นให้สำเร็จ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ตามประเด็น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685800" y="1981080"/>
          <a:ext cx="7772400" cy="39304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การพัฒน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ิ่งที่จะต้องทำให้เกิดหรือม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ลลัพธ์ที่มุ่งหวังสูงสุด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บริหารจัดการสิ่งแวดล้อมและมลพิ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ระบบบริหารจัดการสิ่งแวดล้อมที่ทันสมัยและพอเพีย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้องถิ่นสะอาด ปลอดมลพิ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D33-DD1B-492B-B353-1733FB3D6C3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ngsana New"/>
              </a:rPr>
              <a:t>วิสัยทัศน์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คือ สภาพการณ์ที่เราปรารถนาให้เกิดขึ้นในอนาคต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714760" y="3581280"/>
            <a:ext cx="2238120" cy="302436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3657600" y="2057400"/>
            <a:ext cx="3581280" cy="2057400"/>
            <a:chOff x="3657600" y="2057400"/>
            <a:chExt cx="3581280" cy="2057400"/>
          </a:xfrm>
        </p:grpSpPr>
        <p:sp>
          <p:nvSpPr>
            <p:cNvPr id="395" name=""/>
            <p:cNvSpPr/>
            <p:nvPr/>
          </p:nvSpPr>
          <p:spPr>
            <a:xfrm>
              <a:off x="3657600" y="2057400"/>
              <a:ext cx="3581280" cy="2057400"/>
            </a:xfrm>
            <a:prstGeom prst="cloudCallout">
              <a:avLst>
                <a:gd name="adj1" fmla="val -27129"/>
                <a:gd name="adj2" fmla="val 4482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4019400" y="2295360"/>
              <a:ext cx="2818800" cy="14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"/>
          <p:cNvSpPr/>
          <p:nvPr/>
        </p:nvSpPr>
        <p:spPr>
          <a:xfrm>
            <a:off x="6019920" y="464832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 Narrow"/>
                <a:cs typeface="Angsana New"/>
              </a:rPr>
              <a:t>เราอยากเป็นอะไ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7C0-9BB6-4361-84CE-AC8FCCE6AB2C}" type="slidenum">
              <a:t>33</a:t>
            </a:fld>
          </a:p>
        </p:txBody>
      </p:sp>
    </p:spTree>
  </p:cSld>
  <p:transition>
    <p:cover dir="l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วิสัยทัศน์จะต้องเป็น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</a:t>
            </a:r>
            <a:r>
              <a:rPr b="1" lang="th-TH" sz="17200" spc="-1" strike="noStrike">
                <a:solidFill>
                  <a:srgbClr val="000000"/>
                </a:solidFill>
                <a:latin typeface="Angsana New"/>
              </a:rPr>
              <a:t>จุด</a:t>
            </a:r>
            <a:endParaRPr b="0" lang="en-US" sz="17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มิใช่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1" lang="th-TH" sz="8000" spc="-1" strike="noStrike">
                <a:solidFill>
                  <a:srgbClr val="000000"/>
                </a:solidFill>
                <a:latin typeface="Angsana New"/>
              </a:rPr>
              <a:t>แนวทาง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0" name=""/>
          <p:cNvSpPr/>
          <p:nvPr/>
        </p:nvSpPr>
        <p:spPr>
          <a:xfrm>
            <a:off x="5292720" y="2276640"/>
            <a:ext cx="576360" cy="50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26E-9D7A-4FAC-9A0A-A5E87AE772B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ngsana New"/>
              </a:rPr>
              <a:t>ลักษณะของวิสัยทัศน์ที่ดี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เป็นไปได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ล้ำหน้าและท้าท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จำได้แค่ชายต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สัญญาที่มุ่งมั่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เป็นสิ่งที่เราอยากสร้างสรรค์ที่จะชี้นำแนวทางดำเนินงา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AD9-17EE-4C57-9F64-F29EF728F4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395280" y="52560"/>
          <a:ext cx="8269200" cy="6805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2560"/>
                    <a:ext cx="8269200" cy="68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1E7-045C-48B0-B017-813494D28D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ngsana New"/>
              </a:rPr>
              <a:t>การกำหนดภารกิจหลัก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ทำ 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  <a:ea typeface="Angsana New"/>
              </a:rPr>
              <a:t>JD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438280" y="5486400"/>
            <a:ext cx="416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คำตอบคือ ภารกิจหลัก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205740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Narrow"/>
                <a:cs typeface="Angsana New"/>
              </a:rPr>
              <a:t>คือ การตอบคำถามว่า  “องค์กรของเราจัดตั้งขึ้นมาเพื่อมีหน้าที่หลักอะไร”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5C3-1678-4DA1-AC6D-9EE92EFE45C6}" type="slidenum">
              <a:t>37</a:t>
            </a:fld>
          </a:p>
        </p:txBody>
      </p:sp>
    </p:spTree>
  </p:cSld>
  <p:transition>
    <p:cover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การกำหนดพันธกิจหลัก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้องทราบปัญหา ความต้องการ และศักยภาพก่อ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้องทราบสถานภาพ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จุดแข็ง จุดอ่อน โอกาส และอุปสรรค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่อ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้องทราบวิสัยทัศน์ และจุดมุ่งหมายก่อ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อบคำถามว่า ท้องถิ่นต้องทำอะไรเพื่อให้บรรลุวิสัยทัศน์และจุดมุ่งหมายที่กำหนดไว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438280" y="5486400"/>
            <a:ext cx="416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คำตอบคือ พันธกิจหลัก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DAA-6A30-4FA4-BD27-1833E31383AD}" type="slidenum">
              <a:t>38</a:t>
            </a:fld>
          </a:p>
        </p:txBody>
      </p:sp>
    </p:spTree>
  </p:cSld>
  <p:transition>
    <p:cover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การกำหนดจุดมุ่งหมายของการพัฒนาท้องถิ่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3" name=""/>
          <p:cNvSpPr/>
          <p:nvPr/>
        </p:nvSpPr>
        <p:spPr>
          <a:xfrm>
            <a:off x="1905120" y="1981080"/>
            <a:ext cx="5943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คือการตอบคำถามว่า การบรรลุวิสัยทัศน์ของท้องถิ่น จะต้องมี     ส่วนประกอบอะไรบ้าง หรือ จะต้องสร้างอะไรให้เกิดขึ้นบ้าง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52D-160A-48DA-8E98-6C0977A2481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60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52856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ngsana New"/>
                <a:cs typeface="Angsana New"/>
              </a:rPr>
              <a:t>สิ่งที่ต้องรู้</a:t>
            </a:r>
            <a:br>
              <a:rPr sz="72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1.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งานในหน้าที่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  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(JD-Job Description)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2.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ทิศทางการพัฒนาของ อปท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.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3. 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การวางแผนทุกระดับ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4. 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การวิเคราะห์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SWOT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ขององค์กร  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และพื้นที่</a:t>
            </a:r>
            <a:br>
              <a:rPr sz="5900"/>
            </a:br>
            <a:br>
              <a:rPr sz="5900"/>
            </a:b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F89-B5CD-48BF-9242-CD8E6E4699E0}" type="slidenum">
              <a:t>4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การกำหนดจุดมุ่งหมา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52480" y="16761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ำหนดจากผลที่มุ่งมั่นจะให้เกิดจากการพัฒนาตามประเด็นในการพัฒนาที่ผ่านการวิเคราะห์ว่าเป็นไปได้ และเป็นปัจจัยที่สำคัญในการบรรลุวิสัยทัศน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22E-7E77-488E-BF7E-56B2512C615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ตารางวิเคราะห์เพื่อกำหนดยุทธศาสตร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45960" y="1371240"/>
            <a:ext cx="8226720" cy="4953240"/>
            <a:chOff x="345960" y="1371240"/>
            <a:chExt cx="8226720" cy="4953240"/>
          </a:xfrm>
        </p:grpSpPr>
        <p:grpSp>
          <p:nvGrpSpPr>
            <p:cNvPr id="418" name=""/>
            <p:cNvGrpSpPr/>
            <p:nvPr/>
          </p:nvGrpSpPr>
          <p:grpSpPr>
            <a:xfrm>
              <a:off x="533520" y="1447920"/>
              <a:ext cx="8001000" cy="4876560"/>
              <a:chOff x="533520" y="1447920"/>
              <a:chExt cx="8001000" cy="4876560"/>
            </a:xfrm>
          </p:grpSpPr>
          <p:sp>
            <p:nvSpPr>
              <p:cNvPr id="419" name=""/>
              <p:cNvSpPr/>
              <p:nvPr/>
            </p:nvSpPr>
            <p:spPr>
              <a:xfrm>
                <a:off x="533520" y="1447920"/>
                <a:ext cx="8001000" cy="4876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33520" y="2705040"/>
                <a:ext cx="800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7180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1972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0020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79132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3888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45960" y="1599840"/>
              <a:ext cx="142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ิสัยทัศน์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87000" y="1599840"/>
              <a:ext cx="191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จุดมุ่งหมาย</a:t>
              </a: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/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รกิจหลัก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34920" y="1599840"/>
              <a:ext cx="1915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ัตถุประสงค์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81560" y="1599840"/>
              <a:ext cx="142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เป้าหมาย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05080" y="158364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ตัวชี้วัด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13600" y="1371240"/>
              <a:ext cx="145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แนวทาง</a:t>
              </a: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/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กลยุทธ์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D2A-71B7-4CB3-9268-6F48E0CC3C9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ngsana New"/>
              </a:rPr>
              <a:t>การกำหนดวัตถุประสงค์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การกำหนดความต้องการที่สอดคล้องกับจุดมุ่งหมา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ความชัดเจน วัดผลได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ความเข้าใจตรงกัน และเห็นพ้องกั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ความเป็นไปได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กำหนดระยะเวลา สถานที่ที่แน่นอ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4EC-A254-4B71-B10F-5D56ECFD2DF5}" type="slidenum">
              <a:t>42</a:t>
            </a:fld>
          </a:p>
        </p:txBody>
      </p:sp>
    </p:spTree>
  </p:cSld>
  <p:transition>
    <p:cover dir="l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758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0" spc="-1" strike="noStrike">
                <a:solidFill>
                  <a:srgbClr val="ffff00"/>
                </a:solidFill>
                <a:latin typeface="Angsana New"/>
                <a:cs typeface="AngsanaUPC"/>
              </a:rPr>
              <a:t>วัตถุประสงค์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5" name=""/>
          <p:cNvSpPr/>
          <p:nvPr/>
        </p:nvSpPr>
        <p:spPr>
          <a:xfrm>
            <a:off x="497520" y="2560680"/>
            <a:ext cx="5066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ทำอะไร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ปริมาณ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ใช้เวลา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6" name=""/>
          <p:cNvSpPr/>
          <p:nvPr/>
        </p:nvSpPr>
        <p:spPr>
          <a:xfrm>
            <a:off x="669960" y="1614600"/>
            <a:ext cx="35971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บอก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  <a:ea typeface="AngsanaUPC"/>
              </a:rPr>
              <a:t>...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ช่วงเวลา</a:t>
            </a:r>
            <a:r>
              <a:rPr b="0" lang="th-TH" sz="4800" spc="-1" strike="noStrike">
                <a:solidFill>
                  <a:srgbClr val="ff0000"/>
                </a:solidFill>
                <a:latin typeface="Times New Roman"/>
                <a:cs typeface="AngsanaUPC"/>
              </a:rPr>
              <a:t>ทั้งหมด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ว่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1A5-BC3A-49B2-A1BE-B1ED5FB1D76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453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เป้าหมาย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8" name=""/>
          <p:cNvSpPr/>
          <p:nvPr/>
        </p:nvSpPr>
        <p:spPr>
          <a:xfrm>
            <a:off x="15840" y="2255760"/>
            <a:ext cx="5066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ทำอะไร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ปริมาณ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ใช้เวลา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9" name=""/>
          <p:cNvSpPr/>
          <p:nvPr/>
        </p:nvSpPr>
        <p:spPr>
          <a:xfrm>
            <a:off x="898560" y="1309680"/>
            <a:ext cx="4816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บอก</a:t>
            </a:r>
            <a:r>
              <a:rPr b="0" lang="th-TH" sz="3200" spc="-1" strike="noStrike">
                <a:solidFill>
                  <a:srgbClr val="3333cc"/>
                </a:solidFill>
                <a:latin typeface="Times New Roman"/>
                <a:ea typeface="AngsanaUPC"/>
              </a:rPr>
              <a:t>...</a:t>
            </a:r>
            <a:r>
              <a:rPr b="0" lang="th-TH" sz="3200" spc="-1" strike="noStrike">
                <a:solidFill>
                  <a:srgbClr val="66ff66"/>
                </a:solidFill>
                <a:latin typeface="Times New Roman"/>
                <a:ea typeface="AngsanaUPC"/>
              </a:rPr>
              <a:t> </a:t>
            </a:r>
            <a:r>
              <a:rPr b="0" lang="th-TH" sz="4800" spc="-1" strike="noStrike">
                <a:solidFill>
                  <a:srgbClr val="ff0000"/>
                </a:solidFill>
                <a:latin typeface="Times New Roman"/>
                <a:cs typeface="AngsanaUPC"/>
              </a:rPr>
              <a:t>แต่ละช่วงเวลา</a:t>
            </a:r>
            <a:r>
              <a:rPr b="0" lang="th-TH" sz="4800" spc="-1" strike="noStrike">
                <a:solidFill>
                  <a:srgbClr val="66ff66"/>
                </a:solidFill>
                <a:latin typeface="Times New Roman"/>
                <a:ea typeface="AngsanaUPC"/>
              </a:rPr>
              <a:t> </a:t>
            </a:r>
            <a:r>
              <a:rPr b="0" lang="th-TH" sz="32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ว่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0" name=""/>
          <p:cNvSpPr/>
          <p:nvPr/>
        </p:nvSpPr>
        <p:spPr>
          <a:xfrm>
            <a:off x="5695560" y="3081240"/>
            <a:ext cx="40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วัตถุประสงค์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267080" y="2209680"/>
            <a:ext cx="2576520" cy="2895840"/>
            <a:chOff x="4267080" y="2209680"/>
            <a:chExt cx="2576520" cy="2895840"/>
          </a:xfrm>
        </p:grpSpPr>
        <p:sp>
          <p:nvSpPr>
            <p:cNvPr id="442" name=""/>
            <p:cNvSpPr/>
            <p:nvPr/>
          </p:nvSpPr>
          <p:spPr>
            <a:xfrm>
              <a:off x="4374000" y="3267000"/>
              <a:ext cx="2469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รวมแล้ว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= </a:t>
              </a:r>
              <a:endParaRPr b="0" lang="en-US" sz="4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67080" y="2209680"/>
              <a:ext cx="457200" cy="289584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5240 h 2895840"/>
                <a:gd name="textAreaBottom" fmla="*/ 282060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183-9C67-45C6-9025-95030B53B01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ngsana New"/>
              </a:rPr>
              <a:t>วิธีการกำหนดตัวชี้วัดผลสำเร็จ 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90320" y="220968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พิจารณาเป้าหมายที่กำหนดไว้จากยุทธศาสตร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ตอบคำถาม “สิ่งใดที่ชี้บ่งว่าการดำเนินงานประสบ ผลสำเร็จตามเป้าหมาย”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สิ่งที่บ่งว่าการดำเนินงานประสบผลสำเร็จคือ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505320" y="441972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ตัวชี้วัด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6CC-E414-41D9-B999-A883D32521A8}" type="slidenum">
              <a:t>45</a:t>
            </a:fld>
          </a:p>
        </p:txBody>
      </p:sp>
    </p:spTree>
  </p:cSld>
  <p:transition>
    <p:cover dir="l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ค่าของตัวชี้วั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ร้อยละ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Percentage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อัตราส่วน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Ratio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สัดส่วน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Proportion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อัตรา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Rate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จำนวน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Number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ค่าเฉลี่ย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Average or Mean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F8F-EBCB-4665-8E44-80F89A89CC99}" type="slidenum">
              <a:t>46</a:t>
            </a:fld>
          </a:p>
        </p:txBody>
      </p:sp>
    </p:spTree>
  </p:cSld>
  <p:transition>
    <p:cover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371600" y="6094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ตัวชี้วัดเชิงปริมาณ </a:t>
            </a: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Angsana New"/>
              </a:rPr>
              <a:t>VS </a:t>
            </a:r>
            <a:r>
              <a:rPr b="1" lang="en-US" sz="4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ตัวชี้วัดเชิงคุณ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0" name=""/>
          <p:cNvSpPr/>
          <p:nvPr/>
        </p:nvSpPr>
        <p:spPr>
          <a:xfrm>
            <a:off x="1981080" y="2286000"/>
            <a:ext cx="59436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 Narrow"/>
                <a:cs typeface="Angsana New"/>
              </a:rPr>
              <a:t>เชิงปริมาณ ให้ดูที่ หน่วยนับ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 Narrow"/>
                <a:cs typeface="Angsana New"/>
              </a:rPr>
              <a:t>เชิงคุณภาพ ให้ดูที่ สรรพคุณ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AFD-9B43-43A8-8283-CE8A171DCC6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มุมมองของการจัดทำดัชนีชี้วัดผลสำเร็จ 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(KPI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ผู้ใช้บริกา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องค์ก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นวัตกรร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การเงิ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5029200" y="1828800"/>
            <a:ext cx="3819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lanced Scorecard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/>
          <p:nvPr/>
        </p:nvSpPr>
        <p:spPr>
          <a:xfrm>
            <a:off x="6553080" y="28195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 Narrow"/>
                <a:cs typeface="Angsana New"/>
              </a:rPr>
              <a:t>โด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5" name=""/>
          <p:cNvSpPr/>
          <p:nvPr/>
        </p:nvSpPr>
        <p:spPr>
          <a:xfrm>
            <a:off x="5105520" y="3657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Robert Kaplan &amp;David Nort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371600" y="4800600"/>
            <a:ext cx="2685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สำนักงาน ก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.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พ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.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"/>
          <p:cNvSpPr/>
          <p:nvPr/>
        </p:nvSpPr>
        <p:spPr>
          <a:xfrm>
            <a:off x="5105520" y="5105520"/>
            <a:ext cx="327636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Narrow"/>
                <a:ea typeface="Angsana New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มุมมองด้านประชาชนและ   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Narrow"/>
                <a:ea typeface="Angsana New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ประเทศชาติ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8" name=""/>
          <p:cNvSpPr/>
          <p:nvPr/>
        </p:nvSpPr>
        <p:spPr>
          <a:xfrm>
            <a:off x="42670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5BF-3DEA-48D0-9F2C-36FA91F48502}" type="slidenum">
              <a:t>48</a:t>
            </a:fld>
          </a:p>
        </p:txBody>
      </p:sp>
    </p:spTree>
  </p:cSld>
  <p:transition>
    <p:cover dir="l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เกณฑ์เปรียบเทียบเพื่อกำหนดตัวชี้วัด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กฎหมาย ระเบียบปฏิบัติ ข้อบังคับ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เกณฑ์มาตรฐานทางวิทยาศาสตร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สถิติของการดำเนินการที่ผ่านมาทั้งจากภายในและภายนอก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CB6-BF28-4782-954B-500CE6835C07}" type="slidenum">
              <a:t>49</a:t>
            </a:fld>
          </a:p>
        </p:txBody>
      </p:sp>
    </p:spTree>
  </p:cSld>
  <p:transition>
    <p:cover dir="l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844640"/>
            <a:ext cx="8128080" cy="71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cc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 </a:t>
            </a:r>
            <a:r>
              <a:rPr b="1" lang="hi-IN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การตรวจติดตามงาน การปฏิบัติงาน เพื่อลดปัญหาที่เกิดขึ้นระหว่างการดำเนินงาน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cc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การติดตามเป็นเครื่องมือที่ใช้ควบคุมการดำเนินงานเพื่อปรับปรุง เปลี่ยนแปลงการปฏิบัติงานเมื่อมีปัญหา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ติดตาม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monitoring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F5C-F034-4E63-A3DB-4205B1E6BB58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ปัจจัยในการกำหนดค่าตัวชี้วั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ประเภทของค่าตัวชี้วั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ผลผลิต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หน่วยนับผลผลิต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ปริมาณผลผลิต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เกณฑ์เปรียบเทียบ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2514600" cy="252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98E-3EA2-4321-8B9F-3142E68F09E8}" type="slidenum">
              <a:t>50</a:t>
            </a:fld>
          </a:p>
        </p:txBody>
      </p:sp>
    </p:spTree>
  </p:cSld>
  <p:transition>
    <p:cover dir="l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5" name=""/>
          <p:cNvSpPr/>
          <p:nvPr/>
        </p:nvSpPr>
        <p:spPr>
          <a:xfrm>
            <a:off x="5165640" y="5537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5537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ัดส่วนผู้บริหารชายหญิงเท่ากับ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: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7" name=""/>
          <p:cNvSpPr/>
          <p:nvPr/>
        </p:nvSpPr>
        <p:spPr>
          <a:xfrm>
            <a:off x="5165640" y="501984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8" name=""/>
          <p:cNvSpPr/>
          <p:nvPr/>
        </p:nvSpPr>
        <p:spPr>
          <a:xfrm>
            <a:off x="990720" y="501984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มีผู้ว่างงานนอกฤดูการเกษตรร้อยละ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9" name=""/>
          <p:cNvSpPr/>
          <p:nvPr/>
        </p:nvSpPr>
        <p:spPr>
          <a:xfrm>
            <a:off x="5165640" y="4502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4502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ชช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มีรายได้ต่อหัวให้ถึ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มื่น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1" name=""/>
          <p:cNvSpPr/>
          <p:nvPr/>
        </p:nvSpPr>
        <p:spPr>
          <a:xfrm>
            <a:off x="5165640" y="398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398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อัตราผู้ติดยาเสพติด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ั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3" name=""/>
          <p:cNvSpPr/>
          <p:nvPr/>
        </p:nvSpPr>
        <p:spPr>
          <a:xfrm>
            <a:off x="5165640" y="3467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4" name=""/>
          <p:cNvSpPr/>
          <p:nvPr/>
        </p:nvSpPr>
        <p:spPr>
          <a:xfrm>
            <a:off x="990720" y="3467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พิ่มอัตราส่วนครูต่อนักเรียนเป็น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:2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5" name=""/>
          <p:cNvSpPr/>
          <p:nvPr/>
        </p:nvSpPr>
        <p:spPr>
          <a:xfrm>
            <a:off x="5165640" y="2949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2949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ค่าเฉลี่ย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7" name=""/>
          <p:cNvSpPr/>
          <p:nvPr/>
        </p:nvSpPr>
        <p:spPr>
          <a:xfrm>
            <a:off x="5165640" y="2432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2432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่อสร้างถนนคอนกรีตสิบ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9" name=""/>
          <p:cNvSpPr/>
          <p:nvPr/>
        </p:nvSpPr>
        <p:spPr>
          <a:xfrm>
            <a:off x="5165640" y="191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0" name=""/>
          <p:cNvSpPr/>
          <p:nvPr/>
        </p:nvSpPr>
        <p:spPr>
          <a:xfrm>
            <a:off x="990720" y="191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ฝึกอบรมอาชีพสองพันค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990720" y="1397160"/>
            <a:ext cx="7010280" cy="4657680"/>
            <a:chOff x="990720" y="1397160"/>
            <a:chExt cx="7010280" cy="4657680"/>
          </a:xfrm>
        </p:grpSpPr>
        <p:sp>
          <p:nvSpPr>
            <p:cNvPr id="482" name=""/>
            <p:cNvSpPr/>
            <p:nvPr/>
          </p:nvSpPr>
          <p:spPr>
            <a:xfrm>
              <a:off x="5165640" y="1397160"/>
              <a:ext cx="283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เชิงปริมาณ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0720" y="1397160"/>
              <a:ext cx="4174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เป้าหมาย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90720" y="139716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90720" y="191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90720" y="243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90720" y="2949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90720" y="346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90720" y="398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90720" y="450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90720" y="501984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90720" y="553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90720" y="605484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9072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65640" y="1397160"/>
              <a:ext cx="0" cy="465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50A-0B87-4C60-AB91-97C6CDC371A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8" name=""/>
          <p:cNvSpPr/>
          <p:nvPr/>
        </p:nvSpPr>
        <p:spPr>
          <a:xfrm>
            <a:off x="5165640" y="5537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9" name=""/>
          <p:cNvSpPr/>
          <p:nvPr/>
        </p:nvSpPr>
        <p:spPr>
          <a:xfrm>
            <a:off x="990720" y="5537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ผลิตครกให้ได้สามหมื่นใ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0" name=""/>
          <p:cNvSpPr/>
          <p:nvPr/>
        </p:nvSpPr>
        <p:spPr>
          <a:xfrm>
            <a:off x="5165640" y="501984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501984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ร้างงานในชุมชนให้ได้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00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2" name=""/>
          <p:cNvSpPr/>
          <p:nvPr/>
        </p:nvSpPr>
        <p:spPr>
          <a:xfrm>
            <a:off x="5165640" y="4502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3" name=""/>
          <p:cNvSpPr/>
          <p:nvPr/>
        </p:nvSpPr>
        <p:spPr>
          <a:xfrm>
            <a:off x="990720" y="4502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พิ่มรายได้ต่อหัวให้ถึ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มื่น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4" name=""/>
          <p:cNvSpPr/>
          <p:nvPr/>
        </p:nvSpPr>
        <p:spPr>
          <a:xfrm>
            <a:off x="5165640" y="398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5" name=""/>
          <p:cNvSpPr/>
          <p:nvPr/>
        </p:nvSpPr>
        <p:spPr>
          <a:xfrm>
            <a:off x="990720" y="398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อัตราผู้ติดยาเสพติด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ั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6" name=""/>
          <p:cNvSpPr/>
          <p:nvPr/>
        </p:nvSpPr>
        <p:spPr>
          <a:xfrm>
            <a:off x="5165640" y="3467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7" name=""/>
          <p:cNvSpPr/>
          <p:nvPr/>
        </p:nvSpPr>
        <p:spPr>
          <a:xfrm>
            <a:off x="990720" y="3467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พื้นที่น้ำท่วม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ร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8" name=""/>
          <p:cNvSpPr/>
          <p:nvPr/>
        </p:nvSpPr>
        <p:spPr>
          <a:xfrm>
            <a:off x="5165640" y="2949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9" name=""/>
          <p:cNvSpPr/>
          <p:nvPr/>
        </p:nvSpPr>
        <p:spPr>
          <a:xfrm>
            <a:off x="990720" y="2949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ค่าเฉลี่ย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0" name=""/>
          <p:cNvSpPr/>
          <p:nvPr/>
        </p:nvSpPr>
        <p:spPr>
          <a:xfrm>
            <a:off x="5165640" y="2432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432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่อสร้างถนนคอนกรีตสาม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2" name=""/>
          <p:cNvSpPr/>
          <p:nvPr/>
        </p:nvSpPr>
        <p:spPr>
          <a:xfrm>
            <a:off x="5165640" y="191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3" name=""/>
          <p:cNvSpPr/>
          <p:nvPr/>
        </p:nvSpPr>
        <p:spPr>
          <a:xfrm>
            <a:off x="990720" y="191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่อสร้างศาลาพักร้อนห้าหลั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990720" y="1397160"/>
            <a:ext cx="7010280" cy="4657680"/>
            <a:chOff x="990720" y="1397160"/>
            <a:chExt cx="7010280" cy="4657680"/>
          </a:xfrm>
        </p:grpSpPr>
        <p:sp>
          <p:nvSpPr>
            <p:cNvPr id="515" name=""/>
            <p:cNvSpPr/>
            <p:nvPr/>
          </p:nvSpPr>
          <p:spPr>
            <a:xfrm>
              <a:off x="5165640" y="1397160"/>
              <a:ext cx="283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90720" y="1397160"/>
              <a:ext cx="4174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วัตถุประสงค์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AngsanaUPC"/>
                </a:rPr>
                <a:t>(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เพื่อ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AngsanaUPC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90720" y="139716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90720" y="191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90720" y="243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90720" y="2949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346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90720" y="398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0720" y="450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0720" y="501984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90720" y="553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90720" y="605484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9072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65640" y="1397160"/>
              <a:ext cx="0" cy="465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0100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213-39A8-479B-92EF-D1C2D7EB5F3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8600" y="566424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ผลิตครกให้ได้สามหมื่นใ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514656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สร้างงานในชุมชนให้ได้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100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ตำแหน่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62924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พิ่มรายได้ต่อหัวให้ถึ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หมื่น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411156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ลดอัตราผู้ติดยาเสพติด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พั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359424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ลดพื้นที่น้ำท่วม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ตร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ม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" y="307656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ลดค่าเฉลี่ย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" y="255888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่อสร้างถนนคอนกรีตสาม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204156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่อสร้างศาลาพักร้อนห้าหลั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8" name=""/>
          <p:cNvSpPr/>
          <p:nvPr/>
        </p:nvSpPr>
        <p:spPr>
          <a:xfrm>
            <a:off x="4344840" y="566424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9" name=""/>
          <p:cNvSpPr/>
          <p:nvPr/>
        </p:nvSpPr>
        <p:spPr>
          <a:xfrm>
            <a:off x="4344840" y="514656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0" name=""/>
          <p:cNvSpPr/>
          <p:nvPr/>
        </p:nvSpPr>
        <p:spPr>
          <a:xfrm>
            <a:off x="4344840" y="462924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1" name=""/>
          <p:cNvSpPr/>
          <p:nvPr/>
        </p:nvSpPr>
        <p:spPr>
          <a:xfrm>
            <a:off x="4344840" y="411156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2" name=""/>
          <p:cNvSpPr/>
          <p:nvPr/>
        </p:nvSpPr>
        <p:spPr>
          <a:xfrm>
            <a:off x="4344840" y="359424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3" name=""/>
          <p:cNvSpPr/>
          <p:nvPr/>
        </p:nvSpPr>
        <p:spPr>
          <a:xfrm>
            <a:off x="4344840" y="307656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4" name=""/>
          <p:cNvSpPr/>
          <p:nvPr/>
        </p:nvSpPr>
        <p:spPr>
          <a:xfrm>
            <a:off x="4344840" y="255888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5" name=""/>
          <p:cNvSpPr/>
          <p:nvPr/>
        </p:nvSpPr>
        <p:spPr>
          <a:xfrm>
            <a:off x="4344840" y="204156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566424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514656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0" y="462924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0" y="411156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0" y="359424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0" y="307656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0" y="255888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0" y="204156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28600" y="1523880"/>
            <a:ext cx="8686800" cy="4657680"/>
            <a:chOff x="228600" y="1523880"/>
            <a:chExt cx="8686800" cy="4657680"/>
          </a:xfrm>
        </p:grpSpPr>
        <p:sp>
          <p:nvSpPr>
            <p:cNvPr id="555" name=""/>
            <p:cNvSpPr/>
            <p:nvPr/>
          </p:nvSpPr>
          <p:spPr>
            <a:xfrm>
              <a:off x="228600" y="3594240"/>
              <a:ext cx="0" cy="5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8600" y="4111560"/>
              <a:ext cx="0" cy="207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28600" y="1523880"/>
              <a:ext cx="8686800" cy="4657680"/>
              <a:chOff x="228600" y="1523880"/>
              <a:chExt cx="8686800" cy="4657680"/>
            </a:xfrm>
          </p:grpSpPr>
          <p:sp>
            <p:nvSpPr>
              <p:cNvPr id="558" name=""/>
              <p:cNvSpPr/>
              <p:nvPr/>
            </p:nvSpPr>
            <p:spPr>
              <a:xfrm>
                <a:off x="228600" y="1523880"/>
                <a:ext cx="4116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วัตถุประสงค์ 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(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เพื่อ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344840" y="1523880"/>
                <a:ext cx="251316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ตัวชี้วัด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858000" y="1523880"/>
                <a:ext cx="205740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ผลผลิต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28600" y="1523880"/>
                <a:ext cx="8686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28600" y="2041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8600" y="255888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28600" y="3076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28600" y="359424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28600" y="4111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600" y="462924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28600" y="5146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28600" y="566424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28600" y="6181560"/>
                <a:ext cx="8686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523880"/>
                <a:ext cx="0" cy="46576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28600" y="1523880"/>
                <a:ext cx="0" cy="2070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85800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4484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ED1-D8C8-414B-9E34-DF2AE96B1B1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124080" y="5664240"/>
            <a:ext cx="2514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7" name=""/>
          <p:cNvSpPr/>
          <p:nvPr/>
        </p:nvSpPr>
        <p:spPr>
          <a:xfrm>
            <a:off x="3124080" y="514656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8" name=""/>
          <p:cNvSpPr/>
          <p:nvPr/>
        </p:nvSpPr>
        <p:spPr>
          <a:xfrm>
            <a:off x="3124080" y="4629240"/>
            <a:ext cx="2514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411156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3594240"/>
            <a:ext cx="2514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1" name=""/>
          <p:cNvSpPr/>
          <p:nvPr/>
        </p:nvSpPr>
        <p:spPr>
          <a:xfrm>
            <a:off x="3124080" y="307656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255888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3" name=""/>
          <p:cNvSpPr/>
          <p:nvPr/>
        </p:nvSpPr>
        <p:spPr>
          <a:xfrm>
            <a:off x="3124080" y="198108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" y="566424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ครกที่ผลิตได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" y="514656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งานที่มีการจ้า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6" name=""/>
          <p:cNvSpPr/>
          <p:nvPr/>
        </p:nvSpPr>
        <p:spPr>
          <a:xfrm>
            <a:off x="228600" y="462924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ายได้ต่อหั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" y="411156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อัตราผู้ติดย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359424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ื้นที่น้ำท่วมที่เหล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9" name=""/>
          <p:cNvSpPr/>
          <p:nvPr/>
        </p:nvSpPr>
        <p:spPr>
          <a:xfrm>
            <a:off x="228600" y="307656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" y="255888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วามยาวถน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204156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ศาลาที่สร้างเสร็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2" name=""/>
          <p:cNvSpPr/>
          <p:nvPr/>
        </p:nvSpPr>
        <p:spPr>
          <a:xfrm>
            <a:off x="5638680" y="566424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3" name=""/>
          <p:cNvSpPr/>
          <p:nvPr/>
        </p:nvSpPr>
        <p:spPr>
          <a:xfrm>
            <a:off x="5638680" y="514656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462924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5" name=""/>
          <p:cNvSpPr/>
          <p:nvPr/>
        </p:nvSpPr>
        <p:spPr>
          <a:xfrm>
            <a:off x="5638680" y="411156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359424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7" name=""/>
          <p:cNvSpPr/>
          <p:nvPr/>
        </p:nvSpPr>
        <p:spPr>
          <a:xfrm>
            <a:off x="5638680" y="307656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8" name=""/>
          <p:cNvSpPr/>
          <p:nvPr/>
        </p:nvSpPr>
        <p:spPr>
          <a:xfrm>
            <a:off x="5638680" y="255888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9" name=""/>
          <p:cNvSpPr/>
          <p:nvPr/>
        </p:nvSpPr>
        <p:spPr>
          <a:xfrm>
            <a:off x="5638680" y="204156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228600" y="1523880"/>
            <a:ext cx="8610480" cy="4657680"/>
            <a:chOff x="228600" y="1523880"/>
            <a:chExt cx="8610480" cy="4657680"/>
          </a:xfrm>
        </p:grpSpPr>
        <p:sp>
          <p:nvSpPr>
            <p:cNvPr id="601" name=""/>
            <p:cNvSpPr/>
            <p:nvPr/>
          </p:nvSpPr>
          <p:spPr>
            <a:xfrm>
              <a:off x="228600" y="6181560"/>
              <a:ext cx="8610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228600" y="1523880"/>
              <a:ext cx="8610480" cy="4657680"/>
              <a:chOff x="228600" y="1523880"/>
              <a:chExt cx="8610480" cy="4657680"/>
            </a:xfrm>
          </p:grpSpPr>
          <p:sp>
            <p:nvSpPr>
              <p:cNvPr id="603" name=""/>
              <p:cNvSpPr/>
              <p:nvPr/>
            </p:nvSpPr>
            <p:spPr>
              <a:xfrm>
                <a:off x="3124080" y="1523880"/>
                <a:ext cx="251460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  <a:cs typeface="AngsanaUPC"/>
                  </a:rPr>
                  <a:t>หน่วยนับ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8600" y="1523880"/>
                <a:ext cx="289548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  <a:cs typeface="AngsanaUPC"/>
                  </a:rPr>
                  <a:t>ตัวชี้วัด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38680" y="1523880"/>
                <a:ext cx="320040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  <a:cs typeface="AngsanaUPC"/>
                  </a:rPr>
                  <a:t>ผลผลิต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8600" y="1523880"/>
                <a:ext cx="8610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8600" y="2041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8600" y="255888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28600" y="3076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8600" y="359424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28600" y="4111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28600" y="462924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28600" y="5146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28600" y="566424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839080" y="1523880"/>
                <a:ext cx="0" cy="46576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28600" y="3594240"/>
                <a:ext cx="0" cy="51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28600" y="1523880"/>
                <a:ext cx="0" cy="2070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28600" y="4111560"/>
                <a:ext cx="0" cy="20700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12408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3868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621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4CE-1A36-49F2-A6E5-6A41D9A7BA3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2819520" y="575640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ร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523872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จ้างงา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4" name=""/>
          <p:cNvSpPr/>
          <p:nvPr/>
        </p:nvSpPr>
        <p:spPr>
          <a:xfrm>
            <a:off x="2819520" y="472140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งินรายได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5" name=""/>
          <p:cNvSpPr/>
          <p:nvPr/>
        </p:nvSpPr>
        <p:spPr>
          <a:xfrm>
            <a:off x="2819520" y="420372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ผู้ติดยาฯที่ลดล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368604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ื้นที่ที่น้ำไม่ท่ว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7" name=""/>
          <p:cNvSpPr/>
          <p:nvPr/>
        </p:nvSpPr>
        <p:spPr>
          <a:xfrm>
            <a:off x="2819520" y="316872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ิมาณขยะที่ล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65104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ถนนคอนกรีต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213372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ศาล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0" name=""/>
          <p:cNvSpPr/>
          <p:nvPr/>
        </p:nvSpPr>
        <p:spPr>
          <a:xfrm>
            <a:off x="4724280" y="575640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1" name=""/>
          <p:cNvSpPr/>
          <p:nvPr/>
        </p:nvSpPr>
        <p:spPr>
          <a:xfrm>
            <a:off x="4724280" y="523872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2" name=""/>
          <p:cNvSpPr/>
          <p:nvPr/>
        </p:nvSpPr>
        <p:spPr>
          <a:xfrm>
            <a:off x="4724280" y="472140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3" name=""/>
          <p:cNvSpPr/>
          <p:nvPr/>
        </p:nvSpPr>
        <p:spPr>
          <a:xfrm>
            <a:off x="4724280" y="420372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นต่อพันค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4" name=""/>
          <p:cNvSpPr/>
          <p:nvPr/>
        </p:nvSpPr>
        <p:spPr>
          <a:xfrm>
            <a:off x="4724280" y="368604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าราง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5" name=""/>
          <p:cNvSpPr/>
          <p:nvPr/>
        </p:nvSpPr>
        <p:spPr>
          <a:xfrm>
            <a:off x="4724280" y="316872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ิโลกรั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6" name=""/>
          <p:cNvSpPr/>
          <p:nvPr/>
        </p:nvSpPr>
        <p:spPr>
          <a:xfrm>
            <a:off x="4724280" y="265104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213372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ลั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575640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ครกที่ผลิตได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523872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งานที่มีการจ้า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" y="472140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ายได้ต่อหั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1" name=""/>
          <p:cNvSpPr/>
          <p:nvPr/>
        </p:nvSpPr>
        <p:spPr>
          <a:xfrm>
            <a:off x="228600" y="420372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อัตราผู้ติดย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" y="368604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ื้นที่น้ำท่วมที่เหล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" y="316872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265104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วามยาวถน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" y="213372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ศาลาที่สร้างเสร็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472140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7" name=""/>
          <p:cNvSpPr/>
          <p:nvPr/>
        </p:nvSpPr>
        <p:spPr>
          <a:xfrm>
            <a:off x="6477120" y="420372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8" name=""/>
          <p:cNvSpPr/>
          <p:nvPr/>
        </p:nvSpPr>
        <p:spPr>
          <a:xfrm>
            <a:off x="6477120" y="316872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9" name=""/>
          <p:cNvSpPr/>
          <p:nvPr/>
        </p:nvSpPr>
        <p:spPr>
          <a:xfrm>
            <a:off x="6324480" y="2666880"/>
            <a:ext cx="2362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0" name=""/>
          <p:cNvSpPr/>
          <p:nvPr/>
        </p:nvSpPr>
        <p:spPr>
          <a:xfrm>
            <a:off x="6477120" y="213372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28600" y="1523880"/>
            <a:ext cx="8305920" cy="4749840"/>
            <a:chOff x="228600" y="1523880"/>
            <a:chExt cx="8305920" cy="4749840"/>
          </a:xfrm>
        </p:grpSpPr>
        <p:sp>
          <p:nvSpPr>
            <p:cNvPr id="652" name=""/>
            <p:cNvSpPr/>
            <p:nvPr/>
          </p:nvSpPr>
          <p:spPr>
            <a:xfrm>
              <a:off x="2819520" y="1523880"/>
              <a:ext cx="1904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ผลผลิต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724280" y="1523880"/>
              <a:ext cx="1752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หน่วยนั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8600" y="1523880"/>
              <a:ext cx="2590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เชิงปริมาณ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477120" y="1523880"/>
              <a:ext cx="2057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เชิงคุณภาพ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8600" y="1523880"/>
              <a:ext cx="830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8600" y="2133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8600" y="265104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8600" y="3168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368604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8600" y="4203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8600" y="472140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8600" y="5238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8600" y="575640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8600" y="6273720"/>
              <a:ext cx="830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534520" y="1523880"/>
              <a:ext cx="0" cy="474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8600" y="368604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8600" y="1523880"/>
              <a:ext cx="0" cy="2162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8600" y="4203720"/>
              <a:ext cx="0" cy="207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19520" y="1523880"/>
              <a:ext cx="0" cy="474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77120" y="1523880"/>
              <a:ext cx="0" cy="474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4280" y="1523880"/>
              <a:ext cx="0" cy="474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4" name=""/>
          <p:cNvSpPr/>
          <p:nvPr/>
        </p:nvSpPr>
        <p:spPr>
          <a:xfrm>
            <a:off x="6606000" y="365904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5" name=""/>
          <p:cNvSpPr/>
          <p:nvPr/>
        </p:nvSpPr>
        <p:spPr>
          <a:xfrm>
            <a:off x="6765840" y="525924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6" name=""/>
          <p:cNvSpPr/>
          <p:nvPr/>
        </p:nvSpPr>
        <p:spPr>
          <a:xfrm>
            <a:off x="6477120" y="57927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9F3-11ED-4E8A-BDF1-0E01BC72C18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แปลงจุดมุ่งหมายไปสู่เป้าหมาย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95280" y="1676520"/>
          <a:ext cx="8497800" cy="441648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A04-29E8-4DD2-A7F2-E774422A2B3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แปลงจุดมุ่งหมายไปสู่เป้าหมาย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395280" y="1676520"/>
          <a:ext cx="8497800" cy="470844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บริการโครงสร้างพื้นฐานครบถ้ว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ระยะทางถนนที่ได้รับการซ่อ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ครัวเรือนที่มีไฟฟ้าใช้เพิ่มขึ้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ถนนชำรุดเสียห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ม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า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ม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ครัวเรือนไม่มีไฟฟ้าใช้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 จา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ม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40E-C294-4008-8D30-2E1BF32E876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ตัวอย่างการแปลงจุดมุ่งหมายไปสู่เป้าหมายการพัฒน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395280" y="1676520"/>
          <a:ext cx="8497800" cy="456228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รายได้ต่อหัวต่อปีสูงกว่าเส้นความยากจน หรือ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หมื่น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มีรายได้ต่อหัวทีผ่านเกณฑ์ความยากจนที่เพิ่มขึ้นต่อป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มีรายได้ต่อหัวต่อปีต่ำกว่าเกณฑ์ จำนวน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พันคน จากจำนวนประชากร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หมื่นค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636-F93F-4323-86D5-9FF561E2027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ตัวอย่างการแปลงจุดมุ่งหมายไปสู่เป้าหมายการพัฒน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395280" y="1676520"/>
          <a:ext cx="8497800" cy="470844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ผู้ที่มีอายุตั้งแต่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ขึ้นไปรู้หนังสือ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อร์เซนต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ร้อยละของผู้ที่รู้หนังสื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อายุ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ขึ้นไป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ที่รู้หนังสือที่เพิ่มขึ้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ที่มีอายุ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ขึ้นไปไม่รู้หนังสือ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พันค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ากจำนวนทั้งสิ้น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หมื่นคน หรือคิดเป็น ร้อยละ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องประชาชนทั้งหม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4D1-3A1B-450A-B949-72D81076E34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1844640"/>
            <a:ext cx="8128080" cy="83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cc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กิจกรรมภายในโครงการ ถูกออกแบบเพื่อให้ได้ข้อมูลป้อนกลับ </a:t>
            </a: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(feedback) </a:t>
            </a:r>
            <a:r>
              <a:rPr b="1" lang="en-US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เกี่ยวกับการดำเนินโครงการ เช่น ปัญหาที่กำลังเผชิญ ประสิทธิภาพของวิธีการดำเนินงาน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เทคนิค </a:t>
            </a: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Gantt Chart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ติดตาม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monitoring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687-3B50-41C3-BF5D-CB1061D924EB}" type="slidenum">
              <a:t>6</a:t>
            </a:fld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</a:rPr>
              <a:t>ยุทธศาสตร์และแนวทางการพัฒนา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685800" y="1981080"/>
          <a:ext cx="7772400" cy="405756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ยุทธศาสตร์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แนวทาง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็นภาพรวมของหลายแนวทางการพัฒนาที่เลือกว่าจะนำไปสู่การปฏิบัต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ลับไปภาพรวมของแต่ละประเภทความต้องการการพัฒน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ลับไปดูสาเหตุของปัญหา ความคิดริเริ่มจากศักยภาพ และดูจากตาราง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sw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3048120" y="6095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5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705-0058-4964-B66F-0E89493126A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ตัวอย่างยุทธศาสตร์และแนวทางการพัฒน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685800" y="1981080"/>
          <a:ext cx="7772400" cy="405756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ยุทธศาสตร์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แนวทาง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พัฒนารายได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พัฒนาฝีมือแรงงา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ส่งเสริมการตลา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ฝึกอบรมช่างยนต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ยกระดับฝีมือแรงงา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อบรมการทำอาห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ร่วมงานแสดงสินค้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สร้างศูนย์จำหน่ายสินค้าท้องถิ่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4" name=""/>
          <p:cNvSpPr/>
          <p:nvPr/>
        </p:nvSpPr>
        <p:spPr>
          <a:xfrm>
            <a:off x="3048120" y="6095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5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F20-4247-4AE0-9E4E-072B44F31C9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การนำแผนยุทธศาสตร์การพัฒนาท้องถิ่นไปสู่การปฏิบัติและการติดตามประเมินผล</a:t>
            </a:r>
            <a:br>
              <a:rPr sz="28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ยุทธศาสตร์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.........................................</a:t>
            </a:r>
            <a:br>
              <a:rPr sz="24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แนวทาง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 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826920" y="1676520"/>
          <a:ext cx="8137800" cy="4200480"/>
        </p:xfrm>
        <a:graphic>
          <a:graphicData uri="http://schemas.openxmlformats.org/drawingml/2006/table">
            <a:tbl>
              <a:tblPr/>
              <a:tblGrid>
                <a:gridCol w="1103400"/>
                <a:gridCol w="863640"/>
                <a:gridCol w="914400"/>
                <a:gridCol w="792360"/>
                <a:gridCol w="792000"/>
                <a:gridCol w="792000"/>
                <a:gridCol w="863640"/>
                <a:gridCol w="792360"/>
                <a:gridCol w="1224000"/>
              </a:tblGrid>
              <a:tr h="482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2971800" y="63244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6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854-DBCE-47FF-AC55-D9A78D41AF3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การนำแผนยุทธศาสตร์การพัฒนาท้องถิ่นไปสู่การปฏิบัติและการติดตามประเมินผล</a:t>
            </a:r>
            <a:br>
              <a:rPr sz="28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ยุทธศาสตร์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0" lang="hi-IN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จัดความยากจนระดับฐานราก</a:t>
            </a:r>
            <a:br>
              <a:rPr sz="24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แนวทาง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การพัฒนาฝีมือแรงงาน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826920" y="1676520"/>
          <a:ext cx="8137800" cy="4200480"/>
        </p:xfrm>
        <a:graphic>
          <a:graphicData uri="http://schemas.openxmlformats.org/drawingml/2006/table">
            <a:tbl>
              <a:tblPr/>
              <a:tblGrid>
                <a:gridCol w="1103400"/>
                <a:gridCol w="863640"/>
                <a:gridCol w="914400"/>
                <a:gridCol w="792360"/>
                <a:gridCol w="792000"/>
                <a:gridCol w="792000"/>
                <a:gridCol w="863640"/>
                <a:gridCol w="79236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ฝึกอบรมช่างยนต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ผ่านการฝึกอบ 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องช่า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>
            <a:off x="539640" y="61657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6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C21-A444-4327-844A-B4426C644FE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ทคนิคการควบคุมเพื่อการติดตามและประเมินผลการดำเนินงาน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Gantt Chart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539640" y="1268280"/>
          <a:ext cx="8137800" cy="5589720"/>
        </p:xfrm>
        <a:graphic>
          <a:graphicData uri="http://schemas.openxmlformats.org/drawingml/2006/table">
            <a:tbl>
              <a:tblPr/>
              <a:tblGrid>
                <a:gridCol w="2016360"/>
                <a:gridCol w="576000"/>
                <a:gridCol w="576360"/>
                <a:gridCol w="576360"/>
                <a:gridCol w="720720"/>
                <a:gridCol w="718920"/>
                <a:gridCol w="720720"/>
                <a:gridCol w="100836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/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ะดั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วามสำเร็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ะยะเวลา ปีงบประมาณ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...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ิดตามการการมีส่วนร่วมในแผนชุมชนกับแผนพัฒนาท้องถิ่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ิดตาม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ิดตามงานสวัสดิการสังค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เบี้ยยังชีพคนชร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ngsana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ช่วยผู้พิการ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ผู้ป่วยโรคเอดส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ฯล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ลุ่ม ก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ลุ่ม ข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 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ทุกกลุ่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>
            <a:off x="4643280" y="422100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4" name=""/>
          <p:cNvSpPr/>
          <p:nvPr/>
        </p:nvSpPr>
        <p:spPr>
          <a:xfrm>
            <a:off x="5076720" y="5373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5" name=""/>
          <p:cNvSpPr/>
          <p:nvPr/>
        </p:nvSpPr>
        <p:spPr>
          <a:xfrm>
            <a:off x="6443640" y="5805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699640" y="263700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7" name=""/>
          <p:cNvSpPr/>
          <p:nvPr/>
        </p:nvSpPr>
        <p:spPr>
          <a:xfrm>
            <a:off x="2771640" y="2565360"/>
            <a:ext cx="287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8" name=""/>
          <p:cNvSpPr/>
          <p:nvPr/>
        </p:nvSpPr>
        <p:spPr>
          <a:xfrm>
            <a:off x="3564000" y="29242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9" name=""/>
          <p:cNvSpPr/>
          <p:nvPr/>
        </p:nvSpPr>
        <p:spPr>
          <a:xfrm>
            <a:off x="2771640" y="53737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0" name=""/>
          <p:cNvSpPr/>
          <p:nvPr/>
        </p:nvSpPr>
        <p:spPr>
          <a:xfrm>
            <a:off x="2771640" y="4076640"/>
            <a:ext cx="28764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1" name=""/>
          <p:cNvSpPr/>
          <p:nvPr/>
        </p:nvSpPr>
        <p:spPr>
          <a:xfrm>
            <a:off x="2771640" y="580536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96C-01D4-43D4-B881-2796CD9486A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กำหนดแนวทางหรือกลยุทธ์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หมายถึง ข้อความที่แนะนำวิธีการดำเนินการเพื่อ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ให้บรรลุเป้าหมาย วัตถุประสงค์ จุดมุ่งหมาย และ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วิสัยทัศน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ได้จากการนำวัตถุประสงค์มาตั้งคำถามขึ้นต้นด้ว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ngsana New"/>
              </a:rPr>
              <a:t>ทำอย่างไรเราถึงจะสามารถ………</a:t>
            </a:r>
            <a:r>
              <a:rPr b="1" i="1" lang="en-US" sz="3600" spc="-1" strike="noStrike">
                <a:solidFill>
                  <a:srgbClr val="000000"/>
                </a:solidFill>
                <a:latin typeface="Angsana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คำตอบที่ได้จะเป็นแนวทางการพัฒน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ในแต่ละวัตถุประสงค์สามารถมีได้หลายแนวทา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8EA-C121-4B12-8F1E-9B427D3797D2}" type="slidenum">
              <a:t>65</a:t>
            </a:fld>
          </a:p>
        </p:txBody>
      </p:sp>
    </p:spTree>
  </p:cSld>
  <p:transition>
    <p:cover dir="l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893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ngsana New"/>
                <a:cs typeface="Angsana New"/>
              </a:rPr>
              <a:t>ทำไมต้องประเมินผลงานและจัดการเชิงกลยุทธ์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5" name=""/>
          <p:cNvSpPr/>
          <p:nvPr/>
        </p:nvSpPr>
        <p:spPr>
          <a:xfrm>
            <a:off x="468360" y="1268280"/>
            <a:ext cx="7647120" cy="1556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1. </a:t>
            </a:r>
            <a:r>
              <a:rPr b="1" lang="hi-IN" sz="48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วามซับซ้อน การเปลี่ยนแปลงตลอดเวล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6" name=""/>
          <p:cNvSpPr/>
          <p:nvPr/>
        </p:nvSpPr>
        <p:spPr>
          <a:xfrm>
            <a:off x="611280" y="1989000"/>
            <a:ext cx="7315200" cy="82512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ngsana New"/>
              </a:rPr>
              <a:t>2. </a:t>
            </a:r>
            <a:r>
              <a:rPr b="1" lang="hi-IN" sz="4800" spc="-1" strike="noStrike">
                <a:solidFill>
                  <a:srgbClr val="008000"/>
                </a:solidFill>
                <a:latin typeface="Angsana New"/>
                <a:cs typeface="Angsana New"/>
              </a:rPr>
              <a:t>มีการแข่งขันอย่างรุนแร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7" name=""/>
          <p:cNvSpPr/>
          <p:nvPr/>
        </p:nvSpPr>
        <p:spPr>
          <a:xfrm>
            <a:off x="684360" y="2781360"/>
            <a:ext cx="7315200" cy="82512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ngsana New"/>
              </a:rPr>
              <a:t>3. </a:t>
            </a:r>
            <a:r>
              <a:rPr b="1" lang="hi-IN" sz="4800" spc="-1" strike="noStrike">
                <a:solidFill>
                  <a:srgbClr val="800080"/>
                </a:solidFill>
                <a:latin typeface="Angsana New"/>
                <a:cs typeface="Angsana New"/>
              </a:rPr>
              <a:t>มีการใช้เทคโนโลยีใหม่ ๆ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8" name=""/>
          <p:cNvSpPr/>
          <p:nvPr/>
        </p:nvSpPr>
        <p:spPr>
          <a:xfrm>
            <a:off x="826920" y="3500280"/>
            <a:ext cx="7770960" cy="1556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4. </a:t>
            </a:r>
            <a:r>
              <a:rPr b="1" lang="hi-IN" sz="48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การเปลี่ยนแปลงทางเศรษฐกิจและสังคม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9" name=""/>
          <p:cNvSpPr/>
          <p:nvPr/>
        </p:nvSpPr>
        <p:spPr>
          <a:xfrm>
            <a:off x="971640" y="4221000"/>
            <a:ext cx="7315200" cy="155628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5.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องประหยัดทรัพยากรในการทำงา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0" name=""/>
          <p:cNvSpPr/>
          <p:nvPr/>
        </p:nvSpPr>
        <p:spPr>
          <a:xfrm>
            <a:off x="1116000" y="4941720"/>
            <a:ext cx="7315200" cy="1556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ngsana New"/>
              </a:rPr>
              <a:t>6. </a:t>
            </a:r>
            <a:r>
              <a:rPr b="1" lang="hi-IN" sz="4800" spc="-1" strike="noStrike">
                <a:solidFill>
                  <a:srgbClr val="cc0099"/>
                </a:solidFill>
                <a:latin typeface="Angsana New"/>
                <a:cs typeface="Angsana New"/>
              </a:rPr>
              <a:t>การทำงานต้องมุ่งผลสัมฤทธิ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1" name=""/>
          <p:cNvSpPr/>
          <p:nvPr/>
        </p:nvSpPr>
        <p:spPr>
          <a:xfrm>
            <a:off x="1332000" y="5661000"/>
            <a:ext cx="7315200" cy="155628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ngsana New"/>
                <a:ea typeface="Angsana New"/>
              </a:rPr>
              <a:t>7. </a:t>
            </a:r>
            <a:r>
              <a:rPr b="1" lang="hi-IN" sz="4800" spc="-1" strike="noStrike">
                <a:solidFill>
                  <a:srgbClr val="008000"/>
                </a:solidFill>
                <a:latin typeface="Angsana New"/>
                <a:cs typeface="Angsana New"/>
              </a:rPr>
              <a:t>ให้แน่ใจว่าบรรลุเป้าหมายได้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DA1-B70C-40D7-A378-3F1FEAE019AB}" type="slidenum">
              <a:t>66</a:t>
            </a:fld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826920" y="2362320"/>
            <a:ext cx="7921800" cy="4306680"/>
          </a:xfrm>
          <a:custGeom>
            <a:avLst/>
            <a:gdLst>
              <a:gd name="textAreaLeft" fmla="*/ 507240 w 7921800"/>
              <a:gd name="textAreaRight" fmla="*/ 7414560 w 7921800"/>
              <a:gd name="textAreaTop" fmla="*/ 507240 h 4306680"/>
              <a:gd name="textAreaBottom" fmla="*/ 3799440 h 4306680"/>
            </a:gdLst>
            <a:ahLst/>
            <a:rect l="textAreaLeft" t="textAreaTop" r="textAreaRight" b="textAreaBottom"/>
            <a:pathLst>
              <a:path w="397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6130" y="21600"/>
                </a:lnTo>
                <a:arcTo wR="3600" hR="3600" stAng="10800000" swAng="5400000"/>
                <a:lnTo>
                  <a:pt x="397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3" name=""/>
          <p:cNvSpPr/>
          <p:nvPr/>
        </p:nvSpPr>
        <p:spPr>
          <a:xfrm>
            <a:off x="1403280" y="2565360"/>
            <a:ext cx="6985080" cy="76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ะบวนการกำหนดทิศทางระยะยาว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ำหนด ดำเนิน ประเมิน บริหารกลยุทธ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ุ่งความสอดคล้อง วัตถุประสงค์เดียวกั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990720" y="533520"/>
            <a:ext cx="716256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การจัดการ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/</a:t>
            </a: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บริหารเชิงกลยุทธ์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3A8-C259-4D0D-9E30-CBD51584EBC4}" type="slidenum">
              <a:t>67</a:t>
            </a:fld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0479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9933ff"/>
                </a:solidFill>
                <a:latin typeface="Angsana New"/>
                <a:cs typeface="Angsana New"/>
              </a:rPr>
              <a:t>เกณฑ์มาตรฐานและตัวชี้วัด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143000" y="306684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1349"/>
              </a:spcBef>
              <a:buClr>
                <a:srgbClr val="ff99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99cc"/>
                </a:solidFill>
                <a:latin typeface="Angsana New"/>
                <a:cs typeface="Angsana New"/>
              </a:rPr>
              <a:t>เกณฑ์สำหรับประเมินผลหน่วยงา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295280"/>
            <a:ext cx="38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00"/>
                </a:solidFill>
                <a:latin typeface="Angsana New"/>
              </a:rPr>
              <a:t>ประกอบด้วย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3809880"/>
            <a:ext cx="7772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4495680"/>
            <a:ext cx="7772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99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0" name=""/>
          <p:cNvSpPr/>
          <p:nvPr/>
        </p:nvSpPr>
        <p:spPr>
          <a:xfrm>
            <a:off x="1116000" y="4437000"/>
            <a:ext cx="7772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349"/>
              </a:spcBef>
              <a:buClr>
                <a:srgbClr val="66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66ff99"/>
                </a:solidFill>
                <a:latin typeface="Angsana New"/>
                <a:cs typeface="Angsana New"/>
              </a:rPr>
              <a:t>เกณฑ์สำหรับประเมินผลโครงกา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" y="2514600"/>
            <a:ext cx="8610480" cy="3962520"/>
          </a:xfrm>
          <a:custGeom>
            <a:avLst/>
            <a:gdLst/>
            <a:ahLst/>
            <a:rect l="l" t="t" r="r" b="b"/>
            <a:pathLst>
              <a:path w="2328" h="1072">
                <a:moveTo>
                  <a:pt x="880" y="152"/>
                </a:moveTo>
                <a:cubicBezTo>
                  <a:pt x="792" y="168"/>
                  <a:pt x="760" y="96"/>
                  <a:pt x="688" y="104"/>
                </a:cubicBezTo>
                <a:cubicBezTo>
                  <a:pt x="616" y="112"/>
                  <a:pt x="520" y="184"/>
                  <a:pt x="448" y="200"/>
                </a:cubicBezTo>
                <a:cubicBezTo>
                  <a:pt x="376" y="216"/>
                  <a:pt x="320" y="184"/>
                  <a:pt x="256" y="200"/>
                </a:cubicBezTo>
                <a:cubicBezTo>
                  <a:pt x="192" y="216"/>
                  <a:pt x="88" y="240"/>
                  <a:pt x="64" y="296"/>
                </a:cubicBezTo>
                <a:cubicBezTo>
                  <a:pt x="40" y="352"/>
                  <a:pt x="120" y="464"/>
                  <a:pt x="112" y="536"/>
                </a:cubicBezTo>
                <a:cubicBezTo>
                  <a:pt x="104" y="608"/>
                  <a:pt x="0" y="656"/>
                  <a:pt x="16" y="728"/>
                </a:cubicBezTo>
                <a:cubicBezTo>
                  <a:pt x="32" y="800"/>
                  <a:pt x="128" y="928"/>
                  <a:pt x="208" y="968"/>
                </a:cubicBezTo>
                <a:cubicBezTo>
                  <a:pt x="288" y="1008"/>
                  <a:pt x="408" y="952"/>
                  <a:pt x="496" y="968"/>
                </a:cubicBezTo>
                <a:cubicBezTo>
                  <a:pt x="584" y="984"/>
                  <a:pt x="656" y="1056"/>
                  <a:pt x="736" y="1064"/>
                </a:cubicBezTo>
                <a:cubicBezTo>
                  <a:pt x="816" y="1072"/>
                  <a:pt x="880" y="1032"/>
                  <a:pt x="976" y="1016"/>
                </a:cubicBezTo>
                <a:cubicBezTo>
                  <a:pt x="1072" y="1000"/>
                  <a:pt x="1200" y="968"/>
                  <a:pt x="1312" y="968"/>
                </a:cubicBezTo>
                <a:cubicBezTo>
                  <a:pt x="1424" y="968"/>
                  <a:pt x="1536" y="1024"/>
                  <a:pt x="1648" y="1016"/>
                </a:cubicBezTo>
                <a:cubicBezTo>
                  <a:pt x="1760" y="1008"/>
                  <a:pt x="1880" y="936"/>
                  <a:pt x="1984" y="920"/>
                </a:cubicBezTo>
                <a:cubicBezTo>
                  <a:pt x="2088" y="904"/>
                  <a:pt x="2216" y="968"/>
                  <a:pt x="2272" y="920"/>
                </a:cubicBezTo>
                <a:cubicBezTo>
                  <a:pt x="2328" y="872"/>
                  <a:pt x="2328" y="712"/>
                  <a:pt x="2320" y="632"/>
                </a:cubicBezTo>
                <a:cubicBezTo>
                  <a:pt x="2312" y="552"/>
                  <a:pt x="2256" y="512"/>
                  <a:pt x="2224" y="440"/>
                </a:cubicBezTo>
                <a:cubicBezTo>
                  <a:pt x="2192" y="368"/>
                  <a:pt x="2192" y="248"/>
                  <a:pt x="2128" y="200"/>
                </a:cubicBezTo>
                <a:cubicBezTo>
                  <a:pt x="2064" y="152"/>
                  <a:pt x="1944" y="168"/>
                  <a:pt x="1840" y="152"/>
                </a:cubicBezTo>
                <a:cubicBezTo>
                  <a:pt x="1736" y="136"/>
                  <a:pt x="1608" y="128"/>
                  <a:pt x="1504" y="104"/>
                </a:cubicBezTo>
                <a:cubicBezTo>
                  <a:pt x="1400" y="80"/>
                  <a:pt x="1312" y="0"/>
                  <a:pt x="1216" y="8"/>
                </a:cubicBezTo>
                <a:cubicBezTo>
                  <a:pt x="1120" y="16"/>
                  <a:pt x="968" y="136"/>
                  <a:pt x="880" y="15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FF8-4042-42B1-82EE-B47C958A8996}" type="slidenum">
              <a:t>68</a:t>
            </a:fld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7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22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ตัวชี้วัด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B49-9D5F-4628-B5B6-5AC8EFFCF2F6}" type="slidenum">
              <a:t>69</a:t>
            </a:fld>
          </a:p>
        </p:txBody>
      </p:sp>
    </p:spTree>
  </p:cSld>
  <p:transition>
    <p:random/>
  </p:transition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844640"/>
            <a:ext cx="8128080" cy="78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ตรวจสอบผลการดำเนินงานใน  ระหว่างกำลังดำเนินการ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(On-going)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การดำเนินการเสร็จสิ้นแล้ว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(Ex-Post)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เป็นสิ่งที่บ่งชี้ได้ว่ามีการปฏิบัติตามแผนหรือไม่ อย่างไร ดูความสอดคล้องในการใช้ทรัพยากร เตือนล่วงหน้า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ประเมินผล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evaluation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692-1071-4805-843C-EDBE631236D6}" type="slidenum">
              <a:t>7</a:t>
            </a:fld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1.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สัมฤทธิ์ผล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ผลิตภาพรวม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ผลิตระดับปฏิบัติการ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4EA-0D2E-4CF0-8B47-03401BF98C38}" type="slidenum">
              <a:t>70</a:t>
            </a:fld>
          </a:p>
        </p:txBody>
      </p:sp>
    </p:spTree>
  </p:cSld>
  <p:transition>
    <p:random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2.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เสมอภาค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เข้าถึง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จัดสรรทรัพยากร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กระจายผลประโยชน์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สมอภาค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112-9F23-4A63-9706-E22861657EAB}" type="slidenum">
              <a:t>71</a:t>
            </a:fld>
          </a:p>
        </p:txBody>
      </p:sp>
    </p:spTree>
  </p:cSld>
  <p:transition>
    <p:random/>
  </p:transition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604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3.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สามารถและคุณภาพ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ในการให้บริการ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มรรถนะของหน่วยงาน       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ทั่วถึงและเพียงพอ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ถี่ในการให้บริการ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สิทธิภาพการให้บริการ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CD1-CF7A-41D3-AEB7-CA2DFAE9E423}" type="slidenum">
              <a:t>72</a:t>
            </a:fld>
          </a:p>
        </p:txBody>
      </p:sp>
    </p:spTree>
  </p:cSld>
  <p:transition>
    <p:random/>
  </p:transition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4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รับผิดชอบต่อ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พันธกิจต่อสังคม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รับผิดชอบต่อสาธารณะ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ให้หลักประกันความเสี่ยง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ยอมรับข้อผิดพลาด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75D-0F77-4678-A007-36FD59386403}" type="slidenum">
              <a:t>73</a:t>
            </a:fld>
          </a:p>
        </p:txBody>
      </p:sp>
    </p:spTree>
  </p:cSld>
  <p:transition>
    <p:random/>
  </p:transition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5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การตอบสนองความต้องการของ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ประชาช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กำหนดประเด็นปัญห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รับฟังความคิดเห็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มาตรการเชิงยุทธศาสตร์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           ในการแก้ไขปัญหา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รวดเร็วในการแก้ปัญหา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1AE-D393-44AF-8E59-4817F53CE5F5}" type="slidenum">
              <a:t>74</a:t>
            </a:fld>
          </a:p>
        </p:txBody>
      </p:sp>
    </p:spTree>
  </p:cSld>
  <p:transition>
    <p:random/>
  </p:transition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6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พึงพอใจของลูกค้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ความพึงพอใ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ยอมรับหรือคัดค้าน</a:t>
            </a: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E63-AE2F-4F62-A33B-85DC12E882D0}" type="slidenum">
              <a:t>75</a:t>
            </a:fld>
          </a:p>
        </p:txBody>
      </p:sp>
    </p:spTree>
  </p:cSld>
  <p:transition>
    <p:random/>
  </p:transition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7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ผลเสียหายต่อสังคม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ภายนอก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ต้นทุนทางสังคม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71D-C632-4725-B0F1-52305EA59790}" type="slidenum">
              <a:t>76</a:t>
            </a:fld>
          </a:p>
        </p:txBody>
      </p:sp>
    </p:spTree>
  </p:cSld>
  <p:transition>
    <p:random/>
  </p:transition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8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27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ตัวชี้วัด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114-C2AF-4546-8371-769568EBDB38}" type="slidenum">
              <a:t>77</a:t>
            </a:fld>
          </a:p>
        </p:txBody>
      </p:sp>
    </p:spTree>
  </p:cSld>
  <p:transition>
    <p:random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1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ก้าวหน้า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Progres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ผลิตเทียบเป้าหมายรวมใน  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           ช่วงเวล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จำนวนกิจกรรมที่แล้วเสร็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ทรัพยากรที่ใช้ไปในช่วงเวล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ยะเวลาที่ใช้ไป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1CA-1AF2-473E-8757-3AB281D745AD}" type="slidenum">
              <a:t>78</a:t>
            </a:fld>
          </a:p>
        </p:txBody>
      </p:sp>
    </p:spTree>
  </p:cSld>
  <p:transition>
    <p:random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2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ประสิทธิภาพ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fficiency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ัดส่วนผลผลิตต่อค่าใช้จ่าย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ิตภาพต่อกำลังค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ิตภาพต่อหน่วยเวล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ประหยัดทรัพยากรการจัดการ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D06-3683-4E27-802A-94E9A8C4F2A0}" type="slidenum">
              <a:t>79</a:t>
            </a:fld>
          </a:p>
        </p:txBody>
      </p:sp>
    </p:spTree>
  </p:cSld>
  <p:transition>
    <p:random/>
  </p:transition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341360"/>
            <a:ext cx="8128080" cy="76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เป็นข้อมูลย้อนกลับเพื่อการตัดสินใจวางแผนในอนาคต 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ตัดสินคุณค่าโดยใช้ข้อมูลที่รวบรวมอย่างเป็นระบบ เที่ยงตรง ปรนัย  เชื่อถือได้  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Standard criteria, Benmarking, KPI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ประเมินผล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evaluation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3C0-AB62-42AD-846F-D2B5A23CE926}" type="slidenum">
              <a:t>8</a:t>
            </a:fld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3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ประสิทธิผล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ffectivenes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การบรรลุเป้าหมาย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การมีส่วนร่วม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ความพึงพอใจ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สี่ยงของโครงการ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378-DF21-4761-865C-681826E9F2B3}" type="slidenum">
              <a:t>80</a:t>
            </a:fld>
          </a:p>
        </p:txBody>
      </p:sp>
    </p:spTree>
  </p:cSld>
  <p:transition>
    <p:random/>
  </p:transition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4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ผลกระทบ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Impact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ุณภาพชีวิต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ทัศนคติและความเข้าใ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เปลี่ยนแปลงพฤติกรรม </a:t>
            </a: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C88-7626-4A9E-82A7-34F67F8C2C8F}" type="slidenum">
              <a:t>81</a:t>
            </a:fld>
          </a:p>
        </p:txBody>
      </p:sp>
    </p:spTree>
  </p:cSld>
  <p:transition>
    <p:random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5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สอดคล้อง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Relevance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ด็นปัญหาหลัก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มาตรการ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/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ลยุทธ์ในการแก้ไขปัญหา   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ต้องการ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/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ข้อเรียกร้องของ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             กลุ่มเป้าหมาย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97D-4377-4459-AC4A-FC8399BD4AA9}" type="slidenum">
              <a:t>82</a:t>
            </a:fld>
          </a:p>
        </p:txBody>
      </p:sp>
    </p:spTree>
  </p:cSld>
  <p:transition>
    <p:random/>
  </p:transition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6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ยั่งยืน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Sustainability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อยู่รอดด้านเศรษฐกิ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มรรถนะด้านสถาบั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ไปได้ในการขยายผล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55C-D839-4437-B417-4AED4F0041E2}" type="slidenum">
              <a:t>83</a:t>
            </a:fld>
          </a:p>
        </p:txBody>
      </p:sp>
    </p:spTree>
  </p:cSld>
  <p:transition>
    <p:random/>
  </p:transition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7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เป็นธรรม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quity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ธรรมระหว่างกลุ่มอาชีพ  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ธรรมระหว่างเพศ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ธรรมระหว่างชนรุ่น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64C-9E43-43F2-9DD6-6CAEF040BB4B}" type="slidenum">
              <a:t>84</a:t>
            </a:fld>
          </a:p>
        </p:txBody>
      </p:sp>
    </p:spTree>
  </p:cSld>
  <p:transition>
    <p:random/>
  </p:transition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8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เสียหายของโครงการ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xternalitie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ด้านสิ่งแวดล้อม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ด้านเศรษฐกิจ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ด้านสังคมและวัฒนธรรม </a:t>
            </a: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5DF-E0ED-452B-B856-5E2FA13975CC}" type="slidenum">
              <a:t>85</a:t>
            </a:fld>
          </a:p>
        </p:txBody>
      </p:sp>
    </p:spTree>
  </p:cSld>
  <p:transition>
    <p:random/>
  </p:transition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533520" y="38088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066680" y="1066680"/>
            <a:ext cx="70106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Browallia New"/>
              </a:rPr>
              <a:t>รูปแบบการติดตามประเมินผล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768" name=""/>
          <p:cNvSpPr/>
          <p:nvPr/>
        </p:nvSpPr>
        <p:spPr>
          <a:xfrm>
            <a:off x="971640" y="2994120"/>
            <a:ext cx="75596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spcBef>
                <a:spcPts val="2812"/>
              </a:spcBef>
              <a:buClr>
                <a:srgbClr val="ffff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ารใช้กระบวนการวิธีวิจัย  เช่น ทำโพลสำรวจความพึงพอใจของประชาชน</a:t>
            </a:r>
            <a:endParaRPr b="0" lang="en-US" sz="45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spcBef>
                <a:spcPts val="2812"/>
              </a:spcBef>
              <a:buClr>
                <a:srgbClr val="ffff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ารใช้การวิเคราะห์ระบบ  เช่น การทำ </a:t>
            </a:r>
            <a:r>
              <a:rPr b="1" lang="en-US" sz="4500" spc="-1" strike="noStrike">
                <a:solidFill>
                  <a:srgbClr val="ffff00"/>
                </a:solidFill>
                <a:latin typeface="Angsana New"/>
                <a:ea typeface="Angsana New"/>
              </a:rPr>
              <a:t>SAR                                             (Self Assessment Report)</a:t>
            </a:r>
            <a:endParaRPr b="0" lang="en-US" sz="4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3B5-BDC1-4652-8ACB-8248E1E62286}" type="slidenum">
              <a:t>86</a:t>
            </a:fld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295280" y="609480"/>
            <a:ext cx="7086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66"/>
                </a:solidFill>
                <a:latin typeface="Browallia New"/>
              </a:rPr>
              <a:t>ระบบติดตามและประเมินผล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66"/>
              </a:solidFill>
              <a:latin typeface="Browallia New"/>
              <a:ea typeface="Browallia New"/>
            </a:endParaRPr>
          </a:p>
        </p:txBody>
      </p:sp>
      <p:sp>
        <p:nvSpPr>
          <p:cNvPr id="770" name=""/>
          <p:cNvSpPr/>
          <p:nvPr/>
        </p:nvSpPr>
        <p:spPr>
          <a:xfrm>
            <a:off x="684360" y="249228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1" name=""/>
          <p:cNvSpPr/>
          <p:nvPr/>
        </p:nvSpPr>
        <p:spPr>
          <a:xfrm>
            <a:off x="1258920" y="2205000"/>
            <a:ext cx="7273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2" name=""/>
          <p:cNvSpPr/>
          <p:nvPr/>
        </p:nvSpPr>
        <p:spPr>
          <a:xfrm>
            <a:off x="755640" y="2781360"/>
            <a:ext cx="1152360" cy="2196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3" name=""/>
          <p:cNvSpPr/>
          <p:nvPr/>
        </p:nvSpPr>
        <p:spPr>
          <a:xfrm>
            <a:off x="212400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4" name=""/>
          <p:cNvSpPr/>
          <p:nvPr/>
        </p:nvSpPr>
        <p:spPr>
          <a:xfrm>
            <a:off x="2771640" y="2852640"/>
            <a:ext cx="1152720" cy="289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PRO CESS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5" name=""/>
          <p:cNvSpPr/>
          <p:nvPr/>
        </p:nvSpPr>
        <p:spPr>
          <a:xfrm>
            <a:off x="4861080" y="2852640"/>
            <a:ext cx="1223640" cy="2196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6" name=""/>
          <p:cNvSpPr/>
          <p:nvPr/>
        </p:nvSpPr>
        <p:spPr>
          <a:xfrm>
            <a:off x="4140360" y="3213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7" name=""/>
          <p:cNvSpPr/>
          <p:nvPr/>
        </p:nvSpPr>
        <p:spPr>
          <a:xfrm>
            <a:off x="7164360" y="2852640"/>
            <a:ext cx="1584360" cy="2196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 COME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8" name=""/>
          <p:cNvSpPr/>
          <p:nvPr/>
        </p:nvSpPr>
        <p:spPr>
          <a:xfrm>
            <a:off x="644508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9" name=""/>
          <p:cNvSpPr/>
          <p:nvPr/>
        </p:nvSpPr>
        <p:spPr>
          <a:xfrm>
            <a:off x="1547640" y="4437000"/>
            <a:ext cx="3024360" cy="720720"/>
          </a:xfrm>
          <a:prstGeom prst="upArrowCallout">
            <a:avLst>
              <a:gd name="adj1" fmla="val 104917"/>
              <a:gd name="adj2" fmla="val 104908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MONITORING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0" name=""/>
          <p:cNvSpPr/>
          <p:nvPr/>
        </p:nvSpPr>
        <p:spPr>
          <a:xfrm>
            <a:off x="4788000" y="4365720"/>
            <a:ext cx="2736720" cy="718920"/>
          </a:xfrm>
          <a:prstGeom prst="upArrowCallout">
            <a:avLst>
              <a:gd name="adj1" fmla="val 95177"/>
              <a:gd name="adj2" fmla="val 95168"/>
              <a:gd name="adj3" fmla="val 16667"/>
              <a:gd name="adj4" fmla="val 6666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EVALUATION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1" name=""/>
          <p:cNvSpPr/>
          <p:nvPr/>
        </p:nvSpPr>
        <p:spPr>
          <a:xfrm>
            <a:off x="971640" y="1628640"/>
            <a:ext cx="748800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2" name=""/>
          <p:cNvSpPr/>
          <p:nvPr/>
        </p:nvSpPr>
        <p:spPr>
          <a:xfrm>
            <a:off x="161928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3" name=""/>
          <p:cNvSpPr/>
          <p:nvPr/>
        </p:nvSpPr>
        <p:spPr>
          <a:xfrm>
            <a:off x="971640" y="2349360"/>
            <a:ext cx="3585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4" name=""/>
          <p:cNvSpPr/>
          <p:nvPr/>
        </p:nvSpPr>
        <p:spPr>
          <a:xfrm>
            <a:off x="6804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5" name=""/>
          <p:cNvSpPr/>
          <p:nvPr/>
        </p:nvSpPr>
        <p:spPr>
          <a:xfrm>
            <a:off x="3132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6" name=""/>
          <p:cNvSpPr/>
          <p:nvPr/>
        </p:nvSpPr>
        <p:spPr>
          <a:xfrm>
            <a:off x="3995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7" name=""/>
          <p:cNvSpPr/>
          <p:nvPr/>
        </p:nvSpPr>
        <p:spPr>
          <a:xfrm>
            <a:off x="5003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8" name=""/>
          <p:cNvSpPr/>
          <p:nvPr/>
        </p:nvSpPr>
        <p:spPr>
          <a:xfrm>
            <a:off x="7667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0" name=""/>
          <p:cNvSpPr/>
          <p:nvPr/>
        </p:nvSpPr>
        <p:spPr>
          <a:xfrm>
            <a:off x="226836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1" name=""/>
          <p:cNvSpPr/>
          <p:nvPr/>
        </p:nvSpPr>
        <p:spPr>
          <a:xfrm rot="10471800">
            <a:off x="969480" y="4436640"/>
            <a:ext cx="8174160" cy="1871640"/>
          </a:xfrm>
          <a:custGeom>
            <a:avLst/>
            <a:gdLst>
              <a:gd name="textAreaLeft" fmla="*/ 0 w 8174160"/>
              <a:gd name="textAreaRight" fmla="*/ 8174520 w 81741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2" name=""/>
          <p:cNvSpPr/>
          <p:nvPr/>
        </p:nvSpPr>
        <p:spPr>
          <a:xfrm>
            <a:off x="900000" y="5589720"/>
            <a:ext cx="27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FEEDBACK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2FA-ECF0-4504-80AA-B246ECFCB18C}" type="slidenum">
              <a:t>87</a:t>
            </a:fld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52280" y="28548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ngsana New"/>
                <a:cs typeface="Angsana New"/>
              </a:rPr>
              <a:t>ประเด็นการติดตามประเมินผล </a:t>
            </a:r>
            <a:r>
              <a:rPr b="1" lang="en-US" sz="5400" spc="-1" strike="noStrike">
                <a:solidFill>
                  <a:srgbClr val="990033"/>
                </a:solidFill>
                <a:latin typeface="Angsana New"/>
                <a:ea typeface="Angsana New"/>
              </a:rPr>
              <a:t>(IOEEI)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4" name=""/>
          <p:cNvSpPr/>
          <p:nvPr/>
        </p:nvSpPr>
        <p:spPr>
          <a:xfrm>
            <a:off x="1015920" y="1523880"/>
            <a:ext cx="7616880" cy="1143000"/>
          </a:xfrm>
          <a:custGeom>
            <a:avLst/>
            <a:gdLst>
              <a:gd name="textAreaLeft" fmla="*/ 0 w 7616880"/>
              <a:gd name="textAreaRight" fmla="*/ 7617240 w 761688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5" name=""/>
          <p:cNvSpPr/>
          <p:nvPr/>
        </p:nvSpPr>
        <p:spPr>
          <a:xfrm>
            <a:off x="1015920" y="2495520"/>
            <a:ext cx="7616880" cy="1162080"/>
          </a:xfrm>
          <a:custGeom>
            <a:avLst/>
            <a:gdLst>
              <a:gd name="textAreaLeft" fmla="*/ 0 w 7616880"/>
              <a:gd name="textAreaRight" fmla="*/ 7617240 w 7616880"/>
              <a:gd name="textAreaTop" fmla="*/ 150480 h 1162080"/>
              <a:gd name="textAreaBottom" fmla="*/ 101160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6" name=""/>
          <p:cNvSpPr/>
          <p:nvPr/>
        </p:nvSpPr>
        <p:spPr>
          <a:xfrm>
            <a:off x="914400" y="3467160"/>
            <a:ext cx="7616880" cy="1257120"/>
          </a:xfrm>
          <a:custGeom>
            <a:avLst/>
            <a:gdLst>
              <a:gd name="textAreaLeft" fmla="*/ 0 w 7616880"/>
              <a:gd name="textAreaRight" fmla="*/ 7617240 w 7616880"/>
              <a:gd name="textAreaTop" fmla="*/ 162720 h 1257120"/>
              <a:gd name="textAreaBottom" fmla="*/ 1094400 h 1257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ngsana New"/>
              </a:rPr>
              <a:t>Effectiveness </a:t>
            </a:r>
            <a:r>
              <a:rPr b="1" lang="en-US" sz="4800" spc="-1" strike="noStrike">
                <a:solidFill>
                  <a:srgbClr val="ffff99"/>
                </a:solidFill>
                <a:latin typeface="Angsana New"/>
              </a:rPr>
              <a:t>การประเมินประสิทธิผลสำเร็จ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7" name=""/>
          <p:cNvSpPr/>
          <p:nvPr/>
        </p:nvSpPr>
        <p:spPr>
          <a:xfrm>
            <a:off x="914400" y="4495680"/>
            <a:ext cx="7643880" cy="1219320"/>
          </a:xfrm>
          <a:custGeom>
            <a:avLst/>
            <a:gdLst>
              <a:gd name="textAreaLeft" fmla="*/ 0 w 7643880"/>
              <a:gd name="textAreaRight" fmla="*/ 7644240 w 764388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8" name=""/>
          <p:cNvSpPr/>
          <p:nvPr/>
        </p:nvSpPr>
        <p:spPr>
          <a:xfrm>
            <a:off x="941400" y="5562720"/>
            <a:ext cx="7559640" cy="1181160"/>
          </a:xfrm>
          <a:custGeom>
            <a:avLst/>
            <a:gdLst>
              <a:gd name="textAreaLeft" fmla="*/ 0 w 7559640"/>
              <a:gd name="textAreaRight" fmla="*/ 7560000 w 7559640"/>
              <a:gd name="textAreaTop" fmla="*/ 153000 h 1181160"/>
              <a:gd name="textAreaBottom" fmla="*/ 102816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9" name=""/>
          <p:cNvSpPr/>
          <p:nvPr/>
        </p:nvSpPr>
        <p:spPr>
          <a:xfrm>
            <a:off x="990720" y="1523880"/>
            <a:ext cx="66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ngsana New"/>
                <a:ea typeface="Angsana New"/>
              </a:rPr>
              <a:t>Input  </a:t>
            </a:r>
            <a:r>
              <a:rPr b="1" lang="en-US" sz="5400" spc="-1" strike="noStrike">
                <a:solidFill>
                  <a:srgbClr val="ccffcc"/>
                </a:solidFill>
                <a:latin typeface="Angsana New"/>
                <a:cs typeface="Angsana New"/>
              </a:rPr>
              <a:t>ประเมินปัจจัยนำเข้า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0" name=""/>
          <p:cNvSpPr/>
          <p:nvPr/>
        </p:nvSpPr>
        <p:spPr>
          <a:xfrm>
            <a:off x="1219320" y="2514600"/>
            <a:ext cx="66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ngsana New"/>
                <a:ea typeface="Angsana New"/>
              </a:rPr>
              <a:t>Output  </a:t>
            </a:r>
            <a:r>
              <a:rPr b="1" lang="en-US" sz="54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ประเมินผลงา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1" name=""/>
          <p:cNvSpPr/>
          <p:nvPr/>
        </p:nvSpPr>
        <p:spPr>
          <a:xfrm rot="15000">
            <a:off x="1185840" y="4868640"/>
            <a:ext cx="72392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Efficiency  </a:t>
            </a: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การประเมินประสิทธิ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2" name=""/>
          <p:cNvSpPr/>
          <p:nvPr/>
        </p:nvSpPr>
        <p:spPr>
          <a:xfrm rot="145800">
            <a:off x="1243080" y="5660640"/>
            <a:ext cx="68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Angsana New"/>
                <a:ea typeface="Angsana New"/>
              </a:rPr>
              <a:t>      </a:t>
            </a:r>
            <a:r>
              <a:rPr b="1" lang="en-US" sz="4800" spc="-1" strike="noStrike">
                <a:solidFill>
                  <a:srgbClr val="ccffcc"/>
                </a:solidFill>
                <a:latin typeface="Angsana New"/>
                <a:ea typeface="Angsana New"/>
              </a:rPr>
              <a:t>Impacts  </a:t>
            </a:r>
            <a:r>
              <a:rPr b="1" lang="en-US" sz="4800" spc="-1" strike="noStrike">
                <a:solidFill>
                  <a:srgbClr val="ccffcc"/>
                </a:solidFill>
                <a:latin typeface="Angsana New"/>
                <a:cs typeface="Angsana New"/>
              </a:rPr>
              <a:t>การประเมินถึงผลกระทบ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C74-59DE-4192-A4D5-7402FE64C04E}" type="slidenum">
              <a:t>88</a:t>
            </a:fld>
          </a:p>
        </p:txBody>
      </p:sp>
    </p:spTree>
  </p:cSld>
  <p:transition>
    <p:random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0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1042920" y="304920"/>
            <a:ext cx="6729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กระบวนการติดตามและประเมินผล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804" name=""/>
          <p:cNvSpPr/>
          <p:nvPr/>
        </p:nvSpPr>
        <p:spPr>
          <a:xfrm>
            <a:off x="1371600" y="2133720"/>
            <a:ext cx="647712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99"/>
                </a:solidFill>
                <a:latin typeface="Angsana New"/>
                <a:cs typeface="Angsana New"/>
              </a:rPr>
              <a:t>การวางแผนพัฒนาท้องถิ่น</a:t>
            </a:r>
            <a:endParaRPr b="0" lang="en-US" sz="8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6B6-914B-4C81-BF37-6DFE8A6DA2C9}" type="slidenum">
              <a:t>89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95280" y="609480"/>
            <a:ext cx="7086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66"/>
                </a:solidFill>
                <a:latin typeface="Browallia New"/>
              </a:rPr>
              <a:t>ระบบติดตามและประเมินผล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66"/>
              </a:solidFill>
              <a:latin typeface="Browallia New"/>
              <a:ea typeface="Browallia New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9228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2205000"/>
            <a:ext cx="7273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781360"/>
            <a:ext cx="1152360" cy="2561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IN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2852640"/>
            <a:ext cx="1152720" cy="289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PRO CESS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4861080" y="2852640"/>
            <a:ext cx="1223640" cy="2196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3213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"/>
          <p:cNvSpPr/>
          <p:nvPr/>
        </p:nvSpPr>
        <p:spPr>
          <a:xfrm>
            <a:off x="7164360" y="2852640"/>
            <a:ext cx="1584360" cy="2196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 COME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" name=""/>
          <p:cNvSpPr/>
          <p:nvPr/>
        </p:nvSpPr>
        <p:spPr>
          <a:xfrm>
            <a:off x="644508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4437000"/>
            <a:ext cx="3024360" cy="720720"/>
          </a:xfrm>
          <a:prstGeom prst="upArrowCallout">
            <a:avLst>
              <a:gd name="adj1" fmla="val 104917"/>
              <a:gd name="adj2" fmla="val 104908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MONITORING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4365720"/>
            <a:ext cx="2736720" cy="718920"/>
          </a:xfrm>
          <a:prstGeom prst="upArrowCallout">
            <a:avLst>
              <a:gd name="adj1" fmla="val 95177"/>
              <a:gd name="adj2" fmla="val 95168"/>
              <a:gd name="adj3" fmla="val 16667"/>
              <a:gd name="adj4" fmla="val 6666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EVALUATION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628640"/>
            <a:ext cx="748800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2349360"/>
            <a:ext cx="3585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"/>
          <p:cNvSpPr/>
          <p:nvPr/>
        </p:nvSpPr>
        <p:spPr>
          <a:xfrm rot="10471800">
            <a:off x="969480" y="4436640"/>
            <a:ext cx="8174160" cy="1871640"/>
          </a:xfrm>
          <a:custGeom>
            <a:avLst/>
            <a:gdLst>
              <a:gd name="textAreaLeft" fmla="*/ 0 w 8174160"/>
              <a:gd name="textAreaRight" fmla="*/ 8174520 w 81741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5589720"/>
            <a:ext cx="27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FEEDBACK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E8D-E164-4262-A534-574AAA179119}" type="slidenum">
              <a:t>9</a:t>
            </a:fld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99ff66"/>
                </a:solidFill>
                <a:latin typeface="Angsana New"/>
              </a:rPr>
              <a:t>4</a:t>
            </a:r>
            <a:r>
              <a:rPr b="1" lang="en-US" sz="6400" spc="-1" strike="noStrike">
                <a:solidFill>
                  <a:srgbClr val="99ff66"/>
                </a:solidFill>
                <a:latin typeface="Angsana New"/>
                <a:ea typeface="Angsana New"/>
              </a:rPr>
              <a:t> </a:t>
            </a:r>
            <a:r>
              <a:rPr b="1" lang="hi-IN" sz="6400" spc="-1" strike="noStrike">
                <a:solidFill>
                  <a:srgbClr val="99ff66"/>
                </a:solidFill>
                <a:latin typeface="Angsana New"/>
                <a:cs typeface="Angsana New"/>
              </a:rPr>
              <a:t>ขั้นตอนง่าย ๆ </a:t>
            </a:r>
            <a:endParaRPr b="0" lang="en-US" sz="6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6" name=""/>
          <p:cNvSpPr/>
          <p:nvPr/>
        </p:nvSpPr>
        <p:spPr>
          <a:xfrm>
            <a:off x="228600" y="1600200"/>
            <a:ext cx="3454560" cy="3382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ccff"/>
                </a:solidFill>
                <a:latin typeface="Angsana New"/>
                <a:cs typeface="Angsana New"/>
              </a:rPr>
              <a:t>กำหนดรายละเอียดกลยุทธ์  แนวทาง ตัวชี้วั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7" name=""/>
          <p:cNvSpPr/>
          <p:nvPr/>
        </p:nvSpPr>
        <p:spPr>
          <a:xfrm>
            <a:off x="4788000" y="1447920"/>
            <a:ext cx="4076640" cy="301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ก็บ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ัดเลือกข้อมูล โดย บันทึก สังเกต แบบสอบถาม สัมภาษณ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8" name=""/>
          <p:cNvSpPr/>
          <p:nvPr/>
        </p:nvSpPr>
        <p:spPr>
          <a:xfrm>
            <a:off x="304920" y="4724280"/>
            <a:ext cx="3555720" cy="21402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cccc"/>
                </a:solidFill>
                <a:latin typeface="Angsana New"/>
                <a:cs typeface="Angsana New"/>
              </a:rPr>
              <a:t>วิเคราะห์ข้อมูลเปรียบเทียบกับเป้าหมา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9" name=""/>
          <p:cNvSpPr/>
          <p:nvPr/>
        </p:nvSpPr>
        <p:spPr>
          <a:xfrm>
            <a:off x="4724280" y="4800600"/>
            <a:ext cx="3657600" cy="214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900cc"/>
                </a:solidFill>
                <a:latin typeface="Angsana New"/>
                <a:cs typeface="Angsana New"/>
              </a:rPr>
              <a:t>การรายงานเพื่อนำไปสู่การปรับปรุง ใช้ประโยชน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672-6ACE-42AA-A565-76259104C38E}" type="slidenum">
              <a:t>90</a:t>
            </a:fld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826920" y="1700280"/>
            <a:ext cx="7162920" cy="1218960"/>
          </a:xfrm>
          <a:prstGeom prst="flowChartMultidocumen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1" name=""/>
          <p:cNvSpPr/>
          <p:nvPr/>
        </p:nvSpPr>
        <p:spPr>
          <a:xfrm>
            <a:off x="1332000" y="162864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ccffff"/>
                </a:solidFill>
                <a:latin typeface="Angsana New"/>
                <a:cs typeface="Angsana New"/>
              </a:rPr>
              <a:t>มีเป้าหมายชัดเจ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304920"/>
            <a:ext cx="7162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การติดตามงานอย่างมีประสิทธิภาพ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813" name=""/>
          <p:cNvSpPr/>
          <p:nvPr/>
        </p:nvSpPr>
        <p:spPr>
          <a:xfrm>
            <a:off x="900000" y="2997360"/>
            <a:ext cx="7162920" cy="1218960"/>
          </a:xfrm>
          <a:prstGeom prst="flowChartMultidocumen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4" name=""/>
          <p:cNvSpPr/>
          <p:nvPr/>
        </p:nvSpPr>
        <p:spPr>
          <a:xfrm>
            <a:off x="1187280" y="31417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6699"/>
                </a:solidFill>
                <a:latin typeface="Angsana New"/>
                <a:cs typeface="Angsana New"/>
              </a:rPr>
              <a:t>มีมาตรฐาน</a:t>
            </a:r>
            <a:r>
              <a:rPr b="1" lang="en-US" sz="5400" spc="-1" strike="noStrike">
                <a:solidFill>
                  <a:srgbClr val="ff6699"/>
                </a:solidFill>
                <a:latin typeface="Angsana New"/>
                <a:ea typeface="Angsana New"/>
              </a:rPr>
              <a:t>/</a:t>
            </a:r>
            <a:r>
              <a:rPr b="1" lang="hi-IN" sz="5400" spc="-1" strike="noStrike">
                <a:solidFill>
                  <a:srgbClr val="ff6699"/>
                </a:solidFill>
                <a:latin typeface="Angsana New"/>
                <a:cs typeface="Angsana New"/>
              </a:rPr>
              <a:t>ตัวชี้วัดที่แน่นอ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5" name=""/>
          <p:cNvSpPr/>
          <p:nvPr/>
        </p:nvSpPr>
        <p:spPr>
          <a:xfrm>
            <a:off x="900000" y="4076640"/>
            <a:ext cx="7162920" cy="1219320"/>
          </a:xfrm>
          <a:prstGeom prst="flowChartMultidocumen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6" name=""/>
          <p:cNvSpPr/>
          <p:nvPr/>
        </p:nvSpPr>
        <p:spPr>
          <a:xfrm>
            <a:off x="1187280" y="4221000"/>
            <a:ext cx="666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การทบทวนความต้องการเสมอ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7" name=""/>
          <p:cNvSpPr/>
          <p:nvPr/>
        </p:nvSpPr>
        <p:spPr>
          <a:xfrm>
            <a:off x="1042920" y="5300640"/>
            <a:ext cx="7162920" cy="1219320"/>
          </a:xfrm>
          <a:prstGeom prst="flowChartMultidocumen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8" name=""/>
          <p:cNvSpPr/>
          <p:nvPr/>
        </p:nvSpPr>
        <p:spPr>
          <a:xfrm>
            <a:off x="1476360" y="558972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ngsana New"/>
                <a:cs typeface="Angsana New"/>
              </a:rPr>
              <a:t>นำผลการติดตามมาประเมินและปรับปรุ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6DB-8111-4E56-94E6-3A3EF747067B}" type="slidenum">
              <a:t>91</a:t>
            </a:fld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457200" y="1523880"/>
            <a:ext cx="822960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rowallia New"/>
              </a:rPr>
              <a:t>การรายงานผล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46E-E90F-454A-95BE-CEBAAC3C77A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50920" y="1628640"/>
            <a:ext cx="921996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99cc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ngsana New"/>
                <a:cs typeface="Angsana New"/>
              </a:rPr>
              <a:t>ประมวลผลโดยการสังเคราะห์ตามระเบียบวิธีวิจัย อาจใช้ </a:t>
            </a:r>
            <a:r>
              <a:rPr b="1" lang="en-US" sz="5400" spc="-1" strike="noStrike">
                <a:solidFill>
                  <a:srgbClr val="99cc00"/>
                </a:solidFill>
                <a:latin typeface="Angsana New"/>
                <a:ea typeface="Angsana New"/>
              </a:rPr>
              <a:t>SPSS </a:t>
            </a:r>
            <a:r>
              <a:rPr b="1" lang="en-US" sz="5400" spc="-1" strike="noStrike">
                <a:solidFill>
                  <a:srgbClr val="99cc00"/>
                </a:solidFill>
                <a:latin typeface="Angsana New"/>
                <a:cs typeface="Angsana New"/>
              </a:rPr>
              <a:t>การประเมินแบบง่ายทีบอกความสัมพันธ์ระหว่างตัวแปรได้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ใช้งบประมาณ เวลา มาก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ngsana New"/>
                <a:cs typeface="Angsana New"/>
              </a:rPr>
              <a:t>ให้ผลเชื่อถือได้ เป็นสถิติ ปรนัย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304920"/>
            <a:ext cx="80773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 </a:t>
            </a: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1. </a:t>
            </a: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การใช้กระบวนการวิธีวิจัย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1B2-59DB-4F82-9001-E597F33F9824}" type="slidenum">
              <a:t>93</a:t>
            </a:fld>
          </a:p>
        </p:txBody>
      </p:sp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250920" y="1628640"/>
            <a:ext cx="9219960" cy="75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66ff33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Angsana New"/>
                <a:cs typeface="Angsana New"/>
              </a:rPr>
              <a:t>วิเคราะห์ทรัพยากร ปัจจัยนำเข้า กระบวนการ ผลผลิต ผลลัพธ์ ผลกระทบ ผลสะท้อน แวดล้อม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ff"/>
                </a:solidFill>
                <a:latin typeface="Angsana New"/>
                <a:cs typeface="Angsana New"/>
              </a:rPr>
              <a:t>ดัดแปลงจากวิธีวิจัย มาปรับใช้ให้เหมาะสม ประหยัดงบประมาณและเวลา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ควรมีเทคนิคควบคุม หรือเตือนล่วงหน้า เช่น การให้สี การใช้ 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  <a:ea typeface="Angsana New"/>
              </a:rPr>
              <a:t>Gantt Chart 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ควบคุม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304920"/>
            <a:ext cx="80773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 </a:t>
            </a: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2. </a:t>
            </a: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การใช้การวิเคราะห์ระบบ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ED0-3370-4A64-8CE0-9E359F820D13}" type="slidenum">
              <a:t>94</a:t>
            </a:fld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12880" y="685800"/>
            <a:ext cx="7772400" cy="99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ff"/>
                </a:solidFill>
                <a:latin typeface="Angsana New"/>
                <a:cs typeface="Angsana New"/>
              </a:rPr>
              <a:t>องค์ประกอบของนักประเมินที่ดี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5" name=""/>
          <p:cNvSpPr/>
          <p:nvPr/>
        </p:nvSpPr>
        <p:spPr>
          <a:xfrm>
            <a:off x="279360" y="3657600"/>
            <a:ext cx="2641680" cy="2068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ัศนคติ           เชิงบวก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6" name=""/>
          <p:cNvSpPr/>
          <p:nvPr/>
        </p:nvSpPr>
        <p:spPr>
          <a:xfrm>
            <a:off x="3124080" y="3657600"/>
            <a:ext cx="2641680" cy="2068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นักวางแผนที่ดี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7" name=""/>
          <p:cNvSpPr/>
          <p:nvPr/>
        </p:nvSpPr>
        <p:spPr>
          <a:xfrm>
            <a:off x="5969160" y="3657600"/>
            <a:ext cx="2844720" cy="17755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99cc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ลือกแนวทางที่เหมาะสม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8" name=""/>
          <p:cNvSpPr/>
          <p:nvPr/>
        </p:nvSpPr>
        <p:spPr>
          <a:xfrm>
            <a:off x="965160" y="2400480"/>
            <a:ext cx="1015920" cy="6667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9" name=""/>
          <p:cNvSpPr/>
          <p:nvPr/>
        </p:nvSpPr>
        <p:spPr>
          <a:xfrm>
            <a:off x="3809880" y="2457360"/>
            <a:ext cx="1016280" cy="6667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2514600"/>
            <a:ext cx="1015920" cy="6667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D5E-26FD-47CF-9F56-62C8250752F8}" type="slidenum">
              <a:t>95</a:t>
            </a:fld>
          </a:p>
        </p:txBody>
      </p: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1219320" y="1523880"/>
            <a:ext cx="731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การติดตามจะสำเร็จได้ถ้า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4A4-8EE5-4EE2-B47E-75416265454F}" type="slidenum">
              <a:t>96</a:t>
            </a:fld>
          </a:p>
        </p:txBody>
      </p: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85800" y="1600200"/>
            <a:ext cx="7772400" cy="1434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ำหนดสิ่งที่คาดหวังชัดเจน 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กลยุทธ์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3" name=""/>
          <p:cNvSpPr/>
          <p:nvPr/>
        </p:nvSpPr>
        <p:spPr>
          <a:xfrm>
            <a:off x="684360" y="2637000"/>
            <a:ext cx="777240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00"/>
                </a:solidFill>
                <a:latin typeface="Angsana New"/>
                <a:cs typeface="Angsana New"/>
              </a:rPr>
              <a:t>สร้างบรรยากาศช่วยให้มีกำลังใจดำเนินงา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4" name=""/>
          <p:cNvSpPr/>
          <p:nvPr/>
        </p:nvSpPr>
        <p:spPr>
          <a:xfrm>
            <a:off x="611280" y="3573360"/>
            <a:ext cx="7772400" cy="76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3300"/>
                </a:solidFill>
                <a:latin typeface="Angsana New"/>
                <a:cs typeface="Angsana New"/>
              </a:rPr>
              <a:t>กำหนดเป้าหมายร่วมกั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5" name=""/>
          <p:cNvSpPr/>
          <p:nvPr/>
        </p:nvSpPr>
        <p:spPr>
          <a:xfrm>
            <a:off x="611280" y="4581360"/>
            <a:ext cx="7772400" cy="1434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ถาม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/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รับฟังผู้อื่นอย่างตั้งใจ และชื่นชม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1FA-C971-4EB2-B3D2-CD38B09E2B75}" type="slidenum">
              <a:t>97</a:t>
            </a:fld>
          </a:p>
        </p:txBody>
      </p:sp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685800" y="609480"/>
            <a:ext cx="7772400" cy="3124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รับทราบ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+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ชื่นชมความเห็นผู้อื่นในที่สาธารณะ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ละ แก้ไข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+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ตือนให้ปรับปรุงเป็นการส่วนตัว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7" name=""/>
          <p:cNvSpPr/>
          <p:nvPr/>
        </p:nvSpPr>
        <p:spPr>
          <a:xfrm>
            <a:off x="684360" y="2781360"/>
            <a:ext cx="7991280" cy="1434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cc"/>
                </a:solidFill>
                <a:latin typeface="Angsana New"/>
                <a:cs typeface="Angsana New"/>
              </a:rPr>
              <a:t>มองหาสิ่งดี ๆ ทุกสถานการณ์ ค้นหาอย่างสร้างสรรค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8" name=""/>
          <p:cNvSpPr/>
          <p:nvPr/>
        </p:nvSpPr>
        <p:spPr>
          <a:xfrm>
            <a:off x="611280" y="4508640"/>
            <a:ext cx="7772400" cy="1526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ffff"/>
                </a:solidFill>
                <a:latin typeface="Angsana New"/>
                <a:cs typeface="Angsana New"/>
              </a:rPr>
              <a:t>เฝ้าติดตามผลให้มั่นใจว่าเป็นไปตามที่</a:t>
            </a:r>
            <a:r>
              <a:rPr b="1" lang="hi-IN" sz="5000" spc="-1" strike="noStrike">
                <a:solidFill>
                  <a:srgbClr val="66ff33"/>
                </a:solidFill>
                <a:latin typeface="Angsana New"/>
                <a:cs typeface="Angsana New"/>
              </a:rPr>
              <a:t>ตกลงกัน</a:t>
            </a:r>
            <a:r>
              <a:rPr b="1" lang="hi-IN" sz="4400" spc="-1" strike="noStrike">
                <a:solidFill>
                  <a:srgbClr val="ccffff"/>
                </a:solidFill>
                <a:latin typeface="Angsana New"/>
                <a:cs typeface="Angsana New"/>
              </a:rPr>
              <a:t>ไว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B9A-58E7-4D09-B487-EC94E9F1DE94}" type="slidenum">
              <a:t>98</a:t>
            </a:fld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684360" y="3179880"/>
            <a:ext cx="756108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44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การติดตามประเมินผลจะล้มเหลวถ้า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BE7-C3BE-4471-B9D9-A57875073095}" type="slidenum">
              <a:t>9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3:42:20Z</dcterms:created>
  <dc:creator>unknown</dc:creator>
  <dc:description/>
  <dc:language>en-US</dc:language>
  <cp:lastModifiedBy>iLLuSioN</cp:lastModifiedBy>
  <cp:lastPrinted>2000-03-27T09:05:04Z</cp:lastPrinted>
  <dcterms:modified xsi:type="dcterms:W3CDTF">2006-05-22T07:20:28Z</dcterms:modified>
  <cp:revision>74</cp:revision>
  <dc:subject/>
  <dc:title>ไม่มีชื่อเรื่องภาพนิ่ง</dc:title>
</cp:coreProperties>
</file>