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RIVEBY.WAV" ContentType="audio/x-wav"/>
  <Override PartName="/ppt/media/image11.wmf" ContentType="image/x-wmf"/>
  <Override PartName="/ppt/media/image9.wmf" ContentType="image/x-wmf"/>
  <Override PartName="/ppt/media/image8.png" ContentType="image/png"/>
  <Override PartName="/ppt/media/image14.jpeg" ContentType="image/jpeg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jpeg" ContentType="image/jpeg"/>
  <Override PartName="/ppt/media/image15.png" ContentType="image/png"/>
  <Override PartName="/ppt/media/image13.jpeg" ContentType="image/jpeg"/>
  <Override PartName="/ppt/media/image3.wmf" ContentType="image/x-wmf"/>
  <Override PartName="/ppt/media/image2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12.jpeg" ContentType="image/jpeg"/>
  <Override PartName="/ppt/media/image6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A318-71CA-4C14-8D0F-D18FC95A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2629-FEBC-4D9A-BFAB-76820717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19CF-6AA2-4FC4-912D-1303D40B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1880-F9A0-4FB4-A8E2-9B7B6233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B28D-CB3F-47C5-B34D-307AF72F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680E-73E5-4B8A-9B10-0C3DB13D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D77C-FEC1-4A81-A2AF-C612643E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170E-5565-470F-B774-819FE111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FA37-FCCC-4D6A-92AF-A0C978B8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745A-B782-4C10-9DC4-D1774441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B10D-4A9A-4A97-B4EA-FE4B3B86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EBEB-4BB9-45D4-97D7-6251C863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  <a:ea typeface="Angsana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  <a:ea typeface="Angsana New"/>
              </a:rPr>
              <a:t>&lt;date/time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  <a:ea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  <a:ea typeface="Angsana New"/>
              </a:rPr>
              <a:t>&lt;footer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FFA2-1160-421F-A1D4-36ECCA662B5B}" type="slidenum"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hyperlink" Target="mailto:meu@thailocaladmin.go.th" TargetMode="External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8.wmf"/><Relationship Id="rId10" Type="http://schemas.openxmlformats.org/officeDocument/2006/relationships/image" Target="../media/image18.wmf"/><Relationship Id="rId11" Type="http://schemas.openxmlformats.org/officeDocument/2006/relationships/image" Target="../media/image18.wmf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2666880"/>
            <a:ext cx="8137440" cy="321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36602"/>
                    </a:gs>
                    <a:gs pos="50000">
                      <a:srgbClr val="fbde05"/>
                    </a:gs>
                    <a:gs pos="100000">
                      <a:srgbClr val="736602"/>
                    </a:gs>
                  </a:gsLst>
                  <a:lin ang="13500000"/>
                </a:gradFill>
                <a:latin typeface="Angsana New"/>
              </a:rPr>
              <a:t>การติดตามและประเมินผลแผนพัฒนาท้องถิ่น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36602"/>
                  </a:gs>
                  <a:gs pos="50000">
                    <a:srgbClr val="fbde05"/>
                  </a:gs>
                  <a:gs pos="100000">
                    <a:srgbClr val="736602"/>
                  </a:gs>
                </a:gsLst>
                <a:lin ang="13500000"/>
              </a:gradFill>
              <a:latin typeface="Angsana New"/>
              <a:ea typeface="Angsana New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08360" y="1052640"/>
            <a:ext cx="1943280" cy="193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49B3-4AAB-4B05-83C8-BD5BEC0D5A99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การวิเคราะห์สถานการณ์ในการพัฒนาของท้องถิ่น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โดยการใช้เทคนิค </a:t>
            </a: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SWO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S  = Strength         =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จุดแข็ง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W = Weakness      =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จุดอ่อน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O  = Opportunity   =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โอกาส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T  = Threat             =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อุปสรรค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8326-7FFE-4C4F-936B-289522FE2214}" type="slidenum">
              <a:t>10</a:t>
            </a:fld>
          </a:p>
        </p:txBody>
      </p:sp>
    </p:spTree>
  </p:cSld>
  <p:transition>
    <p:cover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755640" y="1125360"/>
            <a:ext cx="77216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ngsana New"/>
              </a:rPr>
              <a:t>1) </a:t>
            </a:r>
            <a:r>
              <a:rPr b="1" lang="hi-IN" sz="5400" spc="-1" strike="noStrike">
                <a:solidFill>
                  <a:srgbClr val="ff66ff"/>
                </a:solidFill>
                <a:latin typeface="Angsana New"/>
                <a:cs typeface="Angsana New"/>
              </a:rPr>
              <a:t>มิได้ไตร่ตรองรอบคอบว่าคาดหวังอะไร และจะวัดความสำเร็จอย่างไร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1" name=""/>
          <p:cNvSpPr/>
          <p:nvPr/>
        </p:nvSpPr>
        <p:spPr>
          <a:xfrm>
            <a:off x="755640" y="2924280"/>
            <a:ext cx="77216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cc"/>
                </a:solidFill>
                <a:latin typeface="Angsana New"/>
              </a:rPr>
              <a:t>2) </a:t>
            </a:r>
            <a:r>
              <a:rPr b="1" lang="hi-IN" sz="5400" spc="-1" strike="noStrike">
                <a:solidFill>
                  <a:srgbClr val="99ffcc"/>
                </a:solidFill>
                <a:latin typeface="Angsana New"/>
                <a:cs typeface="Angsana New"/>
              </a:rPr>
              <a:t>กำหนดเป้าหมาย</a:t>
            </a:r>
            <a:r>
              <a:rPr b="1" lang="en-US" sz="5400" spc="-1" strike="noStrike">
                <a:solidFill>
                  <a:srgbClr val="99ffcc"/>
                </a:solidFill>
                <a:latin typeface="Angsana New"/>
                <a:ea typeface="Angsana New"/>
              </a:rPr>
              <a:t>/</a:t>
            </a:r>
            <a:r>
              <a:rPr b="1" lang="hi-IN" sz="5400" spc="-1" strike="noStrike">
                <a:solidFill>
                  <a:srgbClr val="99ffcc"/>
                </a:solidFill>
                <a:latin typeface="Angsana New"/>
                <a:cs typeface="Angsana New"/>
              </a:rPr>
              <a:t>มาตรฐานตามอำเภอใจ ทำอยู่ฝ่ายเดียว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2" name=""/>
          <p:cNvSpPr/>
          <p:nvPr/>
        </p:nvSpPr>
        <p:spPr>
          <a:xfrm>
            <a:off x="826920" y="4653000"/>
            <a:ext cx="7721640" cy="23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ff"/>
                </a:solidFill>
                <a:latin typeface="Angsana New"/>
                <a:ea typeface="Angsana New"/>
              </a:rPr>
              <a:t>3</a:t>
            </a:r>
            <a:r>
              <a:rPr b="1" lang="en-US" sz="4800" spc="-1" strike="noStrike">
                <a:solidFill>
                  <a:srgbClr val="ff66ff"/>
                </a:solidFill>
                <a:latin typeface="Angsana New"/>
              </a:rPr>
              <a:t>) </a:t>
            </a:r>
            <a:r>
              <a:rPr b="1" lang="hi-IN" sz="4800" spc="-1" strike="noStrike">
                <a:solidFill>
                  <a:srgbClr val="ff66ff"/>
                </a:solidFill>
                <a:latin typeface="Angsana New"/>
                <a:cs typeface="Angsana New"/>
              </a:rPr>
              <a:t>ไม่รับฟัง</a:t>
            </a:r>
            <a:r>
              <a:rPr b="1" lang="en-US" sz="4800" spc="-1" strike="noStrike">
                <a:solidFill>
                  <a:srgbClr val="ff66ff"/>
                </a:solidFill>
                <a:latin typeface="Angsana New"/>
                <a:ea typeface="Angsana New"/>
              </a:rPr>
              <a:t>/</a:t>
            </a:r>
            <a:r>
              <a:rPr b="1" lang="hi-IN" sz="4800" spc="-1" strike="noStrike">
                <a:solidFill>
                  <a:srgbClr val="ff66ff"/>
                </a:solidFill>
                <a:latin typeface="Angsana New"/>
                <a:cs typeface="Angsana New"/>
              </a:rPr>
              <a:t>แสวงหาความคิดผู้อื่น </a:t>
            </a:r>
            <a:r>
              <a:rPr b="1" lang="en-US" sz="5400" spc="-1" strike="noStrike">
                <a:solidFill>
                  <a:srgbClr val="ff66ff"/>
                </a:solidFill>
                <a:latin typeface="Angsana New"/>
                <a:ea typeface="Angsana New"/>
              </a:rPr>
              <a:t> </a:t>
            </a:r>
            <a:r>
              <a:rPr b="1" lang="en-US" sz="4800" spc="-1" strike="noStrike">
                <a:solidFill>
                  <a:srgbClr val="ff66ff"/>
                </a:solidFill>
                <a:latin typeface="Angsana New"/>
                <a:ea typeface="Angsana New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66ff"/>
                </a:solidFill>
                <a:latin typeface="Angsana New"/>
                <a:cs typeface="Angsana New"/>
              </a:rPr>
              <a:t>ชอบที่ตอบปัญหาแทนผู้อื่น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385-9750-4C10-BE00-1C95A4B40740}" type="slidenum">
              <a:t>100</a:t>
            </a:fld>
          </a:p>
        </p:txBody>
      </p:sp>
    </p:spTree>
  </p:cSld>
  <p:transition>
    <p:random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611280" y="3141720"/>
            <a:ext cx="772164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ff"/>
                </a:solidFill>
                <a:latin typeface="Angsana New"/>
                <a:ea typeface="Angsana New"/>
              </a:rPr>
              <a:t>5</a:t>
            </a:r>
            <a:r>
              <a:rPr b="1" lang="en-US" sz="5400" spc="-1" strike="noStrike">
                <a:solidFill>
                  <a:srgbClr val="9999ff"/>
                </a:solidFill>
                <a:latin typeface="Angsana New"/>
              </a:rPr>
              <a:t>) </a:t>
            </a:r>
            <a:r>
              <a:rPr b="1" lang="hi-IN" sz="5400" spc="-1" strike="noStrike">
                <a:solidFill>
                  <a:srgbClr val="9999ff"/>
                </a:solidFill>
                <a:latin typeface="Angsana New"/>
                <a:cs typeface="Angsana New"/>
              </a:rPr>
              <a:t>ใช้เวลามากไป          สิ่งผิด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ff"/>
                </a:solidFill>
                <a:latin typeface="Angsana New"/>
                <a:ea typeface="Angsana New"/>
              </a:rPr>
              <a:t>    </a:t>
            </a:r>
            <a:r>
              <a:rPr b="1" lang="hi-IN" sz="5400" spc="-1" strike="noStrike">
                <a:solidFill>
                  <a:srgbClr val="9999ff"/>
                </a:solidFill>
                <a:latin typeface="Angsana New"/>
                <a:cs typeface="Angsana New"/>
              </a:rPr>
              <a:t>ใช้เวลาน้อยไป          สิ่งถูก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4" name=""/>
          <p:cNvSpPr/>
          <p:nvPr/>
        </p:nvSpPr>
        <p:spPr>
          <a:xfrm>
            <a:off x="539640" y="5229360"/>
            <a:ext cx="842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66"/>
                </a:solidFill>
                <a:latin typeface="Angsana New"/>
              </a:rPr>
              <a:t>6) </a:t>
            </a:r>
            <a:r>
              <a:rPr b="1" lang="hi-IN" sz="5400" spc="-1" strike="noStrike">
                <a:solidFill>
                  <a:srgbClr val="ff9966"/>
                </a:solidFill>
                <a:latin typeface="Angsana New"/>
                <a:cs typeface="Angsana New"/>
              </a:rPr>
              <a:t>ไม่มุ่งมั่น จริงจังติดตามงานว่าทำอย่างไร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5" name=""/>
          <p:cNvSpPr/>
          <p:nvPr/>
        </p:nvSpPr>
        <p:spPr>
          <a:xfrm>
            <a:off x="611280" y="836640"/>
            <a:ext cx="772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ngsana New"/>
                <a:ea typeface="Angsana New"/>
              </a:rPr>
              <a:t>4</a:t>
            </a:r>
            <a:r>
              <a:rPr b="1" lang="en-US" sz="5400" spc="-1" strike="noStrike">
                <a:solidFill>
                  <a:srgbClr val="ffff00"/>
                </a:solidFill>
                <a:latin typeface="Angsana New"/>
              </a:rPr>
              <a:t>) </a:t>
            </a:r>
            <a:r>
              <a:rPr b="1" lang="hi-IN" sz="5400" spc="-1" strike="noStrike">
                <a:solidFill>
                  <a:srgbClr val="ffff00"/>
                </a:solidFill>
                <a:latin typeface="Angsana New"/>
                <a:cs typeface="Angsana New"/>
              </a:rPr>
              <a:t>วิจารณ์ผลการดำเนินงานอย่างเปิดเผยโดยมิได้ให้ความชื่นชมในวาระอันควร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6" name=""/>
          <p:cNvSpPr/>
          <p:nvPr/>
        </p:nvSpPr>
        <p:spPr>
          <a:xfrm>
            <a:off x="3924360" y="3284640"/>
            <a:ext cx="792000" cy="288720"/>
          </a:xfrm>
          <a:prstGeom prst="rightArrow">
            <a:avLst>
              <a:gd name="adj1" fmla="val 50000"/>
              <a:gd name="adj2" fmla="val 685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7" name=""/>
          <p:cNvSpPr/>
          <p:nvPr/>
        </p:nvSpPr>
        <p:spPr>
          <a:xfrm>
            <a:off x="3995640" y="4365720"/>
            <a:ext cx="792360" cy="288720"/>
          </a:xfrm>
          <a:prstGeom prst="rightArrow">
            <a:avLst>
              <a:gd name="adj1" fmla="val 50000"/>
              <a:gd name="adj2" fmla="val 6861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DDBC-3018-4B71-AF01-80A35F9210DA}" type="slidenum">
              <a:t>101</a:t>
            </a:fld>
          </a:p>
        </p:txBody>
      </p:sp>
    </p:spTree>
  </p:cSld>
  <p:transition>
    <p:random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cc00ff"/>
                </a:solidFill>
                <a:latin typeface="Angsana New"/>
                <a:cs typeface="Angsana New"/>
              </a:rPr>
              <a:t>กรณีศึกษา</a:t>
            </a:r>
            <a:br>
              <a:rPr sz="2000"/>
            </a:br>
            <a:r>
              <a:rPr b="1" lang="hi-IN" sz="2000" spc="-1" strike="noStrike">
                <a:solidFill>
                  <a:srgbClr val="cc00ff"/>
                </a:solidFill>
                <a:latin typeface="Angsana New"/>
                <a:cs typeface="Angsana New"/>
              </a:rPr>
              <a:t>ปฏิทินการติดตามและประเมินผลการดำเนินงานของกรมส่งเสริมการปกครองท้องถิ่น</a:t>
            </a:r>
            <a:br>
              <a:rPr sz="2000"/>
            </a:br>
            <a:r>
              <a:rPr b="1" lang="en-US" sz="2000" spc="-1" strike="noStrike">
                <a:solidFill>
                  <a:srgbClr val="cc00ff"/>
                </a:solidFill>
                <a:latin typeface="Angsana New"/>
                <a:ea typeface="Angsana New"/>
              </a:rPr>
              <a:t> ปี พ</a:t>
            </a:r>
            <a:r>
              <a:rPr b="1" lang="en-US" sz="2000" spc="-1" strike="noStrike">
                <a:solidFill>
                  <a:srgbClr val="cc00ff"/>
                </a:solidFill>
                <a:latin typeface="Angsana New"/>
                <a:ea typeface="Angsana New"/>
              </a:rPr>
              <a:t>.</a:t>
            </a:r>
            <a:r>
              <a:rPr b="1" lang="hi-IN" sz="2000" spc="-1" strike="noStrike">
                <a:solidFill>
                  <a:srgbClr val="cc00ff"/>
                </a:solidFill>
                <a:latin typeface="Angsana New"/>
                <a:cs typeface="Angsana New"/>
              </a:rPr>
              <a:t>ศ</a:t>
            </a:r>
            <a:r>
              <a:rPr b="1" lang="en-US" sz="2000" spc="-1" strike="noStrike">
                <a:solidFill>
                  <a:srgbClr val="cc00ff"/>
                </a:solidFill>
                <a:latin typeface="Angsana New"/>
                <a:ea typeface="Angsana New"/>
              </a:rPr>
              <a:t>. 2549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849" name=""/>
          <p:cNvGraphicFramePr/>
          <p:nvPr/>
        </p:nvGraphicFramePr>
        <p:xfrm>
          <a:off x="395280" y="1268280"/>
          <a:ext cx="8282160" cy="5288040"/>
        </p:xfrm>
        <a:graphic>
          <a:graphicData uri="http://schemas.openxmlformats.org/drawingml/2006/table">
            <a:tbl>
              <a:tblPr/>
              <a:tblGrid>
                <a:gridCol w="2089080"/>
                <a:gridCol w="647640"/>
                <a:gridCol w="648000"/>
                <a:gridCol w="504720"/>
                <a:gridCol w="574560"/>
                <a:gridCol w="649440"/>
                <a:gridCol w="503280"/>
                <a:gridCol w="1441440"/>
                <a:gridCol w="1224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เรื่องที่ต้องต้องติดตา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ระดั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ควา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สำเร็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ระยะเวลา ปีงบประมาณ 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25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a50021"/>
                          </a:solidFill>
                          <a:latin typeface="Angsana New"/>
                        </a:rPr>
                        <a:t>ผู้รับผิดชอ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ต</a:t>
                      </a:r>
                      <a:r>
                        <a:rPr b="1" lang="th-TH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th-TH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ค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พ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ย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ธ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ม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ก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พ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...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ก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ย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1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จัดเก็บข้อมูล จปฐ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2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ส่งเสริมอาชีพกลุ่มสตร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3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จัดตั้งศูนย์พัฒนาครอบครั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4.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โครงการ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Home Health Ca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5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โครงการสงเคราะห์เบี้ยยังชีพผู้สูงอายุ ผู้พิการ และผู้ติดเชื้อเอดส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6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โครงการเทศบาล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/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อบต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สัญจ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    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Angsana New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กลุ่ม ก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กลุ่ม ข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. ,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ทุกกลุ่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0" name=""/>
          <p:cNvSpPr/>
          <p:nvPr/>
        </p:nvSpPr>
        <p:spPr>
          <a:xfrm>
            <a:off x="3995640" y="335772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1" name=""/>
          <p:cNvSpPr/>
          <p:nvPr/>
        </p:nvSpPr>
        <p:spPr>
          <a:xfrm flipH="1" flipV="1">
            <a:off x="2699640" y="2637000"/>
            <a:ext cx="36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2" name=""/>
          <p:cNvSpPr/>
          <p:nvPr/>
        </p:nvSpPr>
        <p:spPr>
          <a:xfrm>
            <a:off x="2700360" y="249228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3" name=""/>
          <p:cNvSpPr/>
          <p:nvPr/>
        </p:nvSpPr>
        <p:spPr>
          <a:xfrm>
            <a:off x="3564000" y="292428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4" name=""/>
          <p:cNvSpPr/>
          <p:nvPr/>
        </p:nvSpPr>
        <p:spPr>
          <a:xfrm>
            <a:off x="2700360" y="328464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5" name=""/>
          <p:cNvSpPr/>
          <p:nvPr/>
        </p:nvSpPr>
        <p:spPr>
          <a:xfrm>
            <a:off x="2700360" y="292428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6" name=""/>
          <p:cNvSpPr/>
          <p:nvPr/>
        </p:nvSpPr>
        <p:spPr>
          <a:xfrm>
            <a:off x="2700360" y="393372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7" name=""/>
          <p:cNvSpPr/>
          <p:nvPr/>
        </p:nvSpPr>
        <p:spPr>
          <a:xfrm>
            <a:off x="2700360" y="465300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8" name=""/>
          <p:cNvSpPr/>
          <p:nvPr/>
        </p:nvSpPr>
        <p:spPr>
          <a:xfrm>
            <a:off x="2700360" y="558972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D956-1602-43AD-9F05-076EF6D7F10D}" type="slidenum">
              <a:t>102</a:t>
            </a:fld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ff"/>
                </a:solidFill>
                <a:latin typeface="Angsana New"/>
                <a:cs typeface="Angsana New"/>
              </a:rPr>
              <a:t>ปฏิทินการติดตามและประเมินผลการดำเนินงานของกรมส่งเสริมการปกครองท้องถิ่น</a:t>
            </a:r>
            <a:br>
              <a:rPr sz="2800"/>
            </a:br>
            <a:r>
              <a:rPr b="1" lang="en-US" sz="2800" spc="-1" strike="noStrike">
                <a:solidFill>
                  <a:srgbClr val="cc00ff"/>
                </a:solidFill>
                <a:latin typeface="Angsana New"/>
                <a:ea typeface="Angsana New"/>
              </a:rPr>
              <a:t> ปี พ</a:t>
            </a:r>
            <a:r>
              <a:rPr b="1" lang="en-US" sz="2800" spc="-1" strike="noStrike">
                <a:solidFill>
                  <a:srgbClr val="cc00ff"/>
                </a:solidFill>
                <a:latin typeface="Angsana New"/>
                <a:ea typeface="Angsana New"/>
              </a:rPr>
              <a:t>.</a:t>
            </a:r>
            <a:r>
              <a:rPr b="1" lang="hi-IN" sz="2800" spc="-1" strike="noStrike">
                <a:solidFill>
                  <a:srgbClr val="cc00ff"/>
                </a:solidFill>
                <a:latin typeface="Angsana New"/>
                <a:cs typeface="Angsana New"/>
              </a:rPr>
              <a:t>ศ</a:t>
            </a:r>
            <a:r>
              <a:rPr b="1" lang="en-US" sz="2800" spc="-1" strike="noStrike">
                <a:solidFill>
                  <a:srgbClr val="cc00ff"/>
                </a:solidFill>
                <a:latin typeface="Angsana New"/>
                <a:ea typeface="Angsana New"/>
              </a:rPr>
              <a:t>. 2549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395280" y="1268280"/>
          <a:ext cx="8282160" cy="5042160"/>
        </p:xfrm>
        <a:graphic>
          <a:graphicData uri="http://schemas.openxmlformats.org/drawingml/2006/table">
            <a:tbl>
              <a:tblPr/>
              <a:tblGrid>
                <a:gridCol w="2305080"/>
                <a:gridCol w="576360"/>
                <a:gridCol w="503280"/>
                <a:gridCol w="504720"/>
                <a:gridCol w="574560"/>
                <a:gridCol w="649440"/>
                <a:gridCol w="503280"/>
                <a:gridCol w="1441440"/>
                <a:gridCol w="1224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เรื่องที่ต้องติดตา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ระดั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ควา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สำเร็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ระยะเวลา ปีงบประมาณ 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25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a50021"/>
                          </a:solidFill>
                          <a:latin typeface="Angsana New"/>
                        </a:rPr>
                        <a:t>ผู้รับผิดชอ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ต</a:t>
                      </a:r>
                      <a:r>
                        <a:rPr b="1" lang="th-TH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th-TH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ค </a:t>
                      </a:r>
                      <a:r>
                        <a:rPr b="1" lang="th-TH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พ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ย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ธ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ม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ก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พ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...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ก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ย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8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7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ประชุมผู้นำชุมชน                  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ทุกเดือน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8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กีฬาชุมชนสัมพันธ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9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ติดตามประเมินผล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OT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10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โครงการพัฒนาศักยภาพ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S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11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โครงการคาราวานแก้จ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12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โครงการหนึ่งฝน หนึ่งต้น เพื่อปวงชนชาวไท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13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กองทุนออมทรัพย์หมู่บ้า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14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อบรมค่ายเยาวช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กลุ่ม ก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กลุ่ม ข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. ,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ทุกกลุ่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1" name=""/>
          <p:cNvSpPr/>
          <p:nvPr/>
        </p:nvSpPr>
        <p:spPr>
          <a:xfrm flipH="1" flipV="1">
            <a:off x="2699640" y="2637000"/>
            <a:ext cx="36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2" name=""/>
          <p:cNvSpPr/>
          <p:nvPr/>
        </p:nvSpPr>
        <p:spPr>
          <a:xfrm>
            <a:off x="2771640" y="249228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3" name=""/>
          <p:cNvSpPr/>
          <p:nvPr/>
        </p:nvSpPr>
        <p:spPr>
          <a:xfrm>
            <a:off x="2771640" y="314172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4" name=""/>
          <p:cNvSpPr/>
          <p:nvPr/>
        </p:nvSpPr>
        <p:spPr>
          <a:xfrm>
            <a:off x="2771640" y="3500280"/>
            <a:ext cx="287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5" name=""/>
          <p:cNvSpPr/>
          <p:nvPr/>
        </p:nvSpPr>
        <p:spPr>
          <a:xfrm>
            <a:off x="2771640" y="3860640"/>
            <a:ext cx="287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6" name=""/>
          <p:cNvSpPr/>
          <p:nvPr/>
        </p:nvSpPr>
        <p:spPr>
          <a:xfrm>
            <a:off x="2771640" y="450864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7" name=""/>
          <p:cNvSpPr/>
          <p:nvPr/>
        </p:nvSpPr>
        <p:spPr>
          <a:xfrm>
            <a:off x="2771640" y="4941720"/>
            <a:ext cx="287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8" name=""/>
          <p:cNvSpPr/>
          <p:nvPr/>
        </p:nvSpPr>
        <p:spPr>
          <a:xfrm>
            <a:off x="2771640" y="558972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9" name=""/>
          <p:cNvSpPr/>
          <p:nvPr/>
        </p:nvSpPr>
        <p:spPr>
          <a:xfrm>
            <a:off x="2771640" y="602136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0973-09C2-473C-A703-A977E3776B15}" type="slidenum">
              <a:t>103</a:t>
            </a:fld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971640" y="1700280"/>
            <a:ext cx="7632720" cy="52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66ffff"/>
                </a:solidFill>
                <a:latin typeface="Angsana New"/>
                <a:cs typeface="Angsana New"/>
              </a:rPr>
              <a:t>นางคณิตา  ราษฎร์นุ้ย   เจ้าพนักงานปกครอง </a:t>
            </a:r>
            <a:r>
              <a:rPr b="1" lang="th-TH" sz="3500" spc="-1" strike="noStrike">
                <a:solidFill>
                  <a:srgbClr val="66ffff"/>
                </a:solidFill>
                <a:latin typeface="Angsana New"/>
                <a:ea typeface="Angsana New"/>
              </a:rPr>
              <a:t>7</a:t>
            </a:r>
            <a:r>
              <a:rPr b="1" lang="th-TH" sz="3500" spc="-1" strike="noStrike">
                <a:solidFill>
                  <a:srgbClr val="66ffff"/>
                </a:solidFill>
                <a:latin typeface="Angsana New"/>
                <a:cs typeface="Angsana New"/>
              </a:rPr>
              <a:t>ว                                 </a:t>
            </a:r>
            <a:r>
              <a:rPr b="1" lang="en-US" sz="3500" spc="-1" strike="noStrike">
                <a:solidFill>
                  <a:srgbClr val="66ffff"/>
                </a:solidFill>
                <a:latin typeface="Angsana New"/>
                <a:cs typeface="Angsana New"/>
              </a:rPr>
              <a:t>สำนักพัฒนาและส่งเสริมการบริหารงานท้องถิ่น                       </a:t>
            </a:r>
            <a:r>
              <a:rPr b="1" lang="en-US" sz="3500" spc="-1" strike="noStrike">
                <a:solidFill>
                  <a:srgbClr val="66ffff"/>
                </a:solidFill>
                <a:latin typeface="Angsana New"/>
                <a:ea typeface="Angsana New"/>
              </a:rPr>
              <a:t>(</a:t>
            </a:r>
            <a:r>
              <a:rPr b="1" lang="en-US" sz="3500" spc="-1" strike="noStrike">
                <a:solidFill>
                  <a:srgbClr val="66ffff"/>
                </a:solidFill>
                <a:latin typeface="Angsana New"/>
                <a:cs typeface="Angsana New"/>
              </a:rPr>
              <a:t>นโยบายและแผน</a:t>
            </a:r>
            <a:r>
              <a:rPr b="1" lang="en-US" sz="3500" spc="-1" strike="noStrike">
                <a:solidFill>
                  <a:srgbClr val="66ffff"/>
                </a:solidFill>
                <a:latin typeface="Angsana New"/>
                <a:ea typeface="Angsana New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ff99"/>
                </a:solidFill>
                <a:latin typeface="Angsana New"/>
                <a:cs typeface="Angsana New"/>
              </a:rPr>
              <a:t>ส่วนติดตามและประเมินผล                                                                </a:t>
            </a:r>
            <a:r>
              <a:rPr b="1" lang="en-US" sz="3500" spc="-1" strike="noStrike">
                <a:solidFill>
                  <a:srgbClr val="ccff99"/>
                </a:solidFill>
                <a:latin typeface="Angsana New"/>
                <a:ea typeface="Angsana New"/>
              </a:rPr>
              <a:t>0-2241-9000 </a:t>
            </a:r>
            <a:r>
              <a:rPr b="1" lang="en-US" sz="3500" spc="-1" strike="noStrike">
                <a:solidFill>
                  <a:srgbClr val="ccff99"/>
                </a:solidFill>
                <a:latin typeface="Angsana New"/>
                <a:cs typeface="Angsana New"/>
              </a:rPr>
              <a:t>ต่อ </a:t>
            </a:r>
            <a:r>
              <a:rPr b="1" lang="en-US" sz="3500" spc="-1" strike="noStrike">
                <a:solidFill>
                  <a:srgbClr val="ccff99"/>
                </a:solidFill>
                <a:latin typeface="Angsana New"/>
                <a:ea typeface="Angsana New"/>
              </a:rPr>
              <a:t>2102-4                          </a:t>
            </a:r>
            <a:r>
              <a:rPr b="0" lang="en-US" sz="3500" spc="-1" strike="noStrike" u="sng">
                <a:solidFill>
                  <a:srgbClr val="ccccff"/>
                </a:solidFill>
                <a:uFillTx/>
                <a:latin typeface="Angsana New"/>
                <a:ea typeface="Angsana New"/>
                <a:hlinkClick r:id="rId1"/>
              </a:rPr>
              <a:t>meu@thailocaladmin.go.th</a:t>
            </a:r>
            <a:r>
              <a:rPr b="1" lang="en-US" sz="3500" spc="-1" strike="noStrike">
                <a:solidFill>
                  <a:srgbClr val="ccff99"/>
                </a:solidFill>
                <a:latin typeface="Angsana New"/>
                <a:ea typeface="Angsana New"/>
              </a:rPr>
              <a:t>  ,  </a:t>
            </a:r>
            <a:r>
              <a:rPr b="1" lang="en-US" sz="3500" spc="-1" strike="noStrike">
                <a:solidFill>
                  <a:srgbClr val="ccccff"/>
                </a:solidFill>
                <a:latin typeface="Angsana New"/>
                <a:ea typeface="Angsana New"/>
              </a:rPr>
              <a:t>Kanita_bam@yahoo.com</a:t>
            </a:r>
            <a:endParaRPr b="0" lang="en-US" sz="3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1" name=""/>
          <p:cNvSpPr/>
          <p:nvPr/>
        </p:nvSpPr>
        <p:spPr>
          <a:xfrm>
            <a:off x="755640" y="404640"/>
            <a:ext cx="7991640" cy="2226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000" spc="-1" strike="noStrike">
                <a:solidFill>
                  <a:srgbClr val="ffccff"/>
                </a:solidFill>
                <a:latin typeface="Angsana New"/>
              </a:rPr>
              <a:t>กรม</a:t>
            </a:r>
            <a:r>
              <a:rPr b="1" lang="hi-IN" sz="7000" spc="-1" strike="noStrike">
                <a:solidFill>
                  <a:srgbClr val="ffccff"/>
                </a:solidFill>
                <a:latin typeface="Angsana New"/>
                <a:cs typeface="Angsana New"/>
              </a:rPr>
              <a:t>ส่งเสริมการปกครองท้องถิ่น</a:t>
            </a:r>
            <a:endParaRPr b="0" lang="en-US" sz="70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>
            <a:off x="8317080" y="5300640"/>
            <a:ext cx="572760" cy="114300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3"/>
          <a:stretch/>
        </p:blipFill>
        <p:spPr>
          <a:xfrm>
            <a:off x="539640" y="4941720"/>
            <a:ext cx="1447920" cy="1544760"/>
          </a:xfrm>
          <a:prstGeom prst="rect">
            <a:avLst/>
          </a:prstGeom>
          <a:ln w="0">
            <a:noFill/>
          </a:ln>
        </p:spPr>
      </p:pic>
      <p:pic>
        <p:nvPicPr>
          <p:cNvPr id="874" name="" descr=""/>
          <p:cNvPicPr/>
          <p:nvPr/>
        </p:nvPicPr>
        <p:blipFill>
          <a:blip r:embed="rId4"/>
          <a:stretch/>
        </p:blipFill>
        <p:spPr>
          <a:xfrm>
            <a:off x="1692360" y="5229360"/>
            <a:ext cx="573120" cy="114300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5"/>
          <a:stretch/>
        </p:blipFill>
        <p:spPr>
          <a:xfrm>
            <a:off x="5940360" y="5229360"/>
            <a:ext cx="573120" cy="114300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6"/>
          <a:stretch/>
        </p:blipFill>
        <p:spPr>
          <a:xfrm>
            <a:off x="3276720" y="5300640"/>
            <a:ext cx="573120" cy="1143000"/>
          </a:xfrm>
          <a:prstGeom prst="rect">
            <a:avLst/>
          </a:prstGeom>
          <a:ln w="0">
            <a:noFill/>
          </a:ln>
        </p:spPr>
      </p:pic>
      <p:pic>
        <p:nvPicPr>
          <p:cNvPr id="877" name="" descr=""/>
          <p:cNvPicPr/>
          <p:nvPr/>
        </p:nvPicPr>
        <p:blipFill>
          <a:blip r:embed="rId7"/>
          <a:stretch/>
        </p:blipFill>
        <p:spPr>
          <a:xfrm>
            <a:off x="6659640" y="5445000"/>
            <a:ext cx="573120" cy="1143000"/>
          </a:xfrm>
          <a:prstGeom prst="rect">
            <a:avLst/>
          </a:prstGeom>
          <a:ln w="0">
            <a:noFill/>
          </a:ln>
        </p:spPr>
      </p:pic>
      <p:pic>
        <p:nvPicPr>
          <p:cNvPr id="878" name="" descr=""/>
          <p:cNvPicPr/>
          <p:nvPr/>
        </p:nvPicPr>
        <p:blipFill>
          <a:blip r:embed="rId8"/>
          <a:stretch/>
        </p:blipFill>
        <p:spPr>
          <a:xfrm>
            <a:off x="5292720" y="5013360"/>
            <a:ext cx="1447920" cy="154476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9"/>
          <a:stretch/>
        </p:blipFill>
        <p:spPr>
          <a:xfrm>
            <a:off x="3708360" y="5084640"/>
            <a:ext cx="1447920" cy="154476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10"/>
          <a:stretch/>
        </p:blipFill>
        <p:spPr>
          <a:xfrm>
            <a:off x="2195640" y="5084640"/>
            <a:ext cx="1447560" cy="154476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/>
          <p:cNvPicPr/>
          <p:nvPr/>
        </p:nvPicPr>
        <p:blipFill>
          <a:blip r:embed="rId11"/>
          <a:stretch/>
        </p:blipFill>
        <p:spPr>
          <a:xfrm>
            <a:off x="4211640" y="5013360"/>
            <a:ext cx="1447920" cy="154476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12"/>
          <a:stretch/>
        </p:blipFill>
        <p:spPr>
          <a:xfrm>
            <a:off x="7093080" y="5084640"/>
            <a:ext cx="1447560" cy="154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4ADA-795C-45EB-88C1-A41E55610F2A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ตาราง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SWOT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ประเด็น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...................................................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990720"/>
            <a:ext cx="0" cy="510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342900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" name=""/>
          <p:cNvSpPr/>
          <p:nvPr/>
        </p:nvSpPr>
        <p:spPr>
          <a:xfrm>
            <a:off x="947880" y="99000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จุดแข็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" name=""/>
          <p:cNvSpPr/>
          <p:nvPr/>
        </p:nvSpPr>
        <p:spPr>
          <a:xfrm>
            <a:off x="4601520" y="1065960"/>
            <a:ext cx="125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จุดอ่อ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" name=""/>
          <p:cNvSpPr/>
          <p:nvPr/>
        </p:nvSpPr>
        <p:spPr>
          <a:xfrm>
            <a:off x="1095120" y="3656880"/>
            <a:ext cx="11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โอกาส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0" name=""/>
          <p:cNvSpPr/>
          <p:nvPr/>
        </p:nvSpPr>
        <p:spPr>
          <a:xfrm>
            <a:off x="4591080" y="36568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ุปสรรค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024040" y="1066680"/>
            <a:ext cx="581400" cy="4724640"/>
            <a:chOff x="8024040" y="1066680"/>
            <a:chExt cx="581400" cy="4724640"/>
          </a:xfrm>
        </p:grpSpPr>
        <p:sp>
          <p:nvSpPr>
            <p:cNvPr id="92" name=""/>
            <p:cNvSpPr/>
            <p:nvPr/>
          </p:nvSpPr>
          <p:spPr>
            <a:xfrm rot="5400000">
              <a:off x="7133400" y="1956960"/>
              <a:ext cx="236232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ภายใน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3" name=""/>
            <p:cNvSpPr/>
            <p:nvPr/>
          </p:nvSpPr>
          <p:spPr>
            <a:xfrm rot="5400000">
              <a:off x="7133400" y="4319280"/>
              <a:ext cx="236232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ภายนอก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7D25-3F41-4349-9BB9-BDDFC21236B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755640" y="2278080"/>
            <a:ext cx="75898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3300"/>
                </a:solidFill>
                <a:latin typeface="Browallia New"/>
              </a:rPr>
              <a:t>ตัวอย่างการทำ </a:t>
            </a:r>
            <a:r>
              <a:rPr b="1" lang="en-US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3300"/>
                </a:solidFill>
                <a:latin typeface="Browallia New"/>
              </a:rPr>
              <a:t>SWOT </a:t>
            </a:r>
            <a:r>
              <a:rPr b="0" lang="hi-IN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3300"/>
                </a:solidFill>
                <a:latin typeface="Browallia New"/>
              </a:rPr>
              <a:t>กับการวางแผนพัฒนาท้องถิ่น</a:t>
            </a:r>
            <a:endParaRPr b="1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ff3300"/>
              </a:solidFill>
              <a:latin typeface="Browallia New"/>
              <a:ea typeface="Browalli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ff3300"/>
              </a:solidFill>
              <a:latin typeface="Browallia New"/>
              <a:ea typeface="Browall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0603-BC7E-4C92-9D81-13B81172DA33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190080"/>
            <a:ext cx="80629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ตาราง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SWOT </a:t>
            </a:r>
            <a:br>
              <a:rPr sz="2400"/>
            </a:br>
            <a:r>
              <a:rPr b="1" lang="en-US" sz="3000" spc="-1" strike="noStrike">
                <a:solidFill>
                  <a:srgbClr val="000000"/>
                </a:solidFill>
                <a:latin typeface="Angsana New"/>
              </a:rPr>
              <a:t>ประเด็น</a:t>
            </a:r>
            <a:r>
              <a:rPr b="1" lang="en-US" sz="3000" spc="-1" strike="noStrike">
                <a:solidFill>
                  <a:srgbClr val="000000"/>
                </a:solidFill>
                <a:latin typeface="Angsana New"/>
                <a:ea typeface="Angsana New"/>
              </a:rPr>
              <a:t> การติดตามประเมินผลการวางแผนพัฒนาท้องถิ่น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990720"/>
            <a:ext cx="0" cy="510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342900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8" name=""/>
          <p:cNvSpPr/>
          <p:nvPr/>
        </p:nvSpPr>
        <p:spPr>
          <a:xfrm>
            <a:off x="947880" y="99000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จุดแข็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9" name=""/>
          <p:cNvSpPr/>
          <p:nvPr/>
        </p:nvSpPr>
        <p:spPr>
          <a:xfrm>
            <a:off x="4601520" y="1065960"/>
            <a:ext cx="125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จุดอ่อ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0" name=""/>
          <p:cNvSpPr/>
          <p:nvPr/>
        </p:nvSpPr>
        <p:spPr>
          <a:xfrm>
            <a:off x="1095120" y="3656880"/>
            <a:ext cx="11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โอกาส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1" name=""/>
          <p:cNvSpPr/>
          <p:nvPr/>
        </p:nvSpPr>
        <p:spPr>
          <a:xfrm>
            <a:off x="4591080" y="36568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ุปสรรค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024040" y="1066680"/>
            <a:ext cx="581400" cy="4724640"/>
            <a:chOff x="8024040" y="1066680"/>
            <a:chExt cx="581400" cy="4724640"/>
          </a:xfrm>
        </p:grpSpPr>
        <p:sp>
          <p:nvSpPr>
            <p:cNvPr id="103" name=""/>
            <p:cNvSpPr/>
            <p:nvPr/>
          </p:nvSpPr>
          <p:spPr>
            <a:xfrm rot="5400000">
              <a:off x="7133400" y="1956960"/>
              <a:ext cx="236232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ภายใน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5400000">
              <a:off x="7133400" y="4319280"/>
              <a:ext cx="236232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ภายนอก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116000" y="1557360"/>
            <a:ext cx="3240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1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จนท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ข้าใจบทบาท หน้าที่ของตนเองในการวางแผนพัฒนาท้องถิ่นดี มีความตั้งใจทำงานมา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2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ทำงานใน อปท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ลักษณะเป็นทีมเวิร์ค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3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ู้บริหารให้ความสำคัญกับการติดตามประเมินผลมา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6" name=""/>
          <p:cNvSpPr/>
          <p:nvPr/>
        </p:nvSpPr>
        <p:spPr>
          <a:xfrm>
            <a:off x="4716360" y="1700280"/>
            <a:ext cx="3240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1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 จนท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ด้านการพัฒนาท้องถิ่นจำนวนน้อย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2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จนท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.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ยังไม่มีความรู้ด้านการติดตามและประเมินผลนั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3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าดงบประมาณสนับสนุนการติดตามประเมินผลโดยวิธีวิจัย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7" name=""/>
          <p:cNvSpPr/>
          <p:nvPr/>
        </p:nvSpPr>
        <p:spPr>
          <a:xfrm>
            <a:off x="1258920" y="4149720"/>
            <a:ext cx="324000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1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ถ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การอบรมการวางแผน การติดตามประเมินผลการดำเนินงาน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2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คู่มือติดตามและประเมินผลแบบง่าย ไม่ต้องใช้งบประมาณมากนั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3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การสร้างเครือข่ายการติดตามและประเมินผลท้องถิ่น เพื่อช่วยเหลือซึ่งกันและกันในด้านต่าง ๆ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4292640"/>
            <a:ext cx="324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1. </a:t>
            </a:r>
            <a:r>
              <a:rPr b="0" lang="hi-IN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ประสานงานระหว่างหน่วยงานไม่ค่อยราบรื่น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2. </a:t>
            </a:r>
            <a:r>
              <a:rPr b="0" lang="hi-IN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าดการสนับสนุนงบประมาณจากหน่วยงานอื่น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CB5A-FA31-40F2-A9E2-E1C259703B3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80880" y="360360"/>
          <a:ext cx="8001000" cy="6138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60360"/>
                    <a:ext cx="8001000" cy="61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81A0-3AC8-4E05-9C23-AE2D1CB647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000000"/>
                </a:solidFill>
                <a:latin typeface="Angsana New"/>
              </a:rPr>
              <a:t>แผน</a:t>
            </a:r>
            <a:r>
              <a:rPr b="1" lang="hi-IN" sz="66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ลยุทธ์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ความหมาย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้อง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กำหนดแนวทางหรือวิธีการ “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ต่อสู้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” เพื่อ “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เอาชนะ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” อย่าง “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เบ็ดเสร็จเด็ดขาด ยั่งยืน และเป็นระบบ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โดยเน้นทั้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57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     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</a:rPr>
              <a:t>เชิงรุกและเชิงรับ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หลักคิด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รู้อดีต คิดในโลกปัจจุบัน  มุ่งมั่นเพื่อความยั่งยืนในอนาคต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570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พัฒนาควบคู่กับการสร้างภูมิคุ้มกัน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D74F-A937-4C5F-9F90-2B6A2801DD07}" type="slidenum">
              <a:t>15</a:t>
            </a:fld>
          </a:p>
        </p:txBody>
      </p:sp>
    </p:spTree>
  </p:cSld>
  <p:transition>
    <p:cover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คำถามเชิง</a:t>
            </a:r>
            <a:r>
              <a:rPr b="0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ลยุทธ์</a:t>
            </a:r>
            <a:br>
              <a:rPr sz="4000"/>
            </a:br>
            <a:r>
              <a:rPr b="0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พื่อ</a:t>
            </a: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การวางแผนพัฒนา</a:t>
            </a:r>
            <a:r>
              <a:rPr b="0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ติดตามประเมินผล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เราและเพื่อนเราเคยเป็นอย่างไร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เราและเพื่อนเราอยู่ตรงไหน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เราและเพื่อนอยากเป็นอย่างไร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เราและเพื่อนเราจะทำอย่างไรจึงจะไปสู่สิ่งที่อยากจะเป็น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เราจะแน่ใจได้อย่างไรว่าสิ่งที่เราทำจะนำเราไปสู่สิ่งที่เราอยากจะเป็น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เราแน่ใจอย่างไรว่าเราได้เป็นสิ่งทีเราอยากจะเป็นแล้ว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B586-47FD-47CF-B213-7D6E803CB80A}" type="slidenum">
              <a:t>16</a:t>
            </a:fld>
          </a:p>
        </p:txBody>
      </p:sp>
    </p:spTree>
  </p:cSld>
  <p:transition>
    <p:cover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ngsana New"/>
              </a:rPr>
              <a:t>ส่วนประกอบของแผนยุทธศาสตร์</a:t>
            </a:r>
            <a:r>
              <a:rPr b="0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                         </a:t>
            </a:r>
            <a:r>
              <a:rPr b="0" lang="hi-IN" sz="4400" spc="-1" strike="noStrike">
                <a:solidFill>
                  <a:srgbClr val="000000"/>
                </a:solidFill>
                <a:latin typeface="Angsana New"/>
              </a:rPr>
              <a:t>การพัฒนา</a:t>
            </a:r>
            <a:r>
              <a:rPr b="0" lang="hi-IN" sz="4400" spc="-1" strike="noStrike">
                <a:solidFill>
                  <a:srgbClr val="000000"/>
                </a:solidFill>
                <a:latin typeface="Angsana New"/>
                <a:cs typeface="Angsana New"/>
              </a:rPr>
              <a:t>ท้องถิ่น</a:t>
            </a:r>
            <a:r>
              <a:rPr b="0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/</a:t>
            </a:r>
            <a:r>
              <a:rPr b="0" lang="hi-IN" sz="4400" spc="-1" strike="noStrike">
                <a:solidFill>
                  <a:srgbClr val="000000"/>
                </a:solidFill>
                <a:latin typeface="Angsana New"/>
                <a:cs typeface="Angsana New"/>
              </a:rPr>
              <a:t>ชุมชน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บทที่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บทนำ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บทที่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2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สภาพทั่วไปและข้อมูลพื้นฐานสำคัญของท้องถิ่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บทที่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การวิเคราะห์ศักยภาพการพัฒนาท้องถิ่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บทที่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4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วิสัยทัศน์ ภารกิจ วัตถุประสงค์ เป้าหมายการพัฒนา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และตัวชี้วัด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บทที่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5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ยุทธศาสตร์การพัฒนาท้องถิ่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-305280">
              <a:spcBef>
                <a:spcPts val="876"/>
              </a:spcBef>
              <a:buClr>
                <a:srgbClr val="ff00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ff0066"/>
                </a:solidFill>
                <a:latin typeface="Angsana New"/>
              </a:rPr>
              <a:t>บทที่ </a:t>
            </a:r>
            <a:r>
              <a:rPr b="1" lang="en-US" sz="3500" spc="-1" strike="noStrike">
                <a:solidFill>
                  <a:srgbClr val="ff0066"/>
                </a:solidFill>
                <a:latin typeface="Angsana New"/>
              </a:rPr>
              <a:t>6 </a:t>
            </a:r>
            <a:r>
              <a:rPr b="1" lang="th-TH" sz="3500" spc="-1" strike="noStrike">
                <a:solidFill>
                  <a:srgbClr val="ff0066"/>
                </a:solidFill>
                <a:latin typeface="Angsana New"/>
              </a:rPr>
              <a:t>การนำแผนยุทธศาสตร์ไปสู่การปฏิบัติ</a:t>
            </a:r>
            <a:r>
              <a:rPr b="1" lang="th-TH" sz="3500" spc="-1" strike="noStrike">
                <a:solidFill>
                  <a:srgbClr val="ff0066"/>
                </a:solidFill>
                <a:latin typeface="Angsana New"/>
                <a:ea typeface="Angsana New"/>
              </a:rPr>
              <a:t>                      </a:t>
            </a:r>
            <a:r>
              <a:rPr b="1" lang="th-TH" sz="3500" spc="-1" strike="noStrike">
                <a:solidFill>
                  <a:srgbClr val="ff0066"/>
                </a:solidFill>
                <a:latin typeface="Angsana New"/>
              </a:rPr>
              <a:t> และการติดตามประเมินผล</a:t>
            </a:r>
            <a:endParaRPr b="0" lang="en-US" sz="3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A95A-886B-4E78-8686-EC54CDCCB5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ngsana New"/>
              </a:rPr>
              <a:t>การสรุปข้อมูลพื้นฐาน </a:t>
            </a:r>
            <a:r>
              <a:rPr b="1" lang="en-US" sz="4400" spc="-1" strike="noStrike">
                <a:solidFill>
                  <a:srgbClr val="ff0066"/>
                </a:solidFill>
                <a:latin typeface="Angsana New"/>
              </a:rPr>
              <a:t>(Base line Data)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199"/>
              </a:spcBef>
              <a:buClr>
                <a:srgbClr val="ffff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99"/>
                </a:solidFill>
                <a:latin typeface="Angsana New"/>
              </a:rPr>
              <a:t>บอกว่ามีอะไร จำนวน เท่าใด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294840" indent="-294840">
              <a:lnSpc>
                <a:spcPct val="90000"/>
              </a:lnSpc>
              <a:spcBef>
                <a:spcPts val="1199"/>
              </a:spcBef>
              <a:buClr>
                <a:srgbClr val="ffff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99"/>
                </a:solidFill>
                <a:latin typeface="Angsana New"/>
              </a:rPr>
              <a:t>ขาด เกิน จากจำนวนที่ควรจะมีเท่าใด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294840" indent="-294840">
              <a:lnSpc>
                <a:spcPct val="90000"/>
              </a:lnSpc>
              <a:spcBef>
                <a:spcPts val="1199"/>
              </a:spcBef>
              <a:buClr>
                <a:srgbClr val="ffff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99"/>
                </a:solidFill>
                <a:latin typeface="Angsana New"/>
              </a:rPr>
              <a:t>จะต้องสร้าง ซ่อม เพิ่ม ลดลง คงที่ ไว้ในระดับใด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605B-DFA9-44C4-A1FE-2182870A5BF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4130640" y="2724120"/>
            <a:ext cx="898560" cy="925920"/>
            <a:chOff x="4130640" y="2724120"/>
            <a:chExt cx="898560" cy="925920"/>
          </a:xfrm>
        </p:grpSpPr>
        <p:sp>
          <p:nvSpPr>
            <p:cNvPr id="120" name=""/>
            <p:cNvSpPr/>
            <p:nvPr/>
          </p:nvSpPr>
          <p:spPr>
            <a:xfrm>
              <a:off x="4487760" y="2724120"/>
              <a:ext cx="160560" cy="198360"/>
            </a:xfrm>
            <a:prstGeom prst="downArrow">
              <a:avLst>
                <a:gd name="adj1" fmla="val 50000"/>
                <a:gd name="adj2" fmla="val 3088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30640" y="2946240"/>
              <a:ext cx="89856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SWOT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037120" y="2374920"/>
            <a:ext cx="4433760" cy="1435680"/>
            <a:chOff x="5037120" y="2374920"/>
            <a:chExt cx="4433760" cy="1435680"/>
          </a:xfrm>
        </p:grpSpPr>
        <p:sp>
          <p:nvSpPr>
            <p:cNvPr id="123" name=""/>
            <p:cNvSpPr/>
            <p:nvPr/>
          </p:nvSpPr>
          <p:spPr>
            <a:xfrm>
              <a:off x="5037120" y="31240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6001200" y="2374920"/>
              <a:ext cx="3469680" cy="1435680"/>
              <a:chOff x="6001200" y="2374920"/>
              <a:chExt cx="3469680" cy="1435680"/>
            </a:xfrm>
          </p:grpSpPr>
          <p:sp>
            <p:nvSpPr>
              <p:cNvPr id="125" name=""/>
              <p:cNvSpPr/>
              <p:nvPr/>
            </p:nvSpPr>
            <p:spPr>
              <a:xfrm>
                <a:off x="6256440" y="251460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6440" y="25146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256440" y="289548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56440" y="327672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256440" y="36576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56640" y="2374920"/>
                <a:ext cx="288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000000"/>
                    </a:solidFill>
                    <a:latin typeface="Angsana New"/>
                    <a:cs typeface="Angsana New"/>
                  </a:rPr>
                  <a:t>จุดแข็ง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  </a:t>
                </a:r>
                <a:r>
                  <a:rPr b="1" lang="th-TH" sz="16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         โครงการส่งเสริม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075440" y="2533680"/>
                <a:ext cx="27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134400" y="2711520"/>
                <a:ext cx="2579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ngsana New"/>
                    <a:cs typeface="Angsana New"/>
                  </a:rPr>
                  <a:t>จุดอ่อน           โครงการรักษา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094520" y="2895480"/>
                <a:ext cx="27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42960" y="3137040"/>
                <a:ext cx="311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000000"/>
                    </a:solidFill>
                    <a:latin typeface="Angsana New"/>
                    <a:cs typeface="Angsana New"/>
                  </a:rPr>
                  <a:t>โอกาส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  </a:t>
                </a:r>
                <a:r>
                  <a:rPr b="1" lang="th-TH" sz="16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         โครงการริเริ่ม พัฒนา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091280" y="3295800"/>
                <a:ext cx="27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01200" y="3473280"/>
                <a:ext cx="3469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ngsana New"/>
                    <a:cs typeface="Angsana New"/>
                  </a:rPr>
                  <a:t>อุปสรรค           โครงการป้องกันบรรเทา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200720" y="3643200"/>
                <a:ext cx="27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2606760" y="3200400"/>
            <a:ext cx="1719000" cy="1371600"/>
            <a:chOff x="2606760" y="3200400"/>
            <a:chExt cx="1719000" cy="1371600"/>
          </a:xfrm>
        </p:grpSpPr>
        <p:sp>
          <p:nvSpPr>
            <p:cNvPr id="139" name=""/>
            <p:cNvSpPr/>
            <p:nvPr/>
          </p:nvSpPr>
          <p:spPr>
            <a:xfrm flipH="1" rot="3600000">
              <a:off x="3931920" y="3314160"/>
              <a:ext cx="305280" cy="380880"/>
            </a:xfrm>
            <a:prstGeom prst="downArrow">
              <a:avLst>
                <a:gd name="adj1" fmla="val 50000"/>
                <a:gd name="adj2" fmla="val 3119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48480" y="3200400"/>
              <a:ext cx="110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ทำไม่ได้เอง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06760" y="3524400"/>
              <a:ext cx="127944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ประสาน</a:t>
              </a:r>
              <a:br>
                <a:rPr sz="1600"/>
              </a:b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หน่วยสูงขึ้นไป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 rot="16200000">
              <a:off x="3542400" y="4152600"/>
              <a:ext cx="457200" cy="381240"/>
            </a:xfrm>
            <a:custGeom>
              <a:avLst/>
              <a:gdLst>
                <a:gd name="textAreaLeft" fmla="*/ 152640 w 457200"/>
                <a:gd name="textAreaRight" fmla="*/ 392040 w 457200"/>
                <a:gd name="textAreaTop" fmla="*/ 219600 h 381240"/>
                <a:gd name="textAreaBottom" fmla="*/ 3265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120600"/>
            <a:ext cx="4777920" cy="644400"/>
            <a:chOff x="2286000" y="120600"/>
            <a:chExt cx="4777920" cy="644400"/>
          </a:xfrm>
        </p:grpSpPr>
        <p:grpSp>
          <p:nvGrpSpPr>
            <p:cNvPr id="144" name=""/>
            <p:cNvGrpSpPr/>
            <p:nvPr/>
          </p:nvGrpSpPr>
          <p:grpSpPr>
            <a:xfrm>
              <a:off x="3178440" y="123840"/>
              <a:ext cx="1146960" cy="350280"/>
              <a:chOff x="3178440" y="123840"/>
              <a:chExt cx="1146960" cy="350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352680" y="123840"/>
                <a:ext cx="9144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178440" y="136800"/>
                <a:ext cx="114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ngsana New"/>
                    <a:ea typeface="Angsana New"/>
                  </a:rPr>
                  <a:t>    </a:t>
                </a:r>
                <a:r>
                  <a:rPr b="1" lang="hi-IN" sz="1600" spc="-1" strike="noStrike">
                    <a:solidFill>
                      <a:srgbClr val="cc0000"/>
                    </a:solidFill>
                    <a:latin typeface="Angsana New"/>
                    <a:cs typeface="Angsana New"/>
                  </a:rPr>
                  <a:t>ศักยภาพ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2286000" y="120600"/>
              <a:ext cx="762120" cy="337320"/>
              <a:chOff x="2286000" y="120600"/>
              <a:chExt cx="762120" cy="337320"/>
            </a:xfrm>
          </p:grpSpPr>
          <p:sp>
            <p:nvSpPr>
              <p:cNvPr id="148" name=""/>
              <p:cNvSpPr/>
              <p:nvPr/>
            </p:nvSpPr>
            <p:spPr>
              <a:xfrm>
                <a:off x="2286000" y="164880"/>
                <a:ext cx="76212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31360" y="120600"/>
                <a:ext cx="714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cc0000"/>
                    </a:solidFill>
                    <a:latin typeface="Angsana New"/>
                    <a:cs typeface="Angsana New"/>
                  </a:rPr>
                  <a:t>ปัญหา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466160" y="152280"/>
              <a:ext cx="2597760" cy="612720"/>
              <a:chOff x="4466160" y="152280"/>
              <a:chExt cx="2597760" cy="612720"/>
            </a:xfrm>
          </p:grpSpPr>
          <p:sp>
            <p:nvSpPr>
              <p:cNvPr id="151" name=""/>
              <p:cNvSpPr/>
              <p:nvPr/>
            </p:nvSpPr>
            <p:spPr>
              <a:xfrm>
                <a:off x="4800600" y="152280"/>
                <a:ext cx="1981080" cy="60984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66160" y="184320"/>
                <a:ext cx="259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cc0000"/>
                    </a:solidFill>
                    <a:latin typeface="Angsana New"/>
                    <a:cs typeface="Angsana New"/>
                  </a:rPr>
                  <a:t>นโยบายของรัฐ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cc0000"/>
                    </a:solidFill>
                    <a:latin typeface="Angsana New"/>
                    <a:cs typeface="Angsana New"/>
                  </a:rPr>
                  <a:t>ยุทธศาสตร์การพัฒนาจังหวัด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3472560" y="2209680"/>
            <a:ext cx="2266920" cy="534240"/>
            <a:chOff x="3472560" y="2209680"/>
            <a:chExt cx="2266920" cy="534240"/>
          </a:xfrm>
        </p:grpSpPr>
        <p:grpSp>
          <p:nvGrpSpPr>
            <p:cNvPr id="154" name=""/>
            <p:cNvGrpSpPr/>
            <p:nvPr/>
          </p:nvGrpSpPr>
          <p:grpSpPr>
            <a:xfrm>
              <a:off x="3472560" y="2406600"/>
              <a:ext cx="2266920" cy="337320"/>
              <a:chOff x="3472560" y="2406600"/>
              <a:chExt cx="2266920" cy="337320"/>
            </a:xfrm>
          </p:grpSpPr>
          <p:sp>
            <p:nvSpPr>
              <p:cNvPr id="155" name=""/>
              <p:cNvSpPr/>
              <p:nvPr/>
            </p:nvSpPr>
            <p:spPr>
              <a:xfrm>
                <a:off x="3665520" y="2438280"/>
                <a:ext cx="304920" cy="2588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970440" y="2438280"/>
                <a:ext cx="304560" cy="2588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275000" y="2438280"/>
                <a:ext cx="304920" cy="25884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9920" y="2438280"/>
                <a:ext cx="304920" cy="258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84840" y="2438280"/>
                <a:ext cx="304560" cy="2588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189400" y="2438280"/>
                <a:ext cx="304920" cy="2588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472560" y="2406600"/>
                <a:ext cx="2266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cc0000"/>
                    </a:solidFill>
                    <a:latin typeface="Angsana New"/>
                    <a:cs typeface="Angsana New"/>
                  </a:rPr>
                  <a:t>ประเด็นหลักในการพัฒนา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4491000" y="2209680"/>
              <a:ext cx="160200" cy="198720"/>
            </a:xfrm>
            <a:prstGeom prst="downArrow">
              <a:avLst>
                <a:gd name="adj1" fmla="val 50000"/>
                <a:gd name="adj2" fmla="val 3101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193120" y="425520"/>
            <a:ext cx="1123920" cy="977760"/>
            <a:chOff x="2193120" y="425520"/>
            <a:chExt cx="1123920" cy="977760"/>
          </a:xfrm>
        </p:grpSpPr>
        <p:grpSp>
          <p:nvGrpSpPr>
            <p:cNvPr id="164" name=""/>
            <p:cNvGrpSpPr/>
            <p:nvPr/>
          </p:nvGrpSpPr>
          <p:grpSpPr>
            <a:xfrm>
              <a:off x="2209680" y="425520"/>
              <a:ext cx="1067040" cy="977760"/>
              <a:chOff x="2209680" y="425520"/>
              <a:chExt cx="1067040" cy="977760"/>
            </a:xfrm>
          </p:grpSpPr>
          <p:sp>
            <p:nvSpPr>
              <p:cNvPr id="165" name=""/>
              <p:cNvSpPr/>
              <p:nvPr/>
            </p:nvSpPr>
            <p:spPr>
              <a:xfrm>
                <a:off x="2209680" y="1066680"/>
                <a:ext cx="1067040" cy="336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2286000" y="554040"/>
                <a:ext cx="762120" cy="337320"/>
                <a:chOff x="2286000" y="554040"/>
                <a:chExt cx="762120" cy="3373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286000" y="628560"/>
                  <a:ext cx="762120" cy="228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325960" y="554040"/>
                  <a:ext cx="7185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>
                      <a:solidFill>
                        <a:srgbClr val="cc0000"/>
                      </a:solidFill>
                      <a:latin typeface="Angsana New"/>
                      <a:cs typeface="Angsana New"/>
                    </a:rPr>
                    <a:t>สาเหตุ</a:t>
                  </a:r>
                  <a:endParaRPr b="0" lang="en-US" sz="16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2651040" y="42552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651040" y="87012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2193120" y="1030320"/>
              <a:ext cx="112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cc0000"/>
                  </a:solidFill>
                  <a:latin typeface="Angsana New"/>
                  <a:cs typeface="Angsana New"/>
                </a:rPr>
                <a:t>จุดคานงัด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136520" y="1784520"/>
            <a:ext cx="5797800" cy="380880"/>
            <a:chOff x="1136520" y="1784520"/>
            <a:chExt cx="5797800" cy="380880"/>
          </a:xfrm>
        </p:grpSpPr>
        <p:sp>
          <p:nvSpPr>
            <p:cNvPr id="173" name=""/>
            <p:cNvSpPr/>
            <p:nvPr/>
          </p:nvSpPr>
          <p:spPr>
            <a:xfrm>
              <a:off x="2209680" y="1784520"/>
              <a:ext cx="4724640" cy="380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36520" y="1784520"/>
              <a:ext cx="55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ngsana New"/>
                  <a:ea typeface="Angsana New"/>
                </a:rPr>
                <a:t>                                 </a:t>
              </a:r>
              <a:r>
                <a:rPr b="1" lang="hi-IN" sz="1800" spc="-1" strike="noStrike">
                  <a:solidFill>
                    <a:srgbClr val="cc0000"/>
                  </a:solidFill>
                  <a:latin typeface="Angsana New"/>
                  <a:cs typeface="Angsana New"/>
                </a:rPr>
                <a:t>ความต้องการการพัฒนาของท้องถิ่น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91600" y="304920"/>
            <a:ext cx="1139400" cy="2394720"/>
            <a:chOff x="291600" y="304920"/>
            <a:chExt cx="1139400" cy="2394720"/>
          </a:xfrm>
        </p:grpSpPr>
        <p:sp>
          <p:nvSpPr>
            <p:cNvPr id="176" name=""/>
            <p:cNvSpPr/>
            <p:nvPr/>
          </p:nvSpPr>
          <p:spPr>
            <a:xfrm>
              <a:off x="421560" y="236232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ภาพรวม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1600" y="304920"/>
              <a:ext cx="11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รายละเอียด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2120" y="609480"/>
              <a:ext cx="228600" cy="1828800"/>
            </a:xfrm>
            <a:prstGeom prst="upDownArrow">
              <a:avLst>
                <a:gd name="adj1" fmla="val 50000"/>
                <a:gd name="adj2" fmla="val 15925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91600" y="4038480"/>
            <a:ext cx="1139400" cy="2471040"/>
            <a:chOff x="291600" y="4038480"/>
            <a:chExt cx="1139400" cy="2471040"/>
          </a:xfrm>
        </p:grpSpPr>
        <p:sp>
          <p:nvSpPr>
            <p:cNvPr id="180" name=""/>
            <p:cNvSpPr/>
            <p:nvPr/>
          </p:nvSpPr>
          <p:spPr>
            <a:xfrm>
              <a:off x="291600" y="6172200"/>
              <a:ext cx="11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รายละเอียด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2120" y="4419720"/>
              <a:ext cx="228600" cy="1828800"/>
            </a:xfrm>
            <a:prstGeom prst="upDownArrow">
              <a:avLst>
                <a:gd name="adj1" fmla="val 50000"/>
                <a:gd name="adj2" fmla="val 159259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560" y="403848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ภาพรวม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962520" y="3390840"/>
            <a:ext cx="2255040" cy="1333440"/>
            <a:chOff x="3962520" y="3390840"/>
            <a:chExt cx="2255040" cy="1333440"/>
          </a:xfrm>
        </p:grpSpPr>
        <p:grpSp>
          <p:nvGrpSpPr>
            <p:cNvPr id="184" name=""/>
            <p:cNvGrpSpPr/>
            <p:nvPr/>
          </p:nvGrpSpPr>
          <p:grpSpPr>
            <a:xfrm>
              <a:off x="4714920" y="3390840"/>
              <a:ext cx="973080" cy="381240"/>
              <a:chOff x="4714920" y="3390840"/>
              <a:chExt cx="973080" cy="381240"/>
            </a:xfrm>
          </p:grpSpPr>
          <p:sp>
            <p:nvSpPr>
              <p:cNvPr id="185" name=""/>
              <p:cNvSpPr/>
              <p:nvPr/>
            </p:nvSpPr>
            <p:spPr>
              <a:xfrm>
                <a:off x="4784760" y="3397320"/>
                <a:ext cx="90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ngsana New"/>
                    <a:cs typeface="Angsana New"/>
                  </a:rPr>
                  <a:t>ทำได้เอง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714920" y="3390840"/>
                <a:ext cx="304920" cy="381240"/>
              </a:xfrm>
              <a:prstGeom prst="downArrow">
                <a:avLst>
                  <a:gd name="adj1" fmla="val 50000"/>
                  <a:gd name="adj2" fmla="val 3125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5288400" y="419112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วิสัยทัศน์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62520" y="3809880"/>
              <a:ext cx="1447560" cy="914400"/>
            </a:xfrm>
            <a:prstGeom prst="cloudCallout">
              <a:avLst>
                <a:gd name="adj1" fmla="val -27129"/>
                <a:gd name="adj2" fmla="val 4482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108320" y="3916440"/>
            <a:ext cx="1140120" cy="64620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2209680" y="1403280"/>
            <a:ext cx="4724640" cy="387360"/>
            <a:chOff x="2209680" y="1403280"/>
            <a:chExt cx="4724640" cy="387360"/>
          </a:xfrm>
        </p:grpSpPr>
        <p:sp>
          <p:nvSpPr>
            <p:cNvPr id="191" name=""/>
            <p:cNvSpPr/>
            <p:nvPr/>
          </p:nvSpPr>
          <p:spPr>
            <a:xfrm>
              <a:off x="2209680" y="1403280"/>
              <a:ext cx="472464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37640" y="1422360"/>
              <a:ext cx="241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cc0000"/>
                  </a:solidFill>
                  <a:latin typeface="Angsana New"/>
                  <a:cs typeface="Angsana New"/>
                </a:rPr>
                <a:t>ข้อมูลพื้นฐานการพัฒนา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37120" y="441360"/>
            <a:ext cx="1379880" cy="961920"/>
            <a:chOff x="3237120" y="441360"/>
            <a:chExt cx="1379880" cy="961920"/>
          </a:xfrm>
        </p:grpSpPr>
        <p:grpSp>
          <p:nvGrpSpPr>
            <p:cNvPr id="194" name=""/>
            <p:cNvGrpSpPr/>
            <p:nvPr/>
          </p:nvGrpSpPr>
          <p:grpSpPr>
            <a:xfrm>
              <a:off x="3313080" y="609480"/>
              <a:ext cx="1303920" cy="339120"/>
              <a:chOff x="3313080" y="609480"/>
              <a:chExt cx="1303920" cy="339120"/>
            </a:xfrm>
          </p:grpSpPr>
          <p:sp>
            <p:nvSpPr>
              <p:cNvPr id="195" name=""/>
              <p:cNvSpPr/>
              <p:nvPr/>
            </p:nvSpPr>
            <p:spPr>
              <a:xfrm>
                <a:off x="3352680" y="609480"/>
                <a:ext cx="9144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13080" y="611280"/>
                <a:ext cx="130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cc0000"/>
                    </a:solidFill>
                    <a:latin typeface="Angsana New"/>
                    <a:cs typeface="Angsana New"/>
                  </a:rPr>
                  <a:t>ความคิดริเริ่ม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3809880" y="44136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09880" y="923760"/>
              <a:ext cx="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3237120" y="1022400"/>
              <a:ext cx="1290240" cy="380880"/>
              <a:chOff x="3237120" y="1022400"/>
              <a:chExt cx="1290240" cy="380880"/>
            </a:xfrm>
          </p:grpSpPr>
          <p:sp>
            <p:nvSpPr>
              <p:cNvPr id="200" name=""/>
              <p:cNvSpPr/>
              <p:nvPr/>
            </p:nvSpPr>
            <p:spPr>
              <a:xfrm>
                <a:off x="3276720" y="1066680"/>
                <a:ext cx="1143000" cy="33660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237120" y="1022400"/>
                <a:ext cx="129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cc0000"/>
                    </a:solidFill>
                    <a:latin typeface="Angsana New"/>
                    <a:cs typeface="Angsana New"/>
                  </a:rPr>
                  <a:t>ความจำเป็น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202" name=""/>
          <p:cNvGrpSpPr/>
          <p:nvPr/>
        </p:nvGrpSpPr>
        <p:grpSpPr>
          <a:xfrm>
            <a:off x="2400480" y="4724280"/>
            <a:ext cx="5939280" cy="1904760"/>
            <a:chOff x="2400480" y="4724280"/>
            <a:chExt cx="5939280" cy="1904760"/>
          </a:xfrm>
        </p:grpSpPr>
        <p:sp>
          <p:nvSpPr>
            <p:cNvPr id="203" name=""/>
            <p:cNvSpPr/>
            <p:nvPr/>
          </p:nvSpPr>
          <p:spPr>
            <a:xfrm>
              <a:off x="6705720" y="6400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59080" y="6216480"/>
              <a:ext cx="14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โครงการพัฒนา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2400480" y="4724280"/>
              <a:ext cx="4343400" cy="1904760"/>
              <a:chOff x="2400480" y="4724280"/>
              <a:chExt cx="4343400" cy="1904760"/>
            </a:xfrm>
          </p:grpSpPr>
          <p:sp>
            <p:nvSpPr>
              <p:cNvPr id="206" name=""/>
              <p:cNvSpPr/>
              <p:nvPr/>
            </p:nvSpPr>
            <p:spPr>
              <a:xfrm>
                <a:off x="2400480" y="4735080"/>
                <a:ext cx="4343400" cy="1893960"/>
              </a:xfrm>
              <a:prstGeom prst="flowChartExtra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572000" y="629820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3260160" y="6298200"/>
                <a:ext cx="27144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2852640" y="6298200"/>
                <a:ext cx="31644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3667320" y="6298200"/>
                <a:ext cx="22608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4074120" y="6298200"/>
                <a:ext cx="13572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843440" y="6298200"/>
                <a:ext cx="9036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024520" y="6298200"/>
                <a:ext cx="9036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205600" y="6298200"/>
                <a:ext cx="9036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386320" y="6298200"/>
                <a:ext cx="13572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567400" y="6298200"/>
                <a:ext cx="18072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748480" y="6298200"/>
                <a:ext cx="18072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19920" y="6298200"/>
                <a:ext cx="27144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3033360" y="6298200"/>
                <a:ext cx="31644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3440880" y="6298200"/>
                <a:ext cx="27144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3848040" y="6298200"/>
                <a:ext cx="18072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707720" y="6298200"/>
                <a:ext cx="4500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933800" y="6298200"/>
                <a:ext cx="9036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114880" y="6298200"/>
                <a:ext cx="9036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295960" y="6298200"/>
                <a:ext cx="13572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477040" y="6298200"/>
                <a:ext cx="18072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58120" y="6298200"/>
                <a:ext cx="18072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884200" y="6298200"/>
                <a:ext cx="22608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201000" y="6298200"/>
                <a:ext cx="31644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2580840" y="6298200"/>
                <a:ext cx="36180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2716560" y="6298200"/>
                <a:ext cx="36180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2490480" y="6298200"/>
                <a:ext cx="36180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4300200" y="6298200"/>
                <a:ext cx="9036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2943000" y="6298200"/>
                <a:ext cx="31644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3124080" y="6298200"/>
                <a:ext cx="31644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3350520" y="6298200"/>
                <a:ext cx="27144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3531600" y="6298200"/>
                <a:ext cx="27144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2762280" y="4724280"/>
                <a:ext cx="3619440" cy="1580400"/>
                <a:chOff x="2762280" y="4724280"/>
                <a:chExt cx="3619440" cy="158040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2762280" y="4724280"/>
                  <a:ext cx="3619440" cy="1580400"/>
                  <a:chOff x="2762280" y="4724280"/>
                  <a:chExt cx="3619440" cy="1580400"/>
                </a:xfrm>
              </p:grpSpPr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2762280" y="4730760"/>
                    <a:ext cx="3619440" cy="1573920"/>
                    <a:chOff x="2762280" y="4730760"/>
                    <a:chExt cx="3619440" cy="15739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2762280" y="4730760"/>
                      <a:ext cx="3619440" cy="1573920"/>
                    </a:xfrm>
                    <a:prstGeom prst="flowChartExtract">
                      <a:avLst/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4572000" y="5924520"/>
                      <a:ext cx="0" cy="373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>
                      <a:off x="3531240" y="5924520"/>
                      <a:ext cx="271440" cy="373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flipH="1">
                      <a:off x="3169080" y="5924520"/>
                      <a:ext cx="316440" cy="373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>
                      <a:off x="3893400" y="5924520"/>
                      <a:ext cx="226080" cy="373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4933800" y="5924520"/>
                      <a:ext cx="90360" cy="373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205240" y="5924520"/>
                      <a:ext cx="180720" cy="373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5522040" y="5924520"/>
                      <a:ext cx="226080" cy="373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249" name=""/>
                  <p:cNvGrpSpPr/>
                  <p:nvPr/>
                </p:nvGrpSpPr>
                <p:grpSpPr>
                  <a:xfrm>
                    <a:off x="3192120" y="4724280"/>
                    <a:ext cx="2759760" cy="1200240"/>
                    <a:chOff x="3192120" y="4724280"/>
                    <a:chExt cx="2759760" cy="1200240"/>
                  </a:xfrm>
                </p:grpSpPr>
                <p:grpSp>
                  <p:nvGrpSpPr>
                    <p:cNvPr id="250" name=""/>
                    <p:cNvGrpSpPr/>
                    <p:nvPr/>
                  </p:nvGrpSpPr>
                  <p:grpSpPr>
                    <a:xfrm>
                      <a:off x="3192120" y="4724280"/>
                      <a:ext cx="2759760" cy="1200240"/>
                      <a:chOff x="3192120" y="4724280"/>
                      <a:chExt cx="2759760" cy="1200240"/>
                    </a:xfrm>
                  </p:grpSpPr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3192120" y="4724280"/>
                        <a:ext cx="2759760" cy="1200240"/>
                      </a:xfrm>
                      <a:prstGeom prst="flowChartExtract">
                        <a:avLst/>
                      </a:prstGeom>
                      <a:solidFill>
                        <a:srgbClr val="99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 flipH="1">
                        <a:off x="3802680" y="5604480"/>
                        <a:ext cx="226080" cy="320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 flipH="1">
                        <a:off x="3485880" y="5604480"/>
                        <a:ext cx="271440" cy="320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 flipH="1">
                        <a:off x="4119480" y="5604480"/>
                        <a:ext cx="180720" cy="320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>
                        <a:off x="4572000" y="5604480"/>
                        <a:ext cx="0" cy="320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4843440" y="5604480"/>
                        <a:ext cx="90360" cy="320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5069520" y="5604480"/>
                        <a:ext cx="135720" cy="320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258" name=""/>
                      <p:cNvSpPr/>
                      <p:nvPr/>
                    </p:nvSpPr>
                    <p:spPr>
                      <a:xfrm>
                        <a:off x="5340960" y="5604480"/>
                        <a:ext cx="180720" cy="320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</p:grpSp>
                <p:grpSp>
                  <p:nvGrpSpPr>
                    <p:cNvPr id="259" name=""/>
                    <p:cNvGrpSpPr/>
                    <p:nvPr/>
                  </p:nvGrpSpPr>
                  <p:grpSpPr>
                    <a:xfrm>
                      <a:off x="3553920" y="4724280"/>
                      <a:ext cx="2024280" cy="880200"/>
                      <a:chOff x="3553920" y="4724280"/>
                      <a:chExt cx="2024280" cy="880200"/>
                    </a:xfrm>
                  </p:grpSpPr>
                  <p:grpSp>
                    <p:nvGrpSpPr>
                      <p:cNvPr id="260" name=""/>
                      <p:cNvGrpSpPr/>
                      <p:nvPr/>
                    </p:nvGrpSpPr>
                    <p:grpSpPr>
                      <a:xfrm>
                        <a:off x="3553920" y="4724280"/>
                        <a:ext cx="2024280" cy="880200"/>
                        <a:chOff x="3553920" y="4724280"/>
                        <a:chExt cx="2024280" cy="880200"/>
                      </a:xfrm>
                    </p:grpSpPr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>
                          <a:off x="3553920" y="4724280"/>
                          <a:ext cx="2024280" cy="880200"/>
                        </a:xfrm>
                        <a:prstGeom prst="flowChartExtract">
                          <a:avLst/>
                        </a:prstGeom>
                        <a:solidFill>
                          <a:srgbClr val="c0c0c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Angsana New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H="1">
                          <a:off x="4021200" y="5337720"/>
                          <a:ext cx="180720" cy="26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Angsana New"/>
                          </a:endParaRPr>
                        </a:p>
                      </p:txBody>
                    </p:sp>
                    <p:sp>
                      <p:nvSpPr>
                        <p:cNvPr id="263" name=""/>
                        <p:cNvSpPr/>
                        <p:nvPr/>
                      </p:nvSpPr>
                      <p:spPr>
                        <a:xfrm>
                          <a:off x="4564080" y="5337720"/>
                          <a:ext cx="0" cy="26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Angsana New"/>
                          </a:endParaRPr>
                        </a:p>
                      </p:txBody>
                    </p:sp>
                    <p:sp>
                      <p:nvSpPr>
                        <p:cNvPr id="264" name=""/>
                        <p:cNvSpPr/>
                        <p:nvPr/>
                      </p:nvSpPr>
                      <p:spPr>
                        <a:xfrm>
                          <a:off x="4925880" y="5337720"/>
                          <a:ext cx="135360" cy="26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Angsana New"/>
                          </a:endParaRPr>
                        </a:p>
                      </p:txBody>
                    </p:sp>
                  </p:grpSp>
                  <p:grpSp>
                    <p:nvGrpSpPr>
                      <p:cNvPr id="265" name=""/>
                      <p:cNvGrpSpPr/>
                      <p:nvPr/>
                    </p:nvGrpSpPr>
                    <p:grpSpPr>
                      <a:xfrm>
                        <a:off x="3862800" y="4724280"/>
                        <a:ext cx="1402200" cy="613440"/>
                        <a:chOff x="3862800" y="4724280"/>
                        <a:chExt cx="1402200" cy="613440"/>
                      </a:xfrm>
                    </p:grpSpPr>
                    <p:sp>
                      <p:nvSpPr>
                        <p:cNvPr id="266" name=""/>
                        <p:cNvSpPr/>
                        <p:nvPr/>
                      </p:nvSpPr>
                      <p:spPr>
                        <a:xfrm>
                          <a:off x="3862800" y="4724280"/>
                          <a:ext cx="1402200" cy="613440"/>
                        </a:xfrm>
                        <a:prstGeom prst="flowChartExtract">
                          <a:avLst/>
                        </a:prstGeom>
                        <a:solidFill>
                          <a:srgbClr val="ff99cc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Angsana New"/>
                          </a:endParaRPr>
                        </a:p>
                      </p:txBody>
                    </p:sp>
                    <p:sp>
                      <p:nvSpPr>
                        <p:cNvPr id="267" name=""/>
                        <p:cNvSpPr/>
                        <p:nvPr/>
                      </p:nvSpPr>
                      <p:spPr>
                        <a:xfrm>
                          <a:off x="4563720" y="4724280"/>
                          <a:ext cx="0" cy="613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Angsana New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268" name=""/>
                <p:cNvSpPr/>
                <p:nvPr/>
              </p:nvSpPr>
              <p:spPr>
                <a:xfrm flipH="1">
                  <a:off x="4209840" y="5924520"/>
                  <a:ext cx="13572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753080" y="5924520"/>
                  <a:ext cx="9036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069520" y="5924520"/>
                  <a:ext cx="13572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340960" y="5924520"/>
                  <a:ext cx="22608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703120" y="5924520"/>
                  <a:ext cx="31644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3712320" y="5924520"/>
                  <a:ext cx="27144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349800" y="5924520"/>
                  <a:ext cx="31644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2942640" y="5924520"/>
                  <a:ext cx="40716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</p:grpSp>
      </p:grpSp>
      <p:grpSp>
        <p:nvGrpSpPr>
          <p:cNvPr id="276" name=""/>
          <p:cNvGrpSpPr/>
          <p:nvPr/>
        </p:nvGrpSpPr>
        <p:grpSpPr>
          <a:xfrm>
            <a:off x="4071960" y="779400"/>
            <a:ext cx="3521160" cy="623880"/>
            <a:chOff x="4071960" y="779400"/>
            <a:chExt cx="3521160" cy="623880"/>
          </a:xfrm>
        </p:grpSpPr>
        <p:sp>
          <p:nvSpPr>
            <p:cNvPr id="277" name=""/>
            <p:cNvSpPr/>
            <p:nvPr/>
          </p:nvSpPr>
          <p:spPr>
            <a:xfrm>
              <a:off x="5791320" y="77940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4071960" y="1022400"/>
              <a:ext cx="3521160" cy="380880"/>
              <a:chOff x="4071960" y="1022400"/>
              <a:chExt cx="3521160" cy="380880"/>
            </a:xfrm>
          </p:grpSpPr>
          <p:sp>
            <p:nvSpPr>
              <p:cNvPr id="279" name=""/>
              <p:cNvSpPr/>
              <p:nvPr/>
            </p:nvSpPr>
            <p:spPr>
              <a:xfrm>
                <a:off x="4419720" y="1066680"/>
                <a:ext cx="2514600" cy="336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71960" y="1022400"/>
                <a:ext cx="352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b2b2b2"/>
                    </a:solidFill>
                    <a:latin typeface="Angsana New"/>
                    <a:cs typeface="Angsana New"/>
                  </a:rPr>
                  <a:t>ความเชื่อมโยงกับสภาวะของท้องถิ่น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281" name=""/>
          <p:cNvGrpSpPr/>
          <p:nvPr/>
        </p:nvGrpSpPr>
        <p:grpSpPr>
          <a:xfrm>
            <a:off x="3870360" y="4724280"/>
            <a:ext cx="3117240" cy="612720"/>
            <a:chOff x="3870360" y="4724280"/>
            <a:chExt cx="3117240" cy="612720"/>
          </a:xfrm>
        </p:grpSpPr>
        <p:sp>
          <p:nvSpPr>
            <p:cNvPr id="282" name=""/>
            <p:cNvSpPr/>
            <p:nvPr/>
          </p:nvSpPr>
          <p:spPr>
            <a:xfrm>
              <a:off x="5029200" y="49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25240" y="4768920"/>
              <a:ext cx="196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จุดมุ่งหมาย </a:t>
              </a:r>
              <a:r>
                <a:rPr b="1" lang="en-US" sz="16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/</a:t>
              </a: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 </a:t>
              </a: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พันธกิจ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3870360" y="4724280"/>
              <a:ext cx="1403280" cy="612720"/>
              <a:chOff x="3870360" y="4724280"/>
              <a:chExt cx="1403280" cy="612720"/>
            </a:xfrm>
          </p:grpSpPr>
          <p:sp>
            <p:nvSpPr>
              <p:cNvPr id="285" name=""/>
              <p:cNvSpPr/>
              <p:nvPr/>
            </p:nvSpPr>
            <p:spPr>
              <a:xfrm>
                <a:off x="3870360" y="4724280"/>
                <a:ext cx="1403280" cy="612720"/>
              </a:xfrm>
              <a:prstGeom prst="flowChartExtra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572000" y="4724280"/>
                <a:ext cx="0" cy="61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287" name=""/>
          <p:cNvGrpSpPr/>
          <p:nvPr/>
        </p:nvGrpSpPr>
        <p:grpSpPr>
          <a:xfrm>
            <a:off x="3562200" y="4724280"/>
            <a:ext cx="4890600" cy="879480"/>
            <a:chOff x="3562200" y="4724280"/>
            <a:chExt cx="4890600" cy="879480"/>
          </a:xfrm>
        </p:grpSpPr>
        <p:sp>
          <p:nvSpPr>
            <p:cNvPr id="288" name=""/>
            <p:cNvSpPr/>
            <p:nvPr/>
          </p:nvSpPr>
          <p:spPr>
            <a:xfrm>
              <a:off x="5560920" y="5378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504760" y="5194440"/>
              <a:ext cx="294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วัตถุประสงค์ห้าปี</a:t>
              </a:r>
              <a:r>
                <a:rPr b="1" lang="en-US" sz="16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ตัวชี้วัด </a:t>
              </a:r>
              <a:r>
                <a:rPr b="1" lang="en-US" sz="16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(KPIs) 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3562200" y="4724280"/>
              <a:ext cx="2024280" cy="879480"/>
              <a:chOff x="3562200" y="4724280"/>
              <a:chExt cx="2024280" cy="87948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3562200" y="4724280"/>
                <a:ext cx="2024280" cy="879480"/>
                <a:chOff x="3562200" y="4724280"/>
                <a:chExt cx="2024280" cy="8794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562200" y="4724280"/>
                  <a:ext cx="2024280" cy="879480"/>
                </a:xfrm>
                <a:prstGeom prst="flowChartExtra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>
                  <a:off x="4029480" y="5337360"/>
                  <a:ext cx="180720" cy="26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572360" y="5337360"/>
                  <a:ext cx="0" cy="26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934160" y="5337360"/>
                  <a:ext cx="135360" cy="26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3871080" y="4724280"/>
                <a:ext cx="1402200" cy="613080"/>
                <a:chOff x="3871080" y="4724280"/>
                <a:chExt cx="1402200" cy="61308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871080" y="4724280"/>
                  <a:ext cx="1402200" cy="613080"/>
                </a:xfrm>
                <a:prstGeom prst="flowChartExtra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572000" y="4724280"/>
                  <a:ext cx="0" cy="61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</p:grpSp>
      </p:grpSp>
      <p:grpSp>
        <p:nvGrpSpPr>
          <p:cNvPr id="299" name=""/>
          <p:cNvGrpSpPr/>
          <p:nvPr/>
        </p:nvGrpSpPr>
        <p:grpSpPr>
          <a:xfrm>
            <a:off x="2762280" y="4724280"/>
            <a:ext cx="5350320" cy="1581120"/>
            <a:chOff x="2762280" y="4724280"/>
            <a:chExt cx="5350320" cy="1581120"/>
          </a:xfrm>
        </p:grpSpPr>
        <p:sp>
          <p:nvSpPr>
            <p:cNvPr id="300" name=""/>
            <p:cNvSpPr/>
            <p:nvPr/>
          </p:nvSpPr>
          <p:spPr>
            <a:xfrm>
              <a:off x="6324480" y="60516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54360" y="5867280"/>
              <a:ext cx="175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แนวทางการพัฒนา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2762280" y="4724280"/>
              <a:ext cx="3619440" cy="1581120"/>
              <a:chOff x="2762280" y="4724280"/>
              <a:chExt cx="3619440" cy="158112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2762280" y="4724280"/>
                <a:ext cx="3619440" cy="1581120"/>
                <a:chOff x="2762280" y="4724280"/>
                <a:chExt cx="3619440" cy="1581120"/>
              </a:xfrm>
            </p:grpSpPr>
            <p:grpSp>
              <p:nvGrpSpPr>
                <p:cNvPr id="304" name=""/>
                <p:cNvGrpSpPr/>
                <p:nvPr/>
              </p:nvGrpSpPr>
              <p:grpSpPr>
                <a:xfrm>
                  <a:off x="2762280" y="4730760"/>
                  <a:ext cx="3619440" cy="1574640"/>
                  <a:chOff x="2762280" y="4730760"/>
                  <a:chExt cx="3619440" cy="157464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2762280" y="4730760"/>
                    <a:ext cx="3619440" cy="1574640"/>
                  </a:xfrm>
                  <a:prstGeom prst="flowChartExtra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4572000" y="5925240"/>
                    <a:ext cx="0" cy="373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flipH="1">
                    <a:off x="3531240" y="5925240"/>
                    <a:ext cx="271440" cy="373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>
                    <a:off x="3169080" y="5925240"/>
                    <a:ext cx="316440" cy="373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H="1">
                    <a:off x="3893400" y="5925240"/>
                    <a:ext cx="226080" cy="373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4933800" y="5925240"/>
                    <a:ext cx="90360" cy="373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205240" y="5925240"/>
                    <a:ext cx="180720" cy="373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5522040" y="5925240"/>
                    <a:ext cx="226080" cy="373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3192120" y="4724280"/>
                  <a:ext cx="2759760" cy="1200960"/>
                  <a:chOff x="3192120" y="4724280"/>
                  <a:chExt cx="2759760" cy="1200960"/>
                </a:xfrm>
              </p:grpSpPr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3192120" y="4724280"/>
                    <a:ext cx="2759760" cy="1200960"/>
                    <a:chOff x="3192120" y="4724280"/>
                    <a:chExt cx="2759760" cy="120096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3192120" y="4724280"/>
                      <a:ext cx="2759760" cy="1200960"/>
                    </a:xfrm>
                    <a:prstGeom prst="flowChartExtract">
                      <a:avLst/>
                    </a:prstGeom>
                    <a:solidFill>
                      <a:srgbClr val="99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 flipH="1">
                      <a:off x="3802680" y="5604840"/>
                      <a:ext cx="226080" cy="320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flipH="1">
                      <a:off x="3485880" y="5604840"/>
                      <a:ext cx="271440" cy="320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flipH="1">
                      <a:off x="4119480" y="5604840"/>
                      <a:ext cx="180720" cy="320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4572000" y="5604840"/>
                      <a:ext cx="0" cy="320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4843440" y="5604840"/>
                      <a:ext cx="90360" cy="320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5069520" y="5604840"/>
                      <a:ext cx="135720" cy="320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5340960" y="5604840"/>
                      <a:ext cx="180720" cy="320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3553920" y="4724280"/>
                    <a:ext cx="2024280" cy="880560"/>
                    <a:chOff x="3553920" y="4724280"/>
                    <a:chExt cx="2024280" cy="880560"/>
                  </a:xfrm>
                </p:grpSpPr>
                <p:grpSp>
                  <p:nvGrpSpPr>
                    <p:cNvPr id="324" name=""/>
                    <p:cNvGrpSpPr/>
                    <p:nvPr/>
                  </p:nvGrpSpPr>
                  <p:grpSpPr>
                    <a:xfrm>
                      <a:off x="3553920" y="4724280"/>
                      <a:ext cx="2024280" cy="880560"/>
                      <a:chOff x="3553920" y="4724280"/>
                      <a:chExt cx="2024280" cy="880560"/>
                    </a:xfrm>
                  </p:grpSpPr>
                  <p:sp>
                    <p:nvSpPr>
                      <p:cNvPr id="325" name=""/>
                      <p:cNvSpPr/>
                      <p:nvPr/>
                    </p:nvSpPr>
                    <p:spPr>
                      <a:xfrm>
                        <a:off x="3553920" y="4724280"/>
                        <a:ext cx="2024280" cy="880560"/>
                      </a:xfrm>
                      <a:prstGeom prst="flowChartExtra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326" name=""/>
                      <p:cNvSpPr/>
                      <p:nvPr/>
                    </p:nvSpPr>
                    <p:spPr>
                      <a:xfrm flipH="1">
                        <a:off x="4021200" y="5338080"/>
                        <a:ext cx="180720" cy="266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4564080" y="5338080"/>
                        <a:ext cx="0" cy="266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>
                        <a:off x="4925880" y="5338080"/>
                        <a:ext cx="135360" cy="266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</p:grpSp>
                <p:grpSp>
                  <p:nvGrpSpPr>
                    <p:cNvPr id="329" name=""/>
                    <p:cNvGrpSpPr/>
                    <p:nvPr/>
                  </p:nvGrpSpPr>
                  <p:grpSpPr>
                    <a:xfrm>
                      <a:off x="3862800" y="4724280"/>
                      <a:ext cx="1402200" cy="613800"/>
                      <a:chOff x="3862800" y="4724280"/>
                      <a:chExt cx="1402200" cy="613800"/>
                    </a:xfrm>
                  </p:grpSpPr>
                  <p:sp>
                    <p:nvSpPr>
                      <p:cNvPr id="330" name=""/>
                      <p:cNvSpPr/>
                      <p:nvPr/>
                    </p:nvSpPr>
                    <p:spPr>
                      <a:xfrm>
                        <a:off x="3862800" y="4724280"/>
                        <a:ext cx="1402200" cy="613800"/>
                      </a:xfrm>
                      <a:prstGeom prst="flowChartExtract">
                        <a:avLst/>
                      </a:prstGeom>
                      <a:solidFill>
                        <a:srgbClr val="ff99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331" name=""/>
                      <p:cNvSpPr/>
                      <p:nvPr/>
                    </p:nvSpPr>
                    <p:spPr>
                      <a:xfrm>
                        <a:off x="4563720" y="4724280"/>
                        <a:ext cx="0" cy="613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332" name=""/>
              <p:cNvSpPr/>
              <p:nvPr/>
            </p:nvSpPr>
            <p:spPr>
              <a:xfrm flipH="1">
                <a:off x="4209840" y="5925240"/>
                <a:ext cx="13572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53080" y="5925240"/>
                <a:ext cx="9036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069520" y="5925240"/>
                <a:ext cx="13572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340960" y="5925240"/>
                <a:ext cx="22608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03120" y="5925240"/>
                <a:ext cx="31644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712320" y="5925240"/>
                <a:ext cx="27144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349800" y="5925240"/>
                <a:ext cx="31644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942640" y="5925240"/>
                <a:ext cx="40716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340" name=""/>
          <p:cNvGrpSpPr/>
          <p:nvPr/>
        </p:nvGrpSpPr>
        <p:grpSpPr>
          <a:xfrm>
            <a:off x="3192480" y="4724280"/>
            <a:ext cx="4252320" cy="1200240"/>
            <a:chOff x="3192480" y="4724280"/>
            <a:chExt cx="4252320" cy="1200240"/>
          </a:xfrm>
        </p:grpSpPr>
        <p:sp>
          <p:nvSpPr>
            <p:cNvPr id="341" name=""/>
            <p:cNvSpPr/>
            <p:nvPr/>
          </p:nvSpPr>
          <p:spPr>
            <a:xfrm>
              <a:off x="5948280" y="5715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8440" y="5562720"/>
              <a:ext cx="138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เป้าหมายรายปี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3192480" y="4724280"/>
              <a:ext cx="2759040" cy="1200240"/>
              <a:chOff x="3192480" y="4724280"/>
              <a:chExt cx="2759040" cy="1200240"/>
            </a:xfrm>
          </p:grpSpPr>
          <p:sp>
            <p:nvSpPr>
              <p:cNvPr id="344" name=""/>
              <p:cNvSpPr/>
              <p:nvPr/>
            </p:nvSpPr>
            <p:spPr>
              <a:xfrm>
                <a:off x="4572000" y="560448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grpSp>
            <p:nvGrpSpPr>
              <p:cNvPr id="345" name=""/>
              <p:cNvGrpSpPr/>
              <p:nvPr/>
            </p:nvGrpSpPr>
            <p:grpSpPr>
              <a:xfrm>
                <a:off x="3192480" y="4724280"/>
                <a:ext cx="2759040" cy="1200240"/>
                <a:chOff x="3192480" y="4724280"/>
                <a:chExt cx="2759040" cy="1200240"/>
              </a:xfrm>
            </p:grpSpPr>
            <p:grpSp>
              <p:nvGrpSpPr>
                <p:cNvPr id="346" name=""/>
                <p:cNvGrpSpPr/>
                <p:nvPr/>
              </p:nvGrpSpPr>
              <p:grpSpPr>
                <a:xfrm>
                  <a:off x="3192480" y="4724280"/>
                  <a:ext cx="2759040" cy="1200240"/>
                  <a:chOff x="3192480" y="4724280"/>
                  <a:chExt cx="2759040" cy="120024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3192480" y="4724280"/>
                    <a:ext cx="2759040" cy="1200240"/>
                  </a:xfrm>
                  <a:prstGeom prst="flowChartExtra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H="1">
                    <a:off x="3803040" y="5604480"/>
                    <a:ext cx="226080" cy="320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flipH="1">
                    <a:off x="3485880" y="5604480"/>
                    <a:ext cx="271080" cy="320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H="1">
                    <a:off x="4119480" y="5604480"/>
                    <a:ext cx="180720" cy="320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4572000" y="5604480"/>
                    <a:ext cx="0" cy="320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4843440" y="5604480"/>
                    <a:ext cx="90360" cy="320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5069520" y="5604480"/>
                    <a:ext cx="135360" cy="320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5340600" y="5604480"/>
                    <a:ext cx="180720" cy="320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3554280" y="4724280"/>
                  <a:ext cx="2023920" cy="880200"/>
                  <a:chOff x="3554280" y="4724280"/>
                  <a:chExt cx="2023920" cy="880200"/>
                </a:xfrm>
              </p:grpSpPr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3554280" y="4724280"/>
                    <a:ext cx="2023920" cy="880200"/>
                    <a:chOff x="3554280" y="4724280"/>
                    <a:chExt cx="2023920" cy="88020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3554280" y="4724280"/>
                      <a:ext cx="2023920" cy="880200"/>
                    </a:xfrm>
                    <a:prstGeom prst="flowChartExtract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flipH="1">
                      <a:off x="4021560" y="5337720"/>
                      <a:ext cx="180720" cy="26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>
                      <a:off x="4564080" y="5337720"/>
                      <a:ext cx="0" cy="26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4925880" y="5337720"/>
                      <a:ext cx="135360" cy="26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3863160" y="4724280"/>
                    <a:ext cx="1402200" cy="613440"/>
                    <a:chOff x="3863160" y="4724280"/>
                    <a:chExt cx="1402200" cy="61344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3863160" y="4724280"/>
                      <a:ext cx="1402200" cy="613440"/>
                    </a:xfrm>
                    <a:prstGeom prst="flowChartExtract">
                      <a:avLst/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4564080" y="4724280"/>
                      <a:ext cx="0" cy="613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9A48-0CD9-4807-B6FE-EA845D6D93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1628640"/>
            <a:ext cx="8077320" cy="567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50000"/>
              </a:lnSpc>
              <a:spcBef>
                <a:spcPts val="3750"/>
              </a:spcBef>
              <a:buClr>
                <a:srgbClr val="ffff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00"/>
                </a:solidFill>
                <a:latin typeface="Angsana New"/>
                <a:cs typeface="Angsana New"/>
              </a:rPr>
              <a:t>หลักการวางแผนในการ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ngsana New"/>
                <a:ea typeface="Angsana New"/>
              </a:rPr>
              <a:t>    </a:t>
            </a:r>
            <a:r>
              <a:rPr b="1" lang="hi-IN" sz="6000" spc="-1" strike="noStrike">
                <a:solidFill>
                  <a:srgbClr val="ffff00"/>
                </a:solidFill>
                <a:latin typeface="Angsana New"/>
                <a:cs typeface="Angsana New"/>
              </a:rPr>
              <a:t>ติดตามประเมินผล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ngsana New"/>
              </a:rPr>
              <a:t>2. </a:t>
            </a:r>
            <a:r>
              <a:rPr b="1" lang="hi-IN" sz="6000" spc="-1" strike="noStrike">
                <a:solidFill>
                  <a:srgbClr val="00ffcc"/>
                </a:solidFill>
                <a:latin typeface="Angsana New"/>
                <a:cs typeface="Angsana New"/>
              </a:rPr>
              <a:t>ปัจจัยสภาวะแวดล้อม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ngsana New"/>
                <a:ea typeface="Angsana New"/>
              </a:rPr>
              <a:t>    </a:t>
            </a:r>
            <a:r>
              <a:rPr b="1" lang="hi-IN" sz="6000" spc="-1" strike="noStrike">
                <a:solidFill>
                  <a:srgbClr val="00ffcc"/>
                </a:solidFill>
                <a:latin typeface="Angsana New"/>
                <a:cs typeface="Angsana New"/>
              </a:rPr>
              <a:t>ที่เกี่ยวข้องกับการวางแผนพัฒนา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ff"/>
                </a:solidFill>
                <a:latin typeface="Angsana New"/>
              </a:rPr>
              <a:t>3. </a:t>
            </a:r>
            <a:r>
              <a:rPr b="1" lang="hi-IN" sz="6000" spc="-1" strike="noStrike">
                <a:solidFill>
                  <a:srgbClr val="ffccff"/>
                </a:solidFill>
                <a:latin typeface="Angsana New"/>
                <a:cs typeface="Angsana New"/>
              </a:rPr>
              <a:t>การประเมินผลกับ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ff"/>
                </a:solidFill>
                <a:latin typeface="Angsana New"/>
                <a:ea typeface="Angsana New"/>
              </a:rPr>
              <a:t>    </a:t>
            </a:r>
            <a:r>
              <a:rPr b="1" lang="hi-IN" sz="6000" spc="-1" strike="noStrike">
                <a:solidFill>
                  <a:srgbClr val="ffccff"/>
                </a:solidFill>
                <a:latin typeface="Angsana New"/>
                <a:cs typeface="Angsana New"/>
              </a:rPr>
              <a:t>การจัดการเชิงกลยุทธ์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0"/>
            <a:ext cx="815364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Browallia New"/>
              </a:rPr>
              <a:t>ประเด็นที่ต้องศึกษา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7A21-8263-43CE-8624-43F25F356552}" type="slidenum">
              <a:t>2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ข้อมูลปัญหาด้าน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............... </a:t>
            </a:r>
            <a:br>
              <a:rPr sz="3200"/>
            </a:b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ตำบล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.......... </a:t>
            </a: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อำเภอ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.........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457200" y="1295280"/>
          <a:ext cx="8229600" cy="5105520"/>
        </p:xfrm>
        <a:graphic>
          <a:graphicData uri="http://schemas.openxmlformats.org/drawingml/2006/table">
            <a:tbl>
              <a:tblPr/>
              <a:tblGrid>
                <a:gridCol w="609480"/>
                <a:gridCol w="2133720"/>
                <a:gridCol w="1371600"/>
                <a:gridCol w="1371600"/>
                <a:gridCol w="1371600"/>
                <a:gridCol w="1371600"/>
              </a:tblGrid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ลำดับที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ัญห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ที่ตั้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สภา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/</a:t>
                      </a: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ขนาดของปัญห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ำนวนผู้ได้รั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ลกระท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</a:t>
                      </a: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รัวเรือ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/</a:t>
                      </a: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ัวชี้วัดควา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รุนแรงของปัญห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321-A23C-4B60-A478-C1904B0AF4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ข้อมูลในช่องสภาพของปัญหา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ลักษณะของปัญหา และขนาด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36520" indent="-236520"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ระยะเวลาที่เกิดปัญหา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36520" indent="-236520"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พื้นที่ที่ครอบคลุม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36520" indent="-236520"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มูลค่าความเสียหายในปัจจุบัน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36520" indent="-236520"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ประวัติการเกิดของปัญหาและความเสียหายย้อนหลัง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36520" indent="-236520"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ผลการดำเนินการแก้ไขในอดีต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36520" indent="-236520"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แนวโน้มของปัญหาในอนาคต และความเสียหาย    ที่อาจจะเกิด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ED4D-1DCE-474C-8B98-A1A8B7EA5B6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ตารางสรุปปัญหาและสาเหตุ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1600200" y="1066680"/>
          <a:ext cx="6095880" cy="50292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ัญห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สาเหต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E255-30FD-4F64-8D36-43B012DDA0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ตารางสรุปประเด็นและข้อมูลพื้นฐานปัญหา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600200" y="1066680"/>
          <a:ext cx="6095880" cy="50292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ระเด็นปัญห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ข้อมูลพื้นฐา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1CC7-D438-4590-B251-1698F7165C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ข้อมูลความต้องการที่ตอบสนองต่อปัญหาด้าน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..... </a:t>
            </a:r>
            <a:br>
              <a:rPr sz="3200"/>
            </a:b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ตำบล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 </a:t>
            </a: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อำเภอ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57200" y="1295280"/>
          <a:ext cx="8229600" cy="5105520"/>
        </p:xfrm>
        <a:graphic>
          <a:graphicData uri="http://schemas.openxmlformats.org/drawingml/2006/table">
            <a:tbl>
              <a:tblPr/>
              <a:tblGrid>
                <a:gridCol w="609480"/>
                <a:gridCol w="2590920"/>
                <a:gridCol w="1600200"/>
                <a:gridCol w="1752480"/>
                <a:gridCol w="167652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ลำดับที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วามต้องกา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อบสนองต่อปัญห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ที่ตั้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ู้ที่ได้รับประโยชน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</a:t>
                      </a: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รัวเรือ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/</a:t>
                      </a: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งบประมาณที่คาดว่าจะต้องใช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B325-84C6-460C-AD91-CD1A71FCF6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ngsana New"/>
              </a:rPr>
              <a:t>ศักยภาพของท้องถิ่นหมายถึง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62485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ต้นทุนทางสังคมและวัฒนธรรม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ต้นทุนด้านทรัพยากรมนุษย์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ต้นทุนด้านทรัพยากรธรรมชาติและสิ่งแวดล้อม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ต้นทุนด้านสภาพภูมิประเทศและภูมิอากาศ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ต้นทุนทางด้านเทคโนโลยี และโครงสร้างพื้นฐา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6" name=""/>
          <p:cNvSpPr/>
          <p:nvPr/>
        </p:nvSpPr>
        <p:spPr>
          <a:xfrm>
            <a:off x="1219320" y="5029200"/>
            <a:ext cx="6781680" cy="1434600"/>
          </a:xfrm>
          <a:prstGeom prst="rect">
            <a:avLst/>
          </a:prstGeom>
          <a:solidFill>
            <a:srgbClr val="f7f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Arial Narrow"/>
                <a:cs typeface="Angsana New"/>
              </a:rPr>
              <a:t>ที่จะสามารถนำมาพัฒนาให้เกิดมูลค่าเพิ่มขึ้น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1A00-18F7-48DC-AE7E-D13732617D5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ข้อมูลศักยภาพด้าน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..... </a:t>
            </a:r>
            <a:br>
              <a:rPr sz="3200"/>
            </a:b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ตำบล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 </a:t>
            </a: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อำเภอ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457200" y="1295280"/>
          <a:ext cx="8229600" cy="5105520"/>
        </p:xfrm>
        <a:graphic>
          <a:graphicData uri="http://schemas.openxmlformats.org/drawingml/2006/table">
            <a:tbl>
              <a:tblPr/>
              <a:tblGrid>
                <a:gridCol w="609480"/>
                <a:gridCol w="2590920"/>
                <a:gridCol w="1600200"/>
                <a:gridCol w="1752480"/>
                <a:gridCol w="1676520"/>
              </a:tblGrid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ลำดับที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ศักยภา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ที่ตั้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ใช้ศักยภา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ู้ได้รับประโยชน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ัจจุบัน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โอกาสในการพัฒน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ใช้เป็น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............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ู้ได้รับผลประโยชน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.......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น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......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รัวเรือ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สร้าง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/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ทำ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..........................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.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วามจำเป็น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3.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งบประมาณ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..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.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ู้ได้รับผลประโยชน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.......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น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......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รัวเรือ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760F-07DB-4C7A-A872-289868E74E7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ตารางสรุปประเด็นและข้อมูลพื้นฐานศักยภาพ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600200" y="1066680"/>
          <a:ext cx="6095880" cy="50292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ระเด็นศักยภาพ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ข้อมูลพื้นฐา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9F91-6E73-44DC-9086-F256DF3F769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ข้อมูลความต้องการที่ตอบสนองต่อศักยภาพด้าน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..... </a:t>
            </a:r>
            <a:br>
              <a:rPr sz="3200"/>
            </a:b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ตำบล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 </a:t>
            </a: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อำเภอ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457200" y="1295280"/>
          <a:ext cx="8229600" cy="5105520"/>
        </p:xfrm>
        <a:graphic>
          <a:graphicData uri="http://schemas.openxmlformats.org/drawingml/2006/table">
            <a:tbl>
              <a:tblPr/>
              <a:tblGrid>
                <a:gridCol w="609480"/>
                <a:gridCol w="2590920"/>
                <a:gridCol w="1600200"/>
                <a:gridCol w="1752480"/>
                <a:gridCol w="167652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ลำดับที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วามต้องกา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อบสนองต่อศักยภา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ที่ตั้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ู้ที่ได้รับประโยชน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</a:t>
                      </a: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รัวเรือ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/</a:t>
                      </a: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งบประมาณที่คาดว่าจะต้องใช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955A-DB3E-4CAF-B0B2-51B9B89F607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ตารางสรุปประเด็นและข้อมูลพื้นฐานยุทธศาสตร์แห่งรัฐ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600200" y="1066680"/>
          <a:ext cx="6095880" cy="50292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ระเด็นฯ แห่งรัฐ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ข้อมูลพื้นฐา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625A-6764-455F-A835-3A3D649466D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640" y="0"/>
            <a:ext cx="8077320" cy="934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99"/>
                </a:solidFill>
                <a:latin typeface="Angsana New"/>
                <a:ea typeface="Angsana New"/>
              </a:rPr>
              <a:t>4. </a:t>
            </a:r>
            <a:r>
              <a:rPr b="1" lang="hi-IN" sz="6000" spc="-1" strike="noStrike">
                <a:solidFill>
                  <a:srgbClr val="99ff99"/>
                </a:solidFill>
                <a:latin typeface="Angsana New"/>
                <a:cs typeface="Angsana New"/>
              </a:rPr>
              <a:t>รูปแบบ</a:t>
            </a:r>
            <a:r>
              <a:rPr b="1" lang="en-US" sz="6000" spc="-1" strike="noStrike">
                <a:solidFill>
                  <a:srgbClr val="99ff99"/>
                </a:solidFill>
                <a:latin typeface="Angsana New"/>
                <a:ea typeface="Angsana New"/>
              </a:rPr>
              <a:t>/</a:t>
            </a:r>
            <a:r>
              <a:rPr b="1" lang="hi-IN" sz="6000" spc="-1" strike="noStrike">
                <a:solidFill>
                  <a:srgbClr val="99ff99"/>
                </a:solidFill>
                <a:latin typeface="Angsana New"/>
                <a:cs typeface="Angsana New"/>
              </a:rPr>
              <a:t>ประเด็นการติดตามประเมินผล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ngsana New"/>
                <a:ea typeface="Angsana New"/>
              </a:rPr>
              <a:t>5. </a:t>
            </a:r>
            <a:r>
              <a:rPr b="1" lang="hi-IN" sz="6000" spc="-1" strike="noStrike">
                <a:solidFill>
                  <a:srgbClr val="ffff00"/>
                </a:solidFill>
                <a:latin typeface="Angsana New"/>
                <a:cs typeface="Angsana New"/>
              </a:rPr>
              <a:t>การติดตามผลการปฏิบัติงานอย่างมีประสิทธิภาพ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ff"/>
                </a:solidFill>
                <a:latin typeface="Angsana New"/>
                <a:ea typeface="Angsana New"/>
              </a:rPr>
              <a:t>6. </a:t>
            </a:r>
            <a:r>
              <a:rPr b="1" lang="hi-IN" sz="6000" spc="-1" strike="noStrike">
                <a:solidFill>
                  <a:srgbClr val="ff99ff"/>
                </a:solidFill>
                <a:latin typeface="Angsana New"/>
                <a:cs typeface="Angsana New"/>
              </a:rPr>
              <a:t>การรายงานผลจากการติดตามและประเมินผลงาน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6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370E-6BE6-4711-9991-8610317FE0EE}" type="slidenum">
              <a:t>3</a:t>
            </a:fld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ข้อมูลความต้องการที่ตอบสนองยุทธศาสตร์แห่งรัฐด้าน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..... </a:t>
            </a:r>
            <a:br>
              <a:rPr sz="3200"/>
            </a:b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ตำบล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 </a:t>
            </a: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อำเภอ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57200" y="1295280"/>
          <a:ext cx="8229600" cy="5105520"/>
        </p:xfrm>
        <a:graphic>
          <a:graphicData uri="http://schemas.openxmlformats.org/drawingml/2006/table">
            <a:tbl>
              <a:tblPr/>
              <a:tblGrid>
                <a:gridCol w="609480"/>
                <a:gridCol w="2590920"/>
                <a:gridCol w="1600200"/>
                <a:gridCol w="1752480"/>
                <a:gridCol w="167652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ลำดับที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วามต้องกา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อบสนองต่อยุทธศาสตร์แห่งรั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ที่ตั้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ู้ที่ได้รับประโยชน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</a:t>
                      </a: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รัวเรือ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/</a:t>
                      </a: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งบประมาณที่คาดว่าจะต้องใช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FB72-E8CA-4A03-95EC-7DC31C9FA8E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905120" y="45720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rial Narrow"/>
                <a:cs typeface="Angsana New"/>
              </a:rPr>
              <a:t>สรุปประเด็นหลักในการพัฒนา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838080" y="1828800"/>
          <a:ext cx="7925040" cy="3987720"/>
        </p:xfrm>
        <a:graphic>
          <a:graphicData uri="http://schemas.openxmlformats.org/drawingml/2006/table">
            <a:tbl>
              <a:tblPr/>
              <a:tblGrid>
                <a:gridCol w="1981440"/>
                <a:gridCol w="1981080"/>
                <a:gridCol w="1981080"/>
                <a:gridCol w="1981440"/>
              </a:tblGrid>
              <a:tr h="25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่อสาเหตุของปัญห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่อศักยภาพ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่อนโยบายท้องถิ่น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่อนโยบายของรั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C6B1-8941-4BE0-B5BD-7C2A413AE2D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ตารางวิเคราะห์ผลที่มุ่งมั่นให้สำเร็จ</a:t>
            </a:r>
            <a:br>
              <a:rPr sz="4400"/>
            </a:b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ตามประเด็นการพัฒนา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685800" y="1981080"/>
          <a:ext cx="7772400" cy="393048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19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ระเด็นการพัฒน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สิ่งที่จะต้องทำให้เกิดหรือม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ลลัพธ์ที่มุ่งหวังสูงสุด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.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บริหารจัดการสิ่งแวดล้อมและมลพิ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................................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3................................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.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มีระบบบริหารจัดการสิ่งแวดล้อมที่ทันสมัยและพอเพีย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................................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3................................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.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ท้องถิ่นสะอาด ปลอดมลพิ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................................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3................................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1002-3C86-46B5-81FA-96C5D4C474B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000000"/>
                </a:solidFill>
                <a:latin typeface="Angsana New"/>
              </a:rPr>
              <a:t>วิสัยทัศน์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คือ สภาพการณ์ที่เราปรารถนาให้เกิดขึ้นในอนาคต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2714760" y="3581280"/>
            <a:ext cx="2238120" cy="3024360"/>
          </a:xfrm>
          <a:prstGeom prst="rect">
            <a:avLst/>
          </a:prstGeom>
          <a:ln w="0">
            <a:noFill/>
          </a:ln>
        </p:spPr>
      </p:pic>
      <p:grpSp>
        <p:nvGrpSpPr>
          <p:cNvPr id="394" name=""/>
          <p:cNvGrpSpPr/>
          <p:nvPr/>
        </p:nvGrpSpPr>
        <p:grpSpPr>
          <a:xfrm>
            <a:off x="3657600" y="2057400"/>
            <a:ext cx="3581280" cy="2057400"/>
            <a:chOff x="3657600" y="2057400"/>
            <a:chExt cx="3581280" cy="2057400"/>
          </a:xfrm>
        </p:grpSpPr>
        <p:sp>
          <p:nvSpPr>
            <p:cNvPr id="395" name=""/>
            <p:cNvSpPr/>
            <p:nvPr/>
          </p:nvSpPr>
          <p:spPr>
            <a:xfrm>
              <a:off x="3657600" y="2057400"/>
              <a:ext cx="3581280" cy="2057400"/>
            </a:xfrm>
            <a:prstGeom prst="cloudCallout">
              <a:avLst>
                <a:gd name="adj1" fmla="val -27129"/>
                <a:gd name="adj2" fmla="val 4482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2"/>
            <a:stretch/>
          </p:blipFill>
          <p:spPr>
            <a:xfrm>
              <a:off x="4019400" y="2295360"/>
              <a:ext cx="2818800" cy="145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"/>
          <p:cNvSpPr/>
          <p:nvPr/>
        </p:nvSpPr>
        <p:spPr>
          <a:xfrm>
            <a:off x="6019920" y="464832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 Narrow"/>
                <a:cs typeface="Angsana New"/>
              </a:rPr>
              <a:t>เราอยากเป็นอะไร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CF5F-5539-4297-B4F4-E1975F28797C}" type="slidenum">
              <a:t>33</a:t>
            </a:fld>
          </a:p>
        </p:txBody>
      </p:sp>
    </p:spTree>
  </p:cSld>
  <p:transition>
    <p:cover dir="l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วิสัยทัศน์จะต้องเป็น </a:t>
            </a:r>
            <a:r>
              <a:rPr b="0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     </a:t>
            </a:r>
            <a:r>
              <a:rPr b="0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</a:t>
            </a:r>
            <a:r>
              <a:rPr b="1" lang="th-TH" sz="17200" spc="-1" strike="noStrike">
                <a:solidFill>
                  <a:srgbClr val="000000"/>
                </a:solidFill>
                <a:latin typeface="Angsana New"/>
              </a:rPr>
              <a:t>จุด</a:t>
            </a:r>
            <a:endParaRPr b="0" lang="en-US" sz="17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มิใช่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1" lang="th-TH" sz="8000" spc="-1" strike="noStrike">
                <a:solidFill>
                  <a:srgbClr val="000000"/>
                </a:solidFill>
                <a:latin typeface="Angsana New"/>
              </a:rPr>
              <a:t>แนวทาง</a:t>
            </a:r>
            <a:endParaRPr b="0" lang="en-US" sz="8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0" name=""/>
          <p:cNvSpPr/>
          <p:nvPr/>
        </p:nvSpPr>
        <p:spPr>
          <a:xfrm>
            <a:off x="5292720" y="2276640"/>
            <a:ext cx="576360" cy="50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46AB-4D37-4BFB-8CA6-6D3CDD6F3A2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00"/>
                </a:solidFill>
                <a:latin typeface="Angsana New"/>
              </a:rPr>
              <a:t>ลักษณะของวิสัยทัศน์ที่ดี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เป็นไปได้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ล้ำหน้าและท้าทาย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จำได้แค่ชายตา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สัญญาที่มุ่งมั่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เป็นสิ่งที่เราอยากสร้างสรรค์ที่จะชี้นำแนวทางดำเนินงา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2351-9388-422E-9A36-97B9228C118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395280" y="52560"/>
          <a:ext cx="8269200" cy="6805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2560"/>
                    <a:ext cx="8269200" cy="68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6EEB-1019-40F8-820C-4D108F47632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ngsana New"/>
              </a:rPr>
              <a:t>การกำหนดภารกิจหลัก</a:t>
            </a:r>
            <a:r>
              <a:rPr b="1" lang="en-US" sz="60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พื่อทำ </a:t>
            </a:r>
            <a:r>
              <a:rPr b="1" lang="en-US" sz="6000" spc="-1" strike="noStrike">
                <a:solidFill>
                  <a:srgbClr val="000000"/>
                </a:solidFill>
                <a:latin typeface="Angsana New"/>
                <a:ea typeface="Angsana New"/>
              </a:rPr>
              <a:t>JD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2438280" y="5486400"/>
            <a:ext cx="4162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คำตอบคือ ภารกิจหลัก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8" name=""/>
          <p:cNvSpPr/>
          <p:nvPr/>
        </p:nvSpPr>
        <p:spPr>
          <a:xfrm>
            <a:off x="1295280" y="2057400"/>
            <a:ext cx="6629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Narrow"/>
                <a:cs typeface="Angsana New"/>
              </a:rPr>
              <a:t>คือ การตอบคำถามว่า  “องค์กรของเราจัดตั้งขึ้นมาเพื่อมีหน้าที่หลักอะไร”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B289-4480-4A21-8A76-63A89F869866}" type="slidenum">
              <a:t>37</a:t>
            </a:fld>
          </a:p>
        </p:txBody>
      </p:sp>
    </p:spTree>
  </p:cSld>
  <p:transition>
    <p:cover dir="l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การกำหนดพันธกิจหลัก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ต้องทราบปัญหา ความต้องการ และศักยภาพก่อ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ต้องทราบสถานภาพ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จุดแข็ง จุดอ่อน โอกาส และอุปสรรค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ก่อ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ต้องทราบวิสัยทัศน์ และจุดมุ่งหมายก่อ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ตอบคำถามว่า ท้องถิ่นต้องทำอะไรเพื่อให้บรรลุวิสัยทัศน์และจุดมุ่งหมายที่กำหนดไว้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438280" y="5486400"/>
            <a:ext cx="4162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คำตอบคือ พันธกิจหลัก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ADCB-E7EC-4C68-9D58-F276C8CC8EE2}" type="slidenum">
              <a:t>38</a:t>
            </a:fld>
          </a:p>
        </p:txBody>
      </p:sp>
    </p:spTree>
  </p:cSld>
  <p:transition>
    <p:cover dir="l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ngsana New"/>
              </a:rPr>
              <a:t>การกำหนดจุดมุ่งหมายของการพัฒนาท้องถิ่น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3" name=""/>
          <p:cNvSpPr/>
          <p:nvPr/>
        </p:nvSpPr>
        <p:spPr>
          <a:xfrm>
            <a:off x="1905120" y="1981080"/>
            <a:ext cx="5943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คือการตอบคำถามว่า การบรรลุวิสัยทัศน์ของท้องถิ่น จะต้องมี     ส่วนประกอบอะไรบ้าง หรือ จะต้องสร้างอะไรให้เกิดขึ้นบ้าง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9121-CA02-4547-B613-7CC46BD1D30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6019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52856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Angsana New"/>
                <a:cs typeface="Angsana New"/>
              </a:rPr>
              <a:t>สิ่งที่ต้องรู้</a:t>
            </a:r>
            <a:br>
              <a:rPr sz="7200"/>
            </a:br>
            <a:r>
              <a:rPr b="1" lang="en-US" sz="5900" spc="-1" strike="noStrike">
                <a:solidFill>
                  <a:srgbClr val="ff0066"/>
                </a:solidFill>
                <a:latin typeface="Angsana New"/>
                <a:ea typeface="Angsana New"/>
              </a:rPr>
              <a:t>1. </a:t>
            </a:r>
            <a:r>
              <a:rPr b="1" lang="en-US" sz="5900" spc="-1" strike="noStrike">
                <a:solidFill>
                  <a:srgbClr val="ff0066"/>
                </a:solidFill>
                <a:latin typeface="Angsana New"/>
                <a:cs typeface="Angsana New"/>
              </a:rPr>
              <a:t>งานในหน้าที่</a:t>
            </a:r>
            <a:br>
              <a:rPr sz="5900"/>
            </a:br>
            <a:r>
              <a:rPr b="1" lang="en-US" sz="5900" spc="-1" strike="noStrike">
                <a:solidFill>
                  <a:srgbClr val="ff0066"/>
                </a:solidFill>
                <a:latin typeface="Angsana New"/>
                <a:ea typeface="Angsana New"/>
              </a:rPr>
              <a:t>   </a:t>
            </a:r>
            <a:r>
              <a:rPr b="1" lang="en-US" sz="5900" spc="-1" strike="noStrike">
                <a:solidFill>
                  <a:srgbClr val="ff0066"/>
                </a:solidFill>
                <a:latin typeface="Angsana New"/>
                <a:ea typeface="Angsana New"/>
              </a:rPr>
              <a:t>(JD-Job Description)</a:t>
            </a:r>
            <a:br>
              <a:rPr sz="5900"/>
            </a:br>
            <a:r>
              <a:rPr b="1" lang="en-US" sz="5900" spc="-1" strike="noStrike">
                <a:solidFill>
                  <a:srgbClr val="ff0066"/>
                </a:solidFill>
                <a:latin typeface="Angsana New"/>
                <a:ea typeface="Angsana New"/>
              </a:rPr>
              <a:t>2. </a:t>
            </a:r>
            <a:r>
              <a:rPr b="1" lang="en-US" sz="5900" spc="-1" strike="noStrike">
                <a:solidFill>
                  <a:srgbClr val="ff0066"/>
                </a:solidFill>
                <a:latin typeface="Angsana New"/>
                <a:cs typeface="Angsana New"/>
              </a:rPr>
              <a:t>ทิศทางการพัฒนาของ อปท</a:t>
            </a:r>
            <a:r>
              <a:rPr b="1" lang="en-US" sz="5900" spc="-1" strike="noStrike">
                <a:solidFill>
                  <a:srgbClr val="ff0066"/>
                </a:solidFill>
                <a:latin typeface="Angsana New"/>
                <a:ea typeface="Angsana New"/>
              </a:rPr>
              <a:t>.</a:t>
            </a:r>
            <a:br>
              <a:rPr sz="5900"/>
            </a:br>
            <a:r>
              <a:rPr b="1" lang="en-US" sz="5900" spc="-1" strike="noStrike">
                <a:solidFill>
                  <a:srgbClr val="ff0066"/>
                </a:solidFill>
                <a:latin typeface="Angsana New"/>
                <a:ea typeface="Angsana New"/>
              </a:rPr>
              <a:t>3.  </a:t>
            </a:r>
            <a:r>
              <a:rPr b="1" lang="en-US" sz="5900" spc="-1" strike="noStrike">
                <a:solidFill>
                  <a:srgbClr val="ff0066"/>
                </a:solidFill>
                <a:latin typeface="Angsana New"/>
                <a:cs typeface="Angsana New"/>
              </a:rPr>
              <a:t>การวางแผนทุกระดับ</a:t>
            </a:r>
            <a:br>
              <a:rPr sz="5900"/>
            </a:br>
            <a:r>
              <a:rPr b="1" lang="en-US" sz="5900" spc="-1" strike="noStrike">
                <a:solidFill>
                  <a:srgbClr val="ff0066"/>
                </a:solidFill>
                <a:latin typeface="Angsana New"/>
                <a:ea typeface="Angsana New"/>
              </a:rPr>
              <a:t>4.  </a:t>
            </a:r>
            <a:r>
              <a:rPr b="1" lang="en-US" sz="5900" spc="-1" strike="noStrike">
                <a:solidFill>
                  <a:srgbClr val="ff0066"/>
                </a:solidFill>
                <a:latin typeface="Angsana New"/>
                <a:cs typeface="Angsana New"/>
              </a:rPr>
              <a:t>การวิเคราะห์ </a:t>
            </a:r>
            <a:r>
              <a:rPr b="1" lang="en-US" sz="5900" spc="-1" strike="noStrike">
                <a:solidFill>
                  <a:srgbClr val="ff0066"/>
                </a:solidFill>
                <a:latin typeface="Angsana New"/>
                <a:ea typeface="Angsana New"/>
              </a:rPr>
              <a:t>SWOT </a:t>
            </a:r>
            <a:r>
              <a:rPr b="1" lang="en-US" sz="5900" spc="-1" strike="noStrike">
                <a:solidFill>
                  <a:srgbClr val="ff0066"/>
                </a:solidFill>
                <a:latin typeface="Angsana New"/>
                <a:cs typeface="Angsana New"/>
              </a:rPr>
              <a:t>ขององค์กร  </a:t>
            </a:r>
            <a:br>
              <a:rPr sz="5900"/>
            </a:br>
            <a:r>
              <a:rPr b="1" lang="en-US" sz="5900" spc="-1" strike="noStrike">
                <a:solidFill>
                  <a:srgbClr val="ff0066"/>
                </a:solidFill>
                <a:latin typeface="Angsana New"/>
                <a:ea typeface="Angsana New"/>
              </a:rPr>
              <a:t>     และพื้นที่</a:t>
            </a:r>
            <a:br>
              <a:rPr sz="5900"/>
            </a:br>
            <a:br>
              <a:rPr sz="5900"/>
            </a:br>
            <a:br>
              <a:rPr sz="5900"/>
            </a:br>
            <a:endParaRPr b="0" lang="en-US" sz="59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C64C-0EDC-451E-8F1A-9A973A7B5E5B}" type="slidenum">
              <a:t>4</a:t>
            </a:fld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การกำหนดจุดมุ่งหมาย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752480" y="167616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กำหนดจากผลที่มุ่งมั่นจะให้เกิดจากการพัฒนาตามประเด็นในการพัฒนาที่ผ่านการวิเคราะห์ว่าเป็นไปได้ และเป็นปัจจัยที่สำคัญในการบรรลุวิสัยทัศน์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F10F-2BF6-4AAB-BB6F-EEE0D64726D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ngsana New"/>
              </a:rPr>
              <a:t>ตารางวิเคราะห์เพื่อกำหนดยุทธศาสตร์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345960" y="1371240"/>
            <a:ext cx="8226720" cy="4953240"/>
            <a:chOff x="345960" y="1371240"/>
            <a:chExt cx="8226720" cy="4953240"/>
          </a:xfrm>
        </p:grpSpPr>
        <p:grpSp>
          <p:nvGrpSpPr>
            <p:cNvPr id="418" name=""/>
            <p:cNvGrpSpPr/>
            <p:nvPr/>
          </p:nvGrpSpPr>
          <p:grpSpPr>
            <a:xfrm>
              <a:off x="533520" y="1447920"/>
              <a:ext cx="8001000" cy="4876560"/>
              <a:chOff x="533520" y="1447920"/>
              <a:chExt cx="8001000" cy="4876560"/>
            </a:xfrm>
          </p:grpSpPr>
          <p:sp>
            <p:nvSpPr>
              <p:cNvPr id="419" name=""/>
              <p:cNvSpPr/>
              <p:nvPr/>
            </p:nvSpPr>
            <p:spPr>
              <a:xfrm>
                <a:off x="533520" y="1447920"/>
                <a:ext cx="8001000" cy="4876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33520" y="2705040"/>
                <a:ext cx="800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971800" y="1447920"/>
                <a:ext cx="0" cy="487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19720" y="1447920"/>
                <a:ext cx="0" cy="487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600200" y="1447920"/>
                <a:ext cx="0" cy="487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791320" y="1447920"/>
                <a:ext cx="0" cy="487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238880" y="1447920"/>
                <a:ext cx="0" cy="487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345960" y="1599840"/>
              <a:ext cx="1425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วิสัยทัศน์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87000" y="1599840"/>
              <a:ext cx="1911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จุดมุ่งหมาย</a:t>
              </a:r>
              <a:r>
                <a:rPr b="0" lang="en-US" sz="28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/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ภารกิจหลัก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34920" y="1599840"/>
              <a:ext cx="1915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วัตถุประสงค์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381560" y="1599840"/>
              <a:ext cx="142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เป้าหมาย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05080" y="158364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ตัวชี้วัด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13600" y="1371240"/>
              <a:ext cx="145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แนวทาง</a:t>
              </a:r>
              <a:r>
                <a:rPr b="0" lang="en-US" sz="28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/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กลยุทธ์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99AA-5C1E-47E2-A322-111D6D805E5C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ngsana New"/>
              </a:rPr>
              <a:t>การกำหนดวัตถุประสงค์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* </a:t>
            </a: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การกำหนดความต้องการที่สอดคล้องกับจุดมุ่งหมาย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294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* </a:t>
            </a: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มีความชัดเจน วัดผลได้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294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* </a:t>
            </a: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มีความเข้าใจตรงกัน และเห็นพ้องกัน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294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* </a:t>
            </a: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มีความเป็นไปได้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294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* </a:t>
            </a: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มีกำหนดระยะเวลา สถานที่ที่แน่นอน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59F6-EB8D-44BE-80F4-F0D491BA7A98}" type="slidenum">
              <a:t>42</a:t>
            </a:fld>
          </a:p>
        </p:txBody>
      </p:sp>
    </p:spTree>
  </p:cSld>
  <p:transition>
    <p:cover dir="l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758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0" spc="-1" strike="noStrike">
                <a:solidFill>
                  <a:srgbClr val="ffff00"/>
                </a:solidFill>
                <a:latin typeface="Angsana New"/>
                <a:cs typeface="AngsanaUPC"/>
              </a:rPr>
              <a:t>วัตถุประสงค์</a:t>
            </a:r>
            <a:endParaRPr b="0" lang="en-US" sz="8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5" name=""/>
          <p:cNvSpPr/>
          <p:nvPr/>
        </p:nvSpPr>
        <p:spPr>
          <a:xfrm>
            <a:off x="497520" y="2560680"/>
            <a:ext cx="5066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  <a:ea typeface="AngsanaUPC"/>
              </a:rPr>
              <a:t> </a:t>
            </a:r>
            <a:r>
              <a:rPr b="0" lang="hi-IN" sz="6600" spc="-1" strike="noStrike">
                <a:solidFill>
                  <a:srgbClr val="ffff00"/>
                </a:solidFill>
                <a:latin typeface="Times New Roman"/>
                <a:cs typeface="AngsanaUPC"/>
              </a:rPr>
              <a:t>ทำอะไร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  <a:ea typeface="AngsanaUPC"/>
              </a:rPr>
              <a:t> </a:t>
            </a:r>
            <a:r>
              <a:rPr b="0" lang="hi-IN" sz="6600" spc="-1" strike="noStrike">
                <a:solidFill>
                  <a:srgbClr val="ffff00"/>
                </a:solidFill>
                <a:latin typeface="Times New Roman"/>
                <a:cs typeface="AngsanaUPC"/>
              </a:rPr>
              <a:t>ปริมาณเท่าใด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  <a:ea typeface="AngsanaUPC"/>
              </a:rPr>
              <a:t> </a:t>
            </a:r>
            <a:r>
              <a:rPr b="0" lang="hi-IN" sz="6600" spc="-1" strike="noStrike">
                <a:solidFill>
                  <a:srgbClr val="ffff00"/>
                </a:solidFill>
                <a:latin typeface="Times New Roman"/>
                <a:cs typeface="AngsanaUPC"/>
              </a:rPr>
              <a:t>ใช้เวลาเท่าใด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6" name=""/>
          <p:cNvSpPr/>
          <p:nvPr/>
        </p:nvSpPr>
        <p:spPr>
          <a:xfrm>
            <a:off x="669960" y="1614600"/>
            <a:ext cx="35971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imes New Roman"/>
                <a:cs typeface="AngsanaUPC"/>
              </a:rPr>
              <a:t>บอก</a:t>
            </a:r>
            <a:r>
              <a:rPr b="0" lang="th-TH" sz="3200" spc="-1" strike="noStrike">
                <a:solidFill>
                  <a:srgbClr val="ffff00"/>
                </a:solidFill>
                <a:latin typeface="Times New Roman"/>
                <a:ea typeface="AngsanaUPC"/>
              </a:rPr>
              <a:t>...</a:t>
            </a:r>
            <a:r>
              <a:rPr b="0" lang="th-TH" sz="3200" spc="-1" strike="noStrike">
                <a:solidFill>
                  <a:srgbClr val="ffff00"/>
                </a:solidFill>
                <a:latin typeface="Times New Roman"/>
                <a:cs typeface="AngsanaUPC"/>
              </a:rPr>
              <a:t>ช่วงเวลา</a:t>
            </a:r>
            <a:r>
              <a:rPr b="0" lang="th-TH" sz="4800" spc="-1" strike="noStrike">
                <a:solidFill>
                  <a:srgbClr val="ff0000"/>
                </a:solidFill>
                <a:latin typeface="Times New Roman"/>
                <a:cs typeface="AngsanaUPC"/>
              </a:rPr>
              <a:t>ทั้งหมด</a:t>
            </a:r>
            <a:r>
              <a:rPr b="0" lang="th-TH" sz="3200" spc="-1" strike="noStrike">
                <a:solidFill>
                  <a:srgbClr val="ffff00"/>
                </a:solidFill>
                <a:latin typeface="Times New Roman"/>
                <a:cs typeface="AngsanaUPC"/>
              </a:rPr>
              <a:t>ว่า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FE78-3055-4B44-A1DE-05940D85A85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85800" y="453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เป้าหมาย</a:t>
            </a:r>
            <a:endParaRPr b="0" lang="en-US" sz="8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8" name=""/>
          <p:cNvSpPr/>
          <p:nvPr/>
        </p:nvSpPr>
        <p:spPr>
          <a:xfrm>
            <a:off x="15840" y="2255760"/>
            <a:ext cx="5066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  <a:ea typeface="AngsanaUPC"/>
              </a:rPr>
              <a:t> </a:t>
            </a:r>
            <a:r>
              <a:rPr b="0" lang="hi-IN" sz="66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ทำอะไร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  <a:ea typeface="AngsanaUPC"/>
              </a:rPr>
              <a:t> </a:t>
            </a:r>
            <a:r>
              <a:rPr b="0" lang="hi-IN" sz="66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ปริมาณเท่าใด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  <a:ea typeface="AngsanaUPC"/>
              </a:rPr>
              <a:t> </a:t>
            </a:r>
            <a:r>
              <a:rPr b="0" lang="hi-IN" sz="66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ใช้เวลาเท่าใด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9" name=""/>
          <p:cNvSpPr/>
          <p:nvPr/>
        </p:nvSpPr>
        <p:spPr>
          <a:xfrm>
            <a:off x="898560" y="1309680"/>
            <a:ext cx="48164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บอก</a:t>
            </a:r>
            <a:r>
              <a:rPr b="0" lang="th-TH" sz="3200" spc="-1" strike="noStrike">
                <a:solidFill>
                  <a:srgbClr val="3333cc"/>
                </a:solidFill>
                <a:latin typeface="Times New Roman"/>
                <a:ea typeface="AngsanaUPC"/>
              </a:rPr>
              <a:t>...</a:t>
            </a:r>
            <a:r>
              <a:rPr b="0" lang="th-TH" sz="3200" spc="-1" strike="noStrike">
                <a:solidFill>
                  <a:srgbClr val="66ff66"/>
                </a:solidFill>
                <a:latin typeface="Times New Roman"/>
                <a:ea typeface="AngsanaUPC"/>
              </a:rPr>
              <a:t> </a:t>
            </a:r>
            <a:r>
              <a:rPr b="0" lang="th-TH" sz="4800" spc="-1" strike="noStrike">
                <a:solidFill>
                  <a:srgbClr val="ff0000"/>
                </a:solidFill>
                <a:latin typeface="Times New Roman"/>
                <a:cs typeface="AngsanaUPC"/>
              </a:rPr>
              <a:t>แต่ละช่วงเวลา</a:t>
            </a:r>
            <a:r>
              <a:rPr b="0" lang="th-TH" sz="4800" spc="-1" strike="noStrike">
                <a:solidFill>
                  <a:srgbClr val="66ff66"/>
                </a:solidFill>
                <a:latin typeface="Times New Roman"/>
                <a:ea typeface="AngsanaUPC"/>
              </a:rPr>
              <a:t> </a:t>
            </a:r>
            <a:r>
              <a:rPr b="0" lang="th-TH" sz="32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ว่า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0" name=""/>
          <p:cNvSpPr/>
          <p:nvPr/>
        </p:nvSpPr>
        <p:spPr>
          <a:xfrm>
            <a:off x="5695560" y="3081240"/>
            <a:ext cx="408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วัตถุประสงค์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267080" y="2209680"/>
            <a:ext cx="2576520" cy="2895840"/>
            <a:chOff x="4267080" y="2209680"/>
            <a:chExt cx="2576520" cy="2895840"/>
          </a:xfrm>
        </p:grpSpPr>
        <p:sp>
          <p:nvSpPr>
            <p:cNvPr id="442" name=""/>
            <p:cNvSpPr/>
            <p:nvPr/>
          </p:nvSpPr>
          <p:spPr>
            <a:xfrm>
              <a:off x="4374000" y="3267000"/>
              <a:ext cx="2469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000" spc="-1" strike="noStrike">
                  <a:solidFill>
                    <a:srgbClr val="000000"/>
                  </a:solidFill>
                  <a:latin typeface="Times New Roman"/>
                  <a:cs typeface="AngsanaUPC"/>
                </a:rPr>
                <a:t>รวมแล้ว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AngsanaUPC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AngsanaUPC"/>
                </a:rPr>
                <a:t>= </a:t>
              </a:r>
              <a:endParaRPr b="0" lang="en-US" sz="4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267080" y="2209680"/>
              <a:ext cx="457200" cy="289584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75240 h 2895840"/>
                <a:gd name="textAreaBottom" fmla="*/ 2820600 h 289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3F0C-7B78-41E5-AF2B-6823AF70C2D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000000"/>
                </a:solidFill>
                <a:latin typeface="Angsana New"/>
              </a:rPr>
              <a:t>วิธีการกำหนดตัวชี้วัดผลสำเร็จ 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390320" y="220968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พิจารณาเป้าหมายที่กำหนดไว้จากยุทธศาสตร์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ตอบคำถาม “สิ่งใดที่ชี้บ่งว่าการดำเนินงานประสบ ผลสำเร็จตามเป้าหมาย”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สิ่งที่บ่งว่าการดำเนินงานประสบผลสำเร็จคือ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505320" y="441972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ตัวชี้วัด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E326-E22A-42A5-8E5E-91E91FCFE2DD}" type="slidenum">
              <a:t>45</a:t>
            </a:fld>
          </a:p>
        </p:txBody>
      </p:sp>
    </p:spTree>
  </p:cSld>
  <p:transition>
    <p:cover dir="l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000000"/>
                </a:solidFill>
                <a:latin typeface="Angsana New"/>
              </a:rPr>
              <a:t>ค่าของตัวชี้วัด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ร้อยละ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(Percentage)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อัตราส่วน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(Ratio)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สัดส่วน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(Proportion)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อัตรา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(Rate)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จำนวน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(Number)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ค่าเฉลี่ย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(Average or Mean)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9AED-23EB-4E43-BE15-05EDB5B16583}" type="slidenum">
              <a:t>46</a:t>
            </a:fld>
          </a:p>
        </p:txBody>
      </p:sp>
    </p:spTree>
  </p:cSld>
  <p:transition>
    <p:cover dir="l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371600" y="60948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cs typeface="Angsana New"/>
              </a:rPr>
              <a:t>ตัวชี้วัดเชิงปริมาณ </a:t>
            </a: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Angsana New"/>
              </a:rPr>
              <a:t>VS </a:t>
            </a:r>
            <a:r>
              <a:rPr b="1" lang="en-US" sz="4800" spc="-1" strike="noStrike">
                <a:solidFill>
                  <a:srgbClr val="000000"/>
                </a:solidFill>
                <a:latin typeface="Arial Narrow"/>
                <a:cs typeface="Angsana New"/>
              </a:rPr>
              <a:t>ตัวชี้วัดเชิงคุณภาพ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0" name=""/>
          <p:cNvSpPr/>
          <p:nvPr/>
        </p:nvSpPr>
        <p:spPr>
          <a:xfrm>
            <a:off x="1981080" y="2286000"/>
            <a:ext cx="594360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rial Narrow"/>
                <a:cs typeface="Angsana New"/>
              </a:rPr>
              <a:t>เชิงปริมาณ ให้ดูที่ หน่วยนับ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rial Narrow"/>
                <a:cs typeface="Angsana New"/>
              </a:rPr>
              <a:t>เชิงคุณภาพ ให้ดูที่ สรรพคุณ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9D35-1B10-4773-A093-84BED40D06D6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มุมมองของการจัดทำดัชนีชี้วัดผลสำเร็จ </a:t>
            </a: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(KPI)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มุมมองด้านผู้ใช้บริการ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มุมมองด้านองค์กร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มุมมองด้านนวัตกรรม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มุมมองด้านการเงิ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5029200" y="1828800"/>
            <a:ext cx="3819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alanced Scorecard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"/>
          <p:cNvSpPr/>
          <p:nvPr/>
        </p:nvSpPr>
        <p:spPr>
          <a:xfrm>
            <a:off x="6553080" y="28195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 Narrow"/>
                <a:cs typeface="Angsana New"/>
              </a:rPr>
              <a:t>โดย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5" name=""/>
          <p:cNvSpPr/>
          <p:nvPr/>
        </p:nvSpPr>
        <p:spPr>
          <a:xfrm>
            <a:off x="5105520" y="36576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Robert Kaplan &amp;David Norto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371600" y="4800600"/>
            <a:ext cx="2685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สำนักงาน ก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.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พ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.</a:t>
            </a:r>
            <a:endParaRPr b="0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7" name=""/>
          <p:cNvSpPr/>
          <p:nvPr/>
        </p:nvSpPr>
        <p:spPr>
          <a:xfrm>
            <a:off x="5105520" y="5105520"/>
            <a:ext cx="3276360" cy="19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 Narrow"/>
                <a:ea typeface="Angsana New"/>
              </a:rPr>
              <a:t>   </a:t>
            </a:r>
            <a:r>
              <a:rPr b="1" lang="th-TH" sz="2800" spc="-1" strike="noStrike">
                <a:solidFill>
                  <a:srgbClr val="000000"/>
                </a:solidFill>
                <a:latin typeface="Arial Narrow"/>
                <a:cs typeface="Angsana New"/>
              </a:rPr>
              <a:t>มุมมองด้านประชาชนและ      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 Narrow"/>
                <a:ea typeface="Angsana New"/>
              </a:rPr>
              <a:t>    </a:t>
            </a:r>
            <a:r>
              <a:rPr b="1" lang="th-TH" sz="2800" spc="-1" strike="noStrike">
                <a:solidFill>
                  <a:srgbClr val="000000"/>
                </a:solidFill>
                <a:latin typeface="Arial Narrow"/>
                <a:cs typeface="Angsana New"/>
              </a:rPr>
              <a:t>ประเทศชาติ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8" name=""/>
          <p:cNvSpPr/>
          <p:nvPr/>
        </p:nvSpPr>
        <p:spPr>
          <a:xfrm>
            <a:off x="4267080" y="5334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6B44-8C76-4968-AB4B-E6441902DE4A}" type="slidenum">
              <a:t>48</a:t>
            </a:fld>
          </a:p>
        </p:txBody>
      </p:sp>
    </p:spTree>
  </p:cSld>
  <p:transition>
    <p:cover dir="l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เกณฑ์เปรียบเทียบเพื่อกำหนดตัวชี้วัด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กฎหมาย ระเบียบปฏิบัติ ข้อบังคับ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เกณฑ์มาตรฐานทางวิทยาศาสตร์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สถิติของการดำเนินการที่ผ่านมาทั้งจากภายในและภายนอก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94A-9BE1-41A9-A8EE-E985866F90AE}" type="slidenum">
              <a:t>49</a:t>
            </a:fld>
          </a:p>
        </p:txBody>
      </p:sp>
    </p:spTree>
  </p:cSld>
  <p:transition>
    <p:cover dir="l"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1280" y="1844640"/>
            <a:ext cx="8128080" cy="71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buClr>
                <a:srgbClr val="cc99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99ff"/>
                </a:solidFill>
                <a:latin typeface="Angsana New"/>
                <a:ea typeface="Angsana New"/>
              </a:rPr>
              <a:t> </a:t>
            </a:r>
            <a:r>
              <a:rPr b="1" lang="hi-IN" sz="6000" spc="-1" strike="noStrike">
                <a:solidFill>
                  <a:srgbClr val="cc99ff"/>
                </a:solidFill>
                <a:latin typeface="Angsana New"/>
                <a:cs typeface="Angsana New"/>
              </a:rPr>
              <a:t>การตรวจติดตามงาน การปฏิบัติงาน เพื่อลดปัญหาที่เกิดขึ้นระหว่างการดำเนินงาน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spcBef>
                <a:spcPts val="3750"/>
              </a:spcBef>
              <a:buClr>
                <a:srgbClr val="cc99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cc99ff"/>
                </a:solidFill>
                <a:latin typeface="Angsana New"/>
                <a:cs typeface="Angsana New"/>
              </a:rPr>
              <a:t>การติดตามเป็นเครื่องมือที่ใช้ควบคุมการดำเนินงานเพื่อปรับปรุง เปลี่ยนแปลงการปฏิบัติงานเมื่อมีปัญหา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212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ngsanaUPC"/>
              </a:rPr>
              <a:t>การติดตาม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ngsanaUPC"/>
              </a:rPr>
              <a:t>(monitoring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ngsanaUPC"/>
              <a:ea typeface="AngsanaUP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2EE-1817-44F2-8D5C-AD5CC4F07A3A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000000"/>
                </a:solidFill>
                <a:latin typeface="Angsana New"/>
              </a:rPr>
              <a:t>ปัจจัยในการกำหนดค่าตัวชี้วัด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ประเภทของค่าตัวชี้วัด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ผลผลิต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หน่วยนับผลผลิต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ปริมาณผลผลิต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เกณฑ์เปรียบเทียบ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2514600" cy="252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9254-F43E-4F50-BE16-D2D26A817680}" type="slidenum">
              <a:t>50</a:t>
            </a:fld>
          </a:p>
        </p:txBody>
      </p:sp>
    </p:spTree>
  </p:cSld>
  <p:transition>
    <p:cover dir="l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905120" y="30492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แบบฝึกตัวชี้วัดผลสำเร็จ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ngsanaUPC"/>
              </a:rPr>
              <a:t>(KPI)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5" name=""/>
          <p:cNvSpPr/>
          <p:nvPr/>
        </p:nvSpPr>
        <p:spPr>
          <a:xfrm>
            <a:off x="5165640" y="5537160"/>
            <a:ext cx="2835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6" name=""/>
          <p:cNvSpPr/>
          <p:nvPr/>
        </p:nvSpPr>
        <p:spPr>
          <a:xfrm>
            <a:off x="990720" y="5537160"/>
            <a:ext cx="417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สัดส่วนผู้บริหารชายหญิงเท่ากับ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1:1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7" name=""/>
          <p:cNvSpPr/>
          <p:nvPr/>
        </p:nvSpPr>
        <p:spPr>
          <a:xfrm>
            <a:off x="5165640" y="5019840"/>
            <a:ext cx="2835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8" name=""/>
          <p:cNvSpPr/>
          <p:nvPr/>
        </p:nvSpPr>
        <p:spPr>
          <a:xfrm>
            <a:off x="990720" y="5019840"/>
            <a:ext cx="4174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มีผู้ว่างงานนอกฤดูการเกษตรร้อยละ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9" name=""/>
          <p:cNvSpPr/>
          <p:nvPr/>
        </p:nvSpPr>
        <p:spPr>
          <a:xfrm>
            <a:off x="5165640" y="4502160"/>
            <a:ext cx="2835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0" name=""/>
          <p:cNvSpPr/>
          <p:nvPr/>
        </p:nvSpPr>
        <p:spPr>
          <a:xfrm>
            <a:off x="990720" y="4502160"/>
            <a:ext cx="417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ชช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.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มีรายได้ต่อหัวให้ถึง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3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หมื่นบาท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1" name=""/>
          <p:cNvSpPr/>
          <p:nvPr/>
        </p:nvSpPr>
        <p:spPr>
          <a:xfrm>
            <a:off x="5165640" y="3984480"/>
            <a:ext cx="2835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2" name=""/>
          <p:cNvSpPr/>
          <p:nvPr/>
        </p:nvSpPr>
        <p:spPr>
          <a:xfrm>
            <a:off x="990720" y="3984480"/>
            <a:ext cx="417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ลดอัตราผู้ติดยาเสพติดให้เหลือ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/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พั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3" name=""/>
          <p:cNvSpPr/>
          <p:nvPr/>
        </p:nvSpPr>
        <p:spPr>
          <a:xfrm>
            <a:off x="5165640" y="3467160"/>
            <a:ext cx="2835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4" name=""/>
          <p:cNvSpPr/>
          <p:nvPr/>
        </p:nvSpPr>
        <p:spPr>
          <a:xfrm>
            <a:off x="990720" y="3467160"/>
            <a:ext cx="4174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เพิ่มอัตราส่วนครูต่อนักเรียนเป็น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1:2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5" name=""/>
          <p:cNvSpPr/>
          <p:nvPr/>
        </p:nvSpPr>
        <p:spPr>
          <a:xfrm>
            <a:off x="5165640" y="2949480"/>
            <a:ext cx="2835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6" name=""/>
          <p:cNvSpPr/>
          <p:nvPr/>
        </p:nvSpPr>
        <p:spPr>
          <a:xfrm>
            <a:off x="990720" y="2949480"/>
            <a:ext cx="417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ลดค่าเฉลี่ยปริมาณขยะต่อครัวเรือ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7" name=""/>
          <p:cNvSpPr/>
          <p:nvPr/>
        </p:nvSpPr>
        <p:spPr>
          <a:xfrm>
            <a:off x="5165640" y="2432160"/>
            <a:ext cx="2835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8" name=""/>
          <p:cNvSpPr/>
          <p:nvPr/>
        </p:nvSpPr>
        <p:spPr>
          <a:xfrm>
            <a:off x="990720" y="2432160"/>
            <a:ext cx="4174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ก่อสร้างถนนคอนกรีตสิบกิโลเมตร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9" name=""/>
          <p:cNvSpPr/>
          <p:nvPr/>
        </p:nvSpPr>
        <p:spPr>
          <a:xfrm>
            <a:off x="5165640" y="1914480"/>
            <a:ext cx="2835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0" name=""/>
          <p:cNvSpPr/>
          <p:nvPr/>
        </p:nvSpPr>
        <p:spPr>
          <a:xfrm>
            <a:off x="990720" y="1914480"/>
            <a:ext cx="417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ฝึกอบรมอาชีพสองพันค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990720" y="1397160"/>
            <a:ext cx="7010280" cy="4657680"/>
            <a:chOff x="990720" y="1397160"/>
            <a:chExt cx="7010280" cy="4657680"/>
          </a:xfrm>
        </p:grpSpPr>
        <p:sp>
          <p:nvSpPr>
            <p:cNvPr id="482" name=""/>
            <p:cNvSpPr/>
            <p:nvPr/>
          </p:nvSpPr>
          <p:spPr>
            <a:xfrm>
              <a:off x="5165640" y="1397160"/>
              <a:ext cx="2835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AngsanaUPC"/>
                </a:rPr>
                <a:t>ตัวชี้วัดเชิงปริมาณ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90720" y="1397160"/>
              <a:ext cx="41749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AngsanaUPC"/>
                </a:rPr>
                <a:t>เป้าหมาย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990720" y="1397160"/>
              <a:ext cx="7010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90720" y="191448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90720" y="243216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990720" y="294948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90720" y="346716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90720" y="398448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90720" y="450216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90720" y="501984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90720" y="553716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990720" y="6054840"/>
              <a:ext cx="7010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90720" y="1397160"/>
              <a:ext cx="0" cy="4657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65640" y="1397160"/>
              <a:ext cx="0" cy="465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01000" y="1397160"/>
              <a:ext cx="0" cy="4657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BE6B-D266-4216-86A2-B9A1246981D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905120" y="30492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แบบฝึกตัวชี้วัดผลสำเร็จ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ngsanaUPC"/>
              </a:rPr>
              <a:t>(KPI)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8" name=""/>
          <p:cNvSpPr/>
          <p:nvPr/>
        </p:nvSpPr>
        <p:spPr>
          <a:xfrm>
            <a:off x="5165640" y="5537160"/>
            <a:ext cx="2835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9" name=""/>
          <p:cNvSpPr/>
          <p:nvPr/>
        </p:nvSpPr>
        <p:spPr>
          <a:xfrm>
            <a:off x="990720" y="5537160"/>
            <a:ext cx="417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ผลิตครกให้ได้สามหมื่นใบ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0" name=""/>
          <p:cNvSpPr/>
          <p:nvPr/>
        </p:nvSpPr>
        <p:spPr>
          <a:xfrm>
            <a:off x="5165640" y="5019840"/>
            <a:ext cx="2835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1" name=""/>
          <p:cNvSpPr/>
          <p:nvPr/>
        </p:nvSpPr>
        <p:spPr>
          <a:xfrm>
            <a:off x="990720" y="5019840"/>
            <a:ext cx="4174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สร้างงานในชุมชนให้ได้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100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ตำแหน่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2" name=""/>
          <p:cNvSpPr/>
          <p:nvPr/>
        </p:nvSpPr>
        <p:spPr>
          <a:xfrm>
            <a:off x="5165640" y="4502160"/>
            <a:ext cx="2835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3" name=""/>
          <p:cNvSpPr/>
          <p:nvPr/>
        </p:nvSpPr>
        <p:spPr>
          <a:xfrm>
            <a:off x="990720" y="4502160"/>
            <a:ext cx="417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เพิ่มรายได้ต่อหัวให้ถึง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3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หมื่นบาท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4" name=""/>
          <p:cNvSpPr/>
          <p:nvPr/>
        </p:nvSpPr>
        <p:spPr>
          <a:xfrm>
            <a:off x="5165640" y="3984480"/>
            <a:ext cx="2835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5" name=""/>
          <p:cNvSpPr/>
          <p:nvPr/>
        </p:nvSpPr>
        <p:spPr>
          <a:xfrm>
            <a:off x="990720" y="3984480"/>
            <a:ext cx="417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ลดอัตราผู้ติดยาเสพติดให้เหลือ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/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พั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6" name=""/>
          <p:cNvSpPr/>
          <p:nvPr/>
        </p:nvSpPr>
        <p:spPr>
          <a:xfrm>
            <a:off x="5165640" y="3467160"/>
            <a:ext cx="2835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7" name=""/>
          <p:cNvSpPr/>
          <p:nvPr/>
        </p:nvSpPr>
        <p:spPr>
          <a:xfrm>
            <a:off x="990720" y="3467160"/>
            <a:ext cx="4174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ลดพื้นที่น้ำท่วมให้เหลือ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3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ตร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.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กม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8" name=""/>
          <p:cNvSpPr/>
          <p:nvPr/>
        </p:nvSpPr>
        <p:spPr>
          <a:xfrm>
            <a:off x="5165640" y="2949480"/>
            <a:ext cx="2835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9" name=""/>
          <p:cNvSpPr/>
          <p:nvPr/>
        </p:nvSpPr>
        <p:spPr>
          <a:xfrm>
            <a:off x="990720" y="2949480"/>
            <a:ext cx="417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ลดค่าเฉลี่ยปริมาณขยะต่อครัวเรือ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0" name=""/>
          <p:cNvSpPr/>
          <p:nvPr/>
        </p:nvSpPr>
        <p:spPr>
          <a:xfrm>
            <a:off x="5165640" y="2432160"/>
            <a:ext cx="2835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1" name=""/>
          <p:cNvSpPr/>
          <p:nvPr/>
        </p:nvSpPr>
        <p:spPr>
          <a:xfrm>
            <a:off x="990720" y="2432160"/>
            <a:ext cx="4174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ก่อสร้างถนนคอนกรีตสามกิโลเมตร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2" name=""/>
          <p:cNvSpPr/>
          <p:nvPr/>
        </p:nvSpPr>
        <p:spPr>
          <a:xfrm>
            <a:off x="5165640" y="1914480"/>
            <a:ext cx="2835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3" name=""/>
          <p:cNvSpPr/>
          <p:nvPr/>
        </p:nvSpPr>
        <p:spPr>
          <a:xfrm>
            <a:off x="990720" y="1914480"/>
            <a:ext cx="417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ก่อสร้างศาลาพักร้อนห้าหลั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990720" y="1397160"/>
            <a:ext cx="7010280" cy="4657680"/>
            <a:chOff x="990720" y="1397160"/>
            <a:chExt cx="7010280" cy="4657680"/>
          </a:xfrm>
        </p:grpSpPr>
        <p:sp>
          <p:nvSpPr>
            <p:cNvPr id="515" name=""/>
            <p:cNvSpPr/>
            <p:nvPr/>
          </p:nvSpPr>
          <p:spPr>
            <a:xfrm>
              <a:off x="5165640" y="1397160"/>
              <a:ext cx="2835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AngsanaUPC"/>
                </a:rPr>
                <a:t>ตัวชี้วัด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90720" y="1397160"/>
              <a:ext cx="41749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AngsanaUPC"/>
                </a:rPr>
                <a:t>วัตถุประสงค์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AngsanaUPC"/>
                </a:rPr>
                <a:t>(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AngsanaUPC"/>
                </a:rPr>
                <a:t>เพื่อ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AngsanaUPC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90720" y="1397160"/>
              <a:ext cx="7010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90720" y="191448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990720" y="243216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90720" y="294948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0720" y="346716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90720" y="398448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90720" y="450216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90720" y="501984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90720" y="553716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90720" y="6054840"/>
              <a:ext cx="7010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90720" y="1397160"/>
              <a:ext cx="0" cy="4657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65640" y="1397160"/>
              <a:ext cx="0" cy="465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01000" y="1397160"/>
              <a:ext cx="0" cy="4657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FBD9-5F50-4FD8-9B0F-0604F5C877D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228600" y="5664240"/>
            <a:ext cx="41162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ผลิตครกให้ได้สามหมื่นใบ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1" name=""/>
          <p:cNvSpPr/>
          <p:nvPr/>
        </p:nvSpPr>
        <p:spPr>
          <a:xfrm>
            <a:off x="228600" y="5146560"/>
            <a:ext cx="4116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สร้างงานในชุมชนให้ได้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100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ตำแหน่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2" name=""/>
          <p:cNvSpPr/>
          <p:nvPr/>
        </p:nvSpPr>
        <p:spPr>
          <a:xfrm>
            <a:off x="228600" y="4629240"/>
            <a:ext cx="41162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เพิ่มรายได้ต่อหัวให้ถึง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3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หมื่นบาท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" y="4111560"/>
            <a:ext cx="4116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ลดอัตราผู้ติดยาเสพติดให้เหลือ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พั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4" name=""/>
          <p:cNvSpPr/>
          <p:nvPr/>
        </p:nvSpPr>
        <p:spPr>
          <a:xfrm>
            <a:off x="228600" y="3594240"/>
            <a:ext cx="41162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ลดพื้นที่น้ำท่วมให้เหลือ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3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ตร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กม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5" name=""/>
          <p:cNvSpPr/>
          <p:nvPr/>
        </p:nvSpPr>
        <p:spPr>
          <a:xfrm>
            <a:off x="228600" y="3076560"/>
            <a:ext cx="4116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ลดค่าเฉลี่ยปริมาณขยะต่อครัวเรือ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6" name=""/>
          <p:cNvSpPr/>
          <p:nvPr/>
        </p:nvSpPr>
        <p:spPr>
          <a:xfrm>
            <a:off x="228600" y="2558880"/>
            <a:ext cx="4116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ก่อสร้างถนนคอนกรีตสามกิโลเมตร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" y="2041560"/>
            <a:ext cx="41162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ก่อสร้างศาลาพักร้อนห้าหลั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8" name=""/>
          <p:cNvSpPr/>
          <p:nvPr/>
        </p:nvSpPr>
        <p:spPr>
          <a:xfrm>
            <a:off x="4344840" y="5664240"/>
            <a:ext cx="25131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9" name=""/>
          <p:cNvSpPr/>
          <p:nvPr/>
        </p:nvSpPr>
        <p:spPr>
          <a:xfrm>
            <a:off x="4344840" y="5146560"/>
            <a:ext cx="25131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0" name=""/>
          <p:cNvSpPr/>
          <p:nvPr/>
        </p:nvSpPr>
        <p:spPr>
          <a:xfrm>
            <a:off x="4344840" y="4629240"/>
            <a:ext cx="25131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1" name=""/>
          <p:cNvSpPr/>
          <p:nvPr/>
        </p:nvSpPr>
        <p:spPr>
          <a:xfrm>
            <a:off x="4344840" y="4111560"/>
            <a:ext cx="25131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2" name=""/>
          <p:cNvSpPr/>
          <p:nvPr/>
        </p:nvSpPr>
        <p:spPr>
          <a:xfrm>
            <a:off x="4344840" y="3594240"/>
            <a:ext cx="25131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3" name=""/>
          <p:cNvSpPr/>
          <p:nvPr/>
        </p:nvSpPr>
        <p:spPr>
          <a:xfrm>
            <a:off x="4344840" y="3076560"/>
            <a:ext cx="25131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4" name=""/>
          <p:cNvSpPr/>
          <p:nvPr/>
        </p:nvSpPr>
        <p:spPr>
          <a:xfrm>
            <a:off x="4344840" y="2558880"/>
            <a:ext cx="25131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5" name=""/>
          <p:cNvSpPr/>
          <p:nvPr/>
        </p:nvSpPr>
        <p:spPr>
          <a:xfrm>
            <a:off x="4344840" y="2041560"/>
            <a:ext cx="25131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6" name=""/>
          <p:cNvSpPr/>
          <p:nvPr/>
        </p:nvSpPr>
        <p:spPr>
          <a:xfrm>
            <a:off x="6858000" y="5664240"/>
            <a:ext cx="2057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7" name=""/>
          <p:cNvSpPr/>
          <p:nvPr/>
        </p:nvSpPr>
        <p:spPr>
          <a:xfrm>
            <a:off x="6858000" y="5146560"/>
            <a:ext cx="2057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0" y="4629240"/>
            <a:ext cx="2057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9" name=""/>
          <p:cNvSpPr/>
          <p:nvPr/>
        </p:nvSpPr>
        <p:spPr>
          <a:xfrm>
            <a:off x="6858000" y="4111560"/>
            <a:ext cx="2057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0" y="3594240"/>
            <a:ext cx="2057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0" y="3076560"/>
            <a:ext cx="2057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0" y="2558880"/>
            <a:ext cx="2057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3" name=""/>
          <p:cNvSpPr/>
          <p:nvPr/>
        </p:nvSpPr>
        <p:spPr>
          <a:xfrm>
            <a:off x="6858000" y="2041560"/>
            <a:ext cx="2057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28600" y="1523880"/>
            <a:ext cx="8686800" cy="4657680"/>
            <a:chOff x="228600" y="1523880"/>
            <a:chExt cx="8686800" cy="4657680"/>
          </a:xfrm>
        </p:grpSpPr>
        <p:sp>
          <p:nvSpPr>
            <p:cNvPr id="555" name=""/>
            <p:cNvSpPr/>
            <p:nvPr/>
          </p:nvSpPr>
          <p:spPr>
            <a:xfrm>
              <a:off x="228600" y="3594240"/>
              <a:ext cx="0" cy="51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8600" y="4111560"/>
              <a:ext cx="0" cy="207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228600" y="1523880"/>
              <a:ext cx="8686800" cy="4657680"/>
              <a:chOff x="228600" y="1523880"/>
              <a:chExt cx="8686800" cy="4657680"/>
            </a:xfrm>
          </p:grpSpPr>
          <p:sp>
            <p:nvSpPr>
              <p:cNvPr id="558" name=""/>
              <p:cNvSpPr/>
              <p:nvPr/>
            </p:nvSpPr>
            <p:spPr>
              <a:xfrm>
                <a:off x="228600" y="1523880"/>
                <a:ext cx="411624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 New"/>
                  </a:rPr>
                  <a:t>วัตถุประสงค์ </a:t>
                </a:r>
                <a:r>
                  <a:rPr b="1" lang="th-TH" sz="2800" spc="-1" strike="noStrike">
                    <a:solidFill>
                      <a:srgbClr val="000000"/>
                    </a:solidFill>
                    <a:latin typeface="Angsana New"/>
                  </a:rPr>
                  <a:t>(</a:t>
                </a:r>
                <a:r>
                  <a:rPr b="1" lang="th-TH" sz="2800" spc="-1" strike="noStrike">
                    <a:solidFill>
                      <a:srgbClr val="000000"/>
                    </a:solidFill>
                    <a:latin typeface="Angsana New"/>
                  </a:rPr>
                  <a:t>เพื่อ</a:t>
                </a:r>
                <a:r>
                  <a:rPr b="1" lang="th-TH" sz="2800" spc="-1" strike="noStrike">
                    <a:solidFill>
                      <a:srgbClr val="000000"/>
                    </a:solidFill>
                    <a:latin typeface="Angsana New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344840" y="1523880"/>
                <a:ext cx="251316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 New"/>
                  </a:rPr>
                  <a:t>ตัวชี้วัด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858000" y="1523880"/>
                <a:ext cx="205740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 New"/>
                  </a:rPr>
                  <a:t>ผลผลิต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28600" y="1523880"/>
                <a:ext cx="86868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28600" y="2041560"/>
                <a:ext cx="868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28600" y="2558880"/>
                <a:ext cx="868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28600" y="3076560"/>
                <a:ext cx="868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28600" y="3594240"/>
                <a:ext cx="868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28600" y="4111560"/>
                <a:ext cx="868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28600" y="4629240"/>
                <a:ext cx="868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28600" y="5146560"/>
                <a:ext cx="868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28600" y="5664240"/>
                <a:ext cx="868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28600" y="6181560"/>
                <a:ext cx="86868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523880"/>
                <a:ext cx="0" cy="46576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28600" y="1523880"/>
                <a:ext cx="0" cy="20703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858000" y="1523880"/>
                <a:ext cx="0" cy="465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344840" y="1523880"/>
                <a:ext cx="0" cy="465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575" name=""/>
          <p:cNvSpPr/>
          <p:nvPr/>
        </p:nvSpPr>
        <p:spPr>
          <a:xfrm>
            <a:off x="1905120" y="30492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แบบฝึกตัวชี้วัดผลสำเร็จ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ngsanaUPC"/>
              </a:rPr>
              <a:t>(KPI)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4F56-A451-49E1-89C1-A0402CFCF15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3124080" y="5664240"/>
            <a:ext cx="2514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7" name=""/>
          <p:cNvSpPr/>
          <p:nvPr/>
        </p:nvSpPr>
        <p:spPr>
          <a:xfrm>
            <a:off x="3124080" y="5146560"/>
            <a:ext cx="2514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8" name=""/>
          <p:cNvSpPr/>
          <p:nvPr/>
        </p:nvSpPr>
        <p:spPr>
          <a:xfrm>
            <a:off x="3124080" y="4629240"/>
            <a:ext cx="2514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9" name=""/>
          <p:cNvSpPr/>
          <p:nvPr/>
        </p:nvSpPr>
        <p:spPr>
          <a:xfrm>
            <a:off x="3124080" y="4111560"/>
            <a:ext cx="2514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0" name=""/>
          <p:cNvSpPr/>
          <p:nvPr/>
        </p:nvSpPr>
        <p:spPr>
          <a:xfrm>
            <a:off x="3124080" y="3594240"/>
            <a:ext cx="2514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1" name=""/>
          <p:cNvSpPr/>
          <p:nvPr/>
        </p:nvSpPr>
        <p:spPr>
          <a:xfrm>
            <a:off x="3124080" y="3076560"/>
            <a:ext cx="2514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2" name=""/>
          <p:cNvSpPr/>
          <p:nvPr/>
        </p:nvSpPr>
        <p:spPr>
          <a:xfrm>
            <a:off x="3124080" y="2558880"/>
            <a:ext cx="2514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3" name=""/>
          <p:cNvSpPr/>
          <p:nvPr/>
        </p:nvSpPr>
        <p:spPr>
          <a:xfrm>
            <a:off x="3124080" y="1981080"/>
            <a:ext cx="2514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4" name=""/>
          <p:cNvSpPr/>
          <p:nvPr/>
        </p:nvSpPr>
        <p:spPr>
          <a:xfrm>
            <a:off x="228600" y="5664240"/>
            <a:ext cx="2895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จำนวนครกที่ผลิตได้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5" name=""/>
          <p:cNvSpPr/>
          <p:nvPr/>
        </p:nvSpPr>
        <p:spPr>
          <a:xfrm>
            <a:off x="228600" y="5146560"/>
            <a:ext cx="2895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ตำแหน่งงานที่มีการจ้า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6" name=""/>
          <p:cNvSpPr/>
          <p:nvPr/>
        </p:nvSpPr>
        <p:spPr>
          <a:xfrm>
            <a:off x="228600" y="4629240"/>
            <a:ext cx="2895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รายได้ต่อหัว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7" name=""/>
          <p:cNvSpPr/>
          <p:nvPr/>
        </p:nvSpPr>
        <p:spPr>
          <a:xfrm>
            <a:off x="228600" y="4111560"/>
            <a:ext cx="2895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อัตราผู้ติดยา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8" name=""/>
          <p:cNvSpPr/>
          <p:nvPr/>
        </p:nvSpPr>
        <p:spPr>
          <a:xfrm>
            <a:off x="228600" y="3594240"/>
            <a:ext cx="2895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พื้นที่น้ำท่วมที่เหลือ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9" name=""/>
          <p:cNvSpPr/>
          <p:nvPr/>
        </p:nvSpPr>
        <p:spPr>
          <a:xfrm>
            <a:off x="228600" y="3076560"/>
            <a:ext cx="2895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ริมาณขยะต่อครัวเรือ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0" name=""/>
          <p:cNvSpPr/>
          <p:nvPr/>
        </p:nvSpPr>
        <p:spPr>
          <a:xfrm>
            <a:off x="228600" y="2558880"/>
            <a:ext cx="2895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ความยาวถน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1" name=""/>
          <p:cNvSpPr/>
          <p:nvPr/>
        </p:nvSpPr>
        <p:spPr>
          <a:xfrm>
            <a:off x="228600" y="2041560"/>
            <a:ext cx="2895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จำนวนศาลาที่สร้างเสร็จ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2" name=""/>
          <p:cNvSpPr/>
          <p:nvPr/>
        </p:nvSpPr>
        <p:spPr>
          <a:xfrm>
            <a:off x="5638680" y="5664240"/>
            <a:ext cx="3200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3" name=""/>
          <p:cNvSpPr/>
          <p:nvPr/>
        </p:nvSpPr>
        <p:spPr>
          <a:xfrm>
            <a:off x="5638680" y="5146560"/>
            <a:ext cx="320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4" name=""/>
          <p:cNvSpPr/>
          <p:nvPr/>
        </p:nvSpPr>
        <p:spPr>
          <a:xfrm>
            <a:off x="5638680" y="4629240"/>
            <a:ext cx="3200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5" name=""/>
          <p:cNvSpPr/>
          <p:nvPr/>
        </p:nvSpPr>
        <p:spPr>
          <a:xfrm>
            <a:off x="5638680" y="4111560"/>
            <a:ext cx="320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6" name=""/>
          <p:cNvSpPr/>
          <p:nvPr/>
        </p:nvSpPr>
        <p:spPr>
          <a:xfrm>
            <a:off x="5638680" y="3594240"/>
            <a:ext cx="3200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7" name=""/>
          <p:cNvSpPr/>
          <p:nvPr/>
        </p:nvSpPr>
        <p:spPr>
          <a:xfrm>
            <a:off x="5638680" y="3076560"/>
            <a:ext cx="320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8" name=""/>
          <p:cNvSpPr/>
          <p:nvPr/>
        </p:nvSpPr>
        <p:spPr>
          <a:xfrm>
            <a:off x="5638680" y="2558880"/>
            <a:ext cx="320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9" name=""/>
          <p:cNvSpPr/>
          <p:nvPr/>
        </p:nvSpPr>
        <p:spPr>
          <a:xfrm>
            <a:off x="5638680" y="2041560"/>
            <a:ext cx="3200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228600" y="1523880"/>
            <a:ext cx="8610480" cy="4657680"/>
            <a:chOff x="228600" y="1523880"/>
            <a:chExt cx="8610480" cy="4657680"/>
          </a:xfrm>
        </p:grpSpPr>
        <p:sp>
          <p:nvSpPr>
            <p:cNvPr id="601" name=""/>
            <p:cNvSpPr/>
            <p:nvPr/>
          </p:nvSpPr>
          <p:spPr>
            <a:xfrm>
              <a:off x="228600" y="6181560"/>
              <a:ext cx="8610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228600" y="1523880"/>
              <a:ext cx="8610480" cy="4657680"/>
              <a:chOff x="228600" y="1523880"/>
              <a:chExt cx="8610480" cy="4657680"/>
            </a:xfrm>
          </p:grpSpPr>
          <p:sp>
            <p:nvSpPr>
              <p:cNvPr id="603" name=""/>
              <p:cNvSpPr/>
              <p:nvPr/>
            </p:nvSpPr>
            <p:spPr>
              <a:xfrm>
                <a:off x="3124080" y="1523880"/>
                <a:ext cx="251460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 New"/>
                    <a:cs typeface="AngsanaUPC"/>
                  </a:rPr>
                  <a:t>หน่วยนับ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28600" y="1523880"/>
                <a:ext cx="289548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 New"/>
                    <a:cs typeface="AngsanaUPC"/>
                  </a:rPr>
                  <a:t>ตัวชี้วัด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38680" y="1523880"/>
                <a:ext cx="320040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 New"/>
                    <a:cs typeface="AngsanaUPC"/>
                  </a:rPr>
                  <a:t>ผลผลิต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28600" y="1523880"/>
                <a:ext cx="8610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28600" y="2041560"/>
                <a:ext cx="861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28600" y="2558880"/>
                <a:ext cx="861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28600" y="3076560"/>
                <a:ext cx="861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28600" y="3594240"/>
                <a:ext cx="861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28600" y="4111560"/>
                <a:ext cx="861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28600" y="4629240"/>
                <a:ext cx="861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28600" y="5146560"/>
                <a:ext cx="861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28600" y="5664240"/>
                <a:ext cx="861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839080" y="1523880"/>
                <a:ext cx="0" cy="46576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28600" y="3594240"/>
                <a:ext cx="0" cy="51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28600" y="1523880"/>
                <a:ext cx="0" cy="20703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28600" y="4111560"/>
                <a:ext cx="0" cy="20700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124080" y="1523880"/>
                <a:ext cx="0" cy="465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38680" y="1523880"/>
                <a:ext cx="0" cy="465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621" name=""/>
          <p:cNvSpPr/>
          <p:nvPr/>
        </p:nvSpPr>
        <p:spPr>
          <a:xfrm>
            <a:off x="1905120" y="30492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แบบฝึกตัวชี้วัดผลสำเร็จ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ngsanaUPC"/>
              </a:rPr>
              <a:t>(KPI)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AF88-C834-41AB-A49E-16E46F3E43C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2819520" y="5756400"/>
            <a:ext cx="1904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ครก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5238720"/>
            <a:ext cx="19047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การจ้างงา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4" name=""/>
          <p:cNvSpPr/>
          <p:nvPr/>
        </p:nvSpPr>
        <p:spPr>
          <a:xfrm>
            <a:off x="2819520" y="4721400"/>
            <a:ext cx="1904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เงินรายได้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5" name=""/>
          <p:cNvSpPr/>
          <p:nvPr/>
        </p:nvSpPr>
        <p:spPr>
          <a:xfrm>
            <a:off x="2819520" y="4203720"/>
            <a:ext cx="19047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ผู้ติดยาฯที่ลดล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6" name=""/>
          <p:cNvSpPr/>
          <p:nvPr/>
        </p:nvSpPr>
        <p:spPr>
          <a:xfrm>
            <a:off x="2819520" y="3686040"/>
            <a:ext cx="19047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พื้นที่ที่น้ำไม่ท่วม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7" name=""/>
          <p:cNvSpPr/>
          <p:nvPr/>
        </p:nvSpPr>
        <p:spPr>
          <a:xfrm>
            <a:off x="2819520" y="3168720"/>
            <a:ext cx="1904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ริมาณขยะที่ลด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8" name=""/>
          <p:cNvSpPr/>
          <p:nvPr/>
        </p:nvSpPr>
        <p:spPr>
          <a:xfrm>
            <a:off x="2819520" y="2651040"/>
            <a:ext cx="19047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ถนนคอนกรีต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9" name=""/>
          <p:cNvSpPr/>
          <p:nvPr/>
        </p:nvSpPr>
        <p:spPr>
          <a:xfrm>
            <a:off x="2819520" y="2133720"/>
            <a:ext cx="1904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ศาลา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0" name=""/>
          <p:cNvSpPr/>
          <p:nvPr/>
        </p:nvSpPr>
        <p:spPr>
          <a:xfrm>
            <a:off x="4724280" y="5756400"/>
            <a:ext cx="17528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ใบ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1" name=""/>
          <p:cNvSpPr/>
          <p:nvPr/>
        </p:nvSpPr>
        <p:spPr>
          <a:xfrm>
            <a:off x="4724280" y="5238720"/>
            <a:ext cx="17528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ตำแหน่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2" name=""/>
          <p:cNvSpPr/>
          <p:nvPr/>
        </p:nvSpPr>
        <p:spPr>
          <a:xfrm>
            <a:off x="4724280" y="4721400"/>
            <a:ext cx="17528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บาท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3" name=""/>
          <p:cNvSpPr/>
          <p:nvPr/>
        </p:nvSpPr>
        <p:spPr>
          <a:xfrm>
            <a:off x="4724280" y="4203720"/>
            <a:ext cx="17528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คนต่อพันค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4" name=""/>
          <p:cNvSpPr/>
          <p:nvPr/>
        </p:nvSpPr>
        <p:spPr>
          <a:xfrm>
            <a:off x="4724280" y="3686040"/>
            <a:ext cx="17528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ตารางกิโลเมตร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5" name=""/>
          <p:cNvSpPr/>
          <p:nvPr/>
        </p:nvSpPr>
        <p:spPr>
          <a:xfrm>
            <a:off x="4724280" y="3168720"/>
            <a:ext cx="17528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กิโลกรัม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6" name=""/>
          <p:cNvSpPr/>
          <p:nvPr/>
        </p:nvSpPr>
        <p:spPr>
          <a:xfrm>
            <a:off x="4724280" y="2651040"/>
            <a:ext cx="17528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กิโลเมตร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7" name=""/>
          <p:cNvSpPr/>
          <p:nvPr/>
        </p:nvSpPr>
        <p:spPr>
          <a:xfrm>
            <a:off x="4724280" y="2133720"/>
            <a:ext cx="17528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หลั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8" name=""/>
          <p:cNvSpPr/>
          <p:nvPr/>
        </p:nvSpPr>
        <p:spPr>
          <a:xfrm>
            <a:off x="228600" y="5756400"/>
            <a:ext cx="2590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จำนวนครกที่ผลิตได้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9" name=""/>
          <p:cNvSpPr/>
          <p:nvPr/>
        </p:nvSpPr>
        <p:spPr>
          <a:xfrm>
            <a:off x="228600" y="5238720"/>
            <a:ext cx="2590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ตำแหน่งงานที่มีการจ้า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0" name=""/>
          <p:cNvSpPr/>
          <p:nvPr/>
        </p:nvSpPr>
        <p:spPr>
          <a:xfrm>
            <a:off x="228600" y="4721400"/>
            <a:ext cx="2590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รายได้ต่อหัว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1" name=""/>
          <p:cNvSpPr/>
          <p:nvPr/>
        </p:nvSpPr>
        <p:spPr>
          <a:xfrm>
            <a:off x="228600" y="4203720"/>
            <a:ext cx="2590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อัตราผู้ติดยา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2" name=""/>
          <p:cNvSpPr/>
          <p:nvPr/>
        </p:nvSpPr>
        <p:spPr>
          <a:xfrm>
            <a:off x="228600" y="3686040"/>
            <a:ext cx="2590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พื้นที่น้ำท่วมที่เหลือ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3" name=""/>
          <p:cNvSpPr/>
          <p:nvPr/>
        </p:nvSpPr>
        <p:spPr>
          <a:xfrm>
            <a:off x="228600" y="3168720"/>
            <a:ext cx="2590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ริมาณขยะต่อครัวเรือ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4" name=""/>
          <p:cNvSpPr/>
          <p:nvPr/>
        </p:nvSpPr>
        <p:spPr>
          <a:xfrm>
            <a:off x="228600" y="2651040"/>
            <a:ext cx="2590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ความยาวถน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5" name=""/>
          <p:cNvSpPr/>
          <p:nvPr/>
        </p:nvSpPr>
        <p:spPr>
          <a:xfrm>
            <a:off x="228600" y="2133720"/>
            <a:ext cx="2590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จำนวนศาลาที่สร้างเสร็จ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4721400"/>
            <a:ext cx="2057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7" name=""/>
          <p:cNvSpPr/>
          <p:nvPr/>
        </p:nvSpPr>
        <p:spPr>
          <a:xfrm>
            <a:off x="6477120" y="4203720"/>
            <a:ext cx="2057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8" name=""/>
          <p:cNvSpPr/>
          <p:nvPr/>
        </p:nvSpPr>
        <p:spPr>
          <a:xfrm>
            <a:off x="6477120" y="3168720"/>
            <a:ext cx="2057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9" name=""/>
          <p:cNvSpPr/>
          <p:nvPr/>
        </p:nvSpPr>
        <p:spPr>
          <a:xfrm>
            <a:off x="6324480" y="2666880"/>
            <a:ext cx="23623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0" name=""/>
          <p:cNvSpPr/>
          <p:nvPr/>
        </p:nvSpPr>
        <p:spPr>
          <a:xfrm>
            <a:off x="6477120" y="2133720"/>
            <a:ext cx="2057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228600" y="1523880"/>
            <a:ext cx="8305920" cy="4749840"/>
            <a:chOff x="228600" y="1523880"/>
            <a:chExt cx="8305920" cy="4749840"/>
          </a:xfrm>
        </p:grpSpPr>
        <p:sp>
          <p:nvSpPr>
            <p:cNvPr id="652" name=""/>
            <p:cNvSpPr/>
            <p:nvPr/>
          </p:nvSpPr>
          <p:spPr>
            <a:xfrm>
              <a:off x="2819520" y="1523880"/>
              <a:ext cx="19047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AngsanaUPC"/>
                </a:rPr>
                <a:t>ผลผลิต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724280" y="1523880"/>
              <a:ext cx="17528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AngsanaUPC"/>
                </a:rPr>
                <a:t>หน่วยนับ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28600" y="1523880"/>
              <a:ext cx="2590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AngsanaUPC"/>
                </a:rPr>
                <a:t>ตัวชี้วัดเชิงปริมาณ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477120" y="1523880"/>
              <a:ext cx="2057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6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AngsanaUPC"/>
                </a:rPr>
                <a:t>ตัวชี้วัดเชิงคุณภาพ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8600" y="1523880"/>
              <a:ext cx="8305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8600" y="213372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8600" y="265104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8600" y="316872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8600" y="368604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8600" y="420372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8600" y="472140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8600" y="523872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8600" y="575640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8600" y="6273720"/>
              <a:ext cx="8305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534520" y="1523880"/>
              <a:ext cx="0" cy="474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28600" y="368604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8600" y="1523880"/>
              <a:ext cx="0" cy="2162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8600" y="4203720"/>
              <a:ext cx="0" cy="207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819520" y="1523880"/>
              <a:ext cx="0" cy="474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477120" y="1523880"/>
              <a:ext cx="0" cy="474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724280" y="1523880"/>
              <a:ext cx="0" cy="474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1905120" y="30492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แบบฝึกตัวชี้วัดผลสำเร็จ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ngsanaUPC"/>
              </a:rPr>
              <a:t>(KPI)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4" name=""/>
          <p:cNvSpPr/>
          <p:nvPr/>
        </p:nvSpPr>
        <p:spPr>
          <a:xfrm>
            <a:off x="6606000" y="3659040"/>
            <a:ext cx="6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5" name=""/>
          <p:cNvSpPr/>
          <p:nvPr/>
        </p:nvSpPr>
        <p:spPr>
          <a:xfrm>
            <a:off x="6765840" y="5259240"/>
            <a:ext cx="176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6" name=""/>
          <p:cNvSpPr/>
          <p:nvPr/>
        </p:nvSpPr>
        <p:spPr>
          <a:xfrm>
            <a:off x="6477120" y="579276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AB48-9B6E-4A35-9DA3-FA04AC81E82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ngsana New"/>
              </a:rPr>
              <a:t>การแปลงจุดมุ่งหมายไปสู่เป้าหมายการพัฒนา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395280" y="1676520"/>
          <a:ext cx="8497800" cy="4416480"/>
        </p:xfrm>
        <a:graphic>
          <a:graphicData uri="http://schemas.openxmlformats.org/drawingml/2006/table">
            <a:tbl>
              <a:tblPr/>
              <a:tblGrid>
                <a:gridCol w="1440000"/>
                <a:gridCol w="1081080"/>
                <a:gridCol w="1726920"/>
                <a:gridCol w="1008360"/>
                <a:gridCol w="649080"/>
                <a:gridCol w="647640"/>
                <a:gridCol w="648000"/>
                <a:gridCol w="647640"/>
                <a:gridCol w="64908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ุดมุ่งหมายเพื่อการพัฒนาท้องถิ่น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Goal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ัวชี้วัด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KPI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ข้อมูลพื้นฐาน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Baseline Dat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เป้าหมาย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Targe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–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9" name=""/>
          <p:cNvSpPr/>
          <p:nvPr/>
        </p:nvSpPr>
        <p:spPr>
          <a:xfrm>
            <a:off x="3352680" y="64008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อยู่ในบทที่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4 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ของแผนยุทธศาสตร์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A710-8208-469B-85EB-0025741B9EE3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ngsana New"/>
              </a:rPr>
              <a:t>การแปลงจุดมุ่งหมายไปสู่เป้าหมายการพัฒนา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395280" y="1676520"/>
          <a:ext cx="8497800" cy="4708440"/>
        </p:xfrm>
        <a:graphic>
          <a:graphicData uri="http://schemas.openxmlformats.org/drawingml/2006/table">
            <a:tbl>
              <a:tblPr/>
              <a:tblGrid>
                <a:gridCol w="1440000"/>
                <a:gridCol w="1081080"/>
                <a:gridCol w="1726920"/>
                <a:gridCol w="1008360"/>
                <a:gridCol w="649080"/>
                <a:gridCol w="647640"/>
                <a:gridCol w="648000"/>
                <a:gridCol w="647640"/>
                <a:gridCol w="64908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ุดมุ่งหมายเพื่อการพัฒนาท้องถิ่น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Goal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ัวชี้วัด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KPI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ข้อมูลพื้นฐาน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Baseline Dat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เป้าหมาย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Targe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–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.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มีบริการโครงสร้างพื้นฐานครบถ้ว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ระยะทางถนนที่ได้รับการซ่อ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ำนวนครัวเรือนที่มีไฟฟ้าใช้เพิ่มขึ้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.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ถนนชำรุดเสียหาย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ม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าก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ม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.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มีครัวเรือนไม่มีไฟฟ้าใช้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รัวเรือน จาก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รัวเรือ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ม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รัวเรือ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2" name=""/>
          <p:cNvSpPr/>
          <p:nvPr/>
        </p:nvSpPr>
        <p:spPr>
          <a:xfrm>
            <a:off x="3352680" y="64008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อยู่ในบทที่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4 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ของแผนยุทธศาสตร์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D68D-8DDE-4BCA-97C4-BB12B88FF31E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ngsana New"/>
              </a:rPr>
              <a:t>ตัวอย่างการแปลงจุดมุ่งหมายไปสู่เป้าหมายการพัฒนา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395280" y="1676520"/>
          <a:ext cx="8497800" cy="4562280"/>
        </p:xfrm>
        <a:graphic>
          <a:graphicData uri="http://schemas.openxmlformats.org/drawingml/2006/table">
            <a:tbl>
              <a:tblPr/>
              <a:tblGrid>
                <a:gridCol w="1440000"/>
                <a:gridCol w="1081080"/>
                <a:gridCol w="1726920"/>
                <a:gridCol w="1008360"/>
                <a:gridCol w="649080"/>
                <a:gridCol w="647640"/>
                <a:gridCol w="648000"/>
                <a:gridCol w="647640"/>
                <a:gridCol w="64908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ุดมุ่งหมายเพื่อการพัฒนาท้องถิ่น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Goal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ัวชี้วัด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KPI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ข้อมูลพื้นฐาน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Baseline Dat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เป้าหมาย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Targe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–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ระชาชน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มีรายได้ต่อหัวต่อปีสูงกว่าเส้นความยากจน หรือ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หมื่น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ำนวนผู้มีรายได้ต่อหัวทีผ่านเกณฑ์ความยากจนที่เพิ่มขึ้นต่อป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ระชาชนมีรายได้ต่อหัวต่อปีต่ำกว่าเกณฑ์ จำนวน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พันคน จากจำนวนประชากร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หมื่นค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5" name=""/>
          <p:cNvSpPr/>
          <p:nvPr/>
        </p:nvSpPr>
        <p:spPr>
          <a:xfrm>
            <a:off x="3352680" y="64008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อยู่ในบทที่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4 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ของแผนยุทธศาสตร์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300B-691A-4A2B-9B96-3D0F788EA0CB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ngsana New"/>
              </a:rPr>
              <a:t>ตัวอย่างการแปลงจุดมุ่งหมายไปสู่เป้าหมายการพัฒนา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395280" y="1676520"/>
          <a:ext cx="8497800" cy="4708440"/>
        </p:xfrm>
        <a:graphic>
          <a:graphicData uri="http://schemas.openxmlformats.org/drawingml/2006/table">
            <a:tbl>
              <a:tblPr/>
              <a:tblGrid>
                <a:gridCol w="1440000"/>
                <a:gridCol w="1081080"/>
                <a:gridCol w="1726920"/>
                <a:gridCol w="1008360"/>
                <a:gridCol w="649080"/>
                <a:gridCol w="647640"/>
                <a:gridCol w="648000"/>
                <a:gridCol w="647640"/>
                <a:gridCol w="64908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ุดมุ่งหมายเพื่อการพัฒนาท้องถิ่น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Goal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ัวชี้วัด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KPI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ข้อมูลพื้นฐาน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Baseline Dat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เป้าหมาย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Targe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–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3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ระชาชนผู้ที่มีอายุตั้งแต่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ขึ้นไปรู้หนังสือ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เปอร์เซนต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.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ร้อยละของผู้ที่รู้หนังสื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อายุ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ขึ้นไป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.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ำนวนผู้ที่รู้หนังสือที่เพิ่มขึ้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ระชาชนที่มีอายุ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ขึ้นไปไม่รู้หนังสือ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พันค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ากจำนวนทั้งสิ้น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หมื่นคน หรือคิดเป็น ร้อยละ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ของประชาชนทั้งหม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9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9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9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9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8" name=""/>
          <p:cNvSpPr/>
          <p:nvPr/>
        </p:nvSpPr>
        <p:spPr>
          <a:xfrm>
            <a:off x="3352680" y="64008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อยู่ในบทที่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4 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ของแผนยุทธศาสตร์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7FEF-AE43-4AAD-8E42-6E4C70066C6A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1844640"/>
            <a:ext cx="8128080" cy="83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buClr>
                <a:srgbClr val="cc99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99ff"/>
                </a:solidFill>
                <a:latin typeface="Angsana New"/>
                <a:ea typeface="Angsana New"/>
              </a:rPr>
              <a:t> </a:t>
            </a:r>
            <a:r>
              <a:rPr b="1" lang="en-US" sz="6000" spc="-1" strike="noStrike">
                <a:solidFill>
                  <a:srgbClr val="cc99ff"/>
                </a:solidFill>
                <a:latin typeface="Angsana New"/>
                <a:cs typeface="Angsana New"/>
              </a:rPr>
              <a:t>กิจกรรมภายในโครงการ ถูกออกแบบเพื่อให้ได้ข้อมูลป้อนกลับ </a:t>
            </a:r>
            <a:r>
              <a:rPr b="1" lang="en-US" sz="6000" spc="-1" strike="noStrike">
                <a:solidFill>
                  <a:srgbClr val="cc99ff"/>
                </a:solidFill>
                <a:latin typeface="Angsana New"/>
                <a:ea typeface="Angsana New"/>
              </a:rPr>
              <a:t>(feedback) </a:t>
            </a:r>
            <a:r>
              <a:rPr b="1" lang="en-US" sz="6000" spc="-1" strike="noStrike">
                <a:solidFill>
                  <a:srgbClr val="cc99ff"/>
                </a:solidFill>
                <a:latin typeface="Angsana New"/>
                <a:cs typeface="Angsana New"/>
              </a:rPr>
              <a:t>เกี่ยวกับการดำเนินโครงการ เช่น ปัญหาที่กำลังเผชิญ ประสิทธิภาพของวิธีการดำเนินงาน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99ff"/>
                </a:solidFill>
                <a:latin typeface="Angsana New"/>
                <a:ea typeface="Angsana New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Angsana New"/>
                <a:cs typeface="Angsana New"/>
              </a:rPr>
              <a:t>เทคนิค </a:t>
            </a:r>
            <a:r>
              <a:rPr b="1" lang="en-US" sz="6000" spc="-1" strike="noStrike">
                <a:solidFill>
                  <a:srgbClr val="ffff00"/>
                </a:solidFill>
                <a:latin typeface="Angsana New"/>
                <a:ea typeface="Angsana New"/>
              </a:rPr>
              <a:t>Gantt Chart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ngsanaUPC"/>
              </a:rPr>
              <a:t>การติดตาม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ngsanaUPC"/>
              </a:rPr>
              <a:t>(monitoring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ngsanaUPC"/>
              <a:ea typeface="AngsanaUP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C372-55AE-42C2-86C9-064636C878B7}" type="slidenum">
              <a:t>6</a:t>
            </a:fld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Angsana New"/>
              </a:rPr>
              <a:t>ยุทธศาสตร์และแนวทางการพัฒนา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685800" y="1981080"/>
          <a:ext cx="7772400" cy="405756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ยุทธศาสตร์การพัฒน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แนวทางการพัฒน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โครงกา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เป็นภาพรวมของหลายแนวทางการพัฒนาที่เลือกว่าจะนำไปสู่การปฏิบัต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ลับไปภาพรวมของแต่ละประเภทความต้องการการพัฒน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ลับไปดูสาเหตุของปัญหา ความคิดริเริ่มจากศักยภาพ และดูจากตาราง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swo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1" name=""/>
          <p:cNvSpPr/>
          <p:nvPr/>
        </p:nvSpPr>
        <p:spPr>
          <a:xfrm>
            <a:off x="3048120" y="60958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อยู่ในบทที่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5 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ของแผนยุทธศาสตร์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FEA1-184B-4642-9770-BECC4B27C336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ngsana New"/>
              </a:rPr>
              <a:t>ตัวอย่างยุทธศาสตร์และแนวทางการพัฒนา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685800" y="1981080"/>
          <a:ext cx="7772400" cy="405756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ยุทธศาสตร์การพัฒน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แนวทางการพัฒน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โครงกา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พัฒนารายได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พัฒนาฝีมือแรงงา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ส่งเสริมการตลา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ฝึกอบรมช่างยนต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ยกระดับฝีมือแรงงา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อบรมการทำอาห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ร่วมงานแสดงสินค้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สร้างศูนย์จำหน่ายสินค้าท้องถิ่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4" name=""/>
          <p:cNvSpPr/>
          <p:nvPr/>
        </p:nvSpPr>
        <p:spPr>
          <a:xfrm>
            <a:off x="3048120" y="60958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อยู่ในบทที่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5 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ของแผนยุทธศาสตร์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A89E-7623-407E-93FC-49CC4279219D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</a:rPr>
              <a:t>การนำแผนยุทธศาสตร์การพัฒนาท้องถิ่นไปสู่การปฏิบัติและการติดตามประเมินผล</a:t>
            </a:r>
            <a:br>
              <a:rPr sz="2800"/>
            </a:br>
            <a:r>
              <a:rPr b="0" lang="hi-IN" sz="2400" spc="-1" strike="noStrike">
                <a:solidFill>
                  <a:srgbClr val="000000"/>
                </a:solidFill>
                <a:latin typeface="Angsana New"/>
              </a:rPr>
              <a:t>ยุทธศาสตร์ที่ 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1.........................................</a:t>
            </a:r>
            <a:br>
              <a:rPr sz="2400"/>
            </a:br>
            <a:r>
              <a:rPr b="0" lang="hi-IN" sz="2400" spc="-1" strike="noStrike">
                <a:solidFill>
                  <a:srgbClr val="000000"/>
                </a:solidFill>
                <a:latin typeface="Angsana New"/>
              </a:rPr>
              <a:t>แนวทางที่ 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1 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826920" y="1676520"/>
          <a:ext cx="8137800" cy="4200480"/>
        </p:xfrm>
        <a:graphic>
          <a:graphicData uri="http://schemas.openxmlformats.org/drawingml/2006/table">
            <a:tbl>
              <a:tblPr/>
              <a:tblGrid>
                <a:gridCol w="1103400"/>
                <a:gridCol w="863640"/>
                <a:gridCol w="914400"/>
                <a:gridCol w="792360"/>
                <a:gridCol w="792000"/>
                <a:gridCol w="792000"/>
                <a:gridCol w="863640"/>
                <a:gridCol w="792360"/>
                <a:gridCol w="1224000"/>
              </a:tblGrid>
              <a:tr h="482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โครงกา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ัวชี้วั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เป้าหมา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ู้รับผิดชอ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-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7" name=""/>
          <p:cNvSpPr/>
          <p:nvPr/>
        </p:nvSpPr>
        <p:spPr>
          <a:xfrm>
            <a:off x="2971800" y="63244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อยู่ในบทที่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6 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ของแผนยุทธศาสตร์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0145-EDB5-4E77-B032-4A9F9B2B0CEB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</a:rPr>
              <a:t>การนำแผนยุทธศาสตร์การพัฒนาท้องถิ่นไปสู่การปฏิบัติและการติดตามประเมินผล</a:t>
            </a:r>
            <a:br>
              <a:rPr sz="2800"/>
            </a:br>
            <a:r>
              <a:rPr b="0" lang="hi-IN" sz="2400" spc="-1" strike="noStrike">
                <a:solidFill>
                  <a:srgbClr val="000000"/>
                </a:solidFill>
                <a:latin typeface="Angsana New"/>
              </a:rPr>
              <a:t>ยุทธศาสตร์ที่ 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1 </a:t>
            </a:r>
            <a:r>
              <a:rPr b="0" lang="hi-IN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จัดความยากจนระดับฐานราก</a:t>
            </a:r>
            <a:br>
              <a:rPr sz="2400"/>
            </a:br>
            <a:r>
              <a:rPr b="0" lang="hi-IN" sz="2400" spc="-1" strike="noStrike">
                <a:solidFill>
                  <a:srgbClr val="000000"/>
                </a:solidFill>
                <a:latin typeface="Angsana New"/>
              </a:rPr>
              <a:t>แนวทางที่ 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1 </a:t>
            </a:r>
            <a:r>
              <a:rPr b="0" lang="hi-IN" sz="2400" spc="-1" strike="noStrike">
                <a:solidFill>
                  <a:srgbClr val="000000"/>
                </a:solidFill>
                <a:latin typeface="Angsana New"/>
              </a:rPr>
              <a:t>การพัฒนาฝีมือแรงงาน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699" name=""/>
          <p:cNvGraphicFramePr/>
          <p:nvPr/>
        </p:nvGraphicFramePr>
        <p:xfrm>
          <a:off x="826920" y="1676520"/>
          <a:ext cx="8137800" cy="4200480"/>
        </p:xfrm>
        <a:graphic>
          <a:graphicData uri="http://schemas.openxmlformats.org/drawingml/2006/table">
            <a:tbl>
              <a:tblPr/>
              <a:tblGrid>
                <a:gridCol w="1103400"/>
                <a:gridCol w="863640"/>
                <a:gridCol w="914400"/>
                <a:gridCol w="792360"/>
                <a:gridCol w="792000"/>
                <a:gridCol w="792000"/>
                <a:gridCol w="863640"/>
                <a:gridCol w="792360"/>
                <a:gridCol w="1224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โครงกา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ัวชี้วั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เป้าหมา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ู้รับผิดชอ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-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ฝึกอบรมช่างยนต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ำนวนผู้ผ่านการฝึกอบ 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น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องช่า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0" name=""/>
          <p:cNvSpPr/>
          <p:nvPr/>
        </p:nvSpPr>
        <p:spPr>
          <a:xfrm>
            <a:off x="539640" y="61657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อยู่ในบทที่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6 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ของแผนยุทธศาสตร์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65E3-4187-4702-BFBD-84E8ED1C0125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ทคนิคการควบคุมเพื่อการติดตามและประเมินผลการดำเนินงาน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Gantt Chart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539640" y="1268280"/>
          <a:ext cx="8137800" cy="5589720"/>
        </p:xfrm>
        <a:graphic>
          <a:graphicData uri="http://schemas.openxmlformats.org/drawingml/2006/table">
            <a:tbl>
              <a:tblPr/>
              <a:tblGrid>
                <a:gridCol w="2016360"/>
                <a:gridCol w="576000"/>
                <a:gridCol w="576360"/>
                <a:gridCol w="576360"/>
                <a:gridCol w="720720"/>
                <a:gridCol w="718920"/>
                <a:gridCol w="720720"/>
                <a:gridCol w="1008360"/>
                <a:gridCol w="1224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โครงการ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/</a:t>
                      </a: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ระดั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วามสำเร็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ระยะเวลา ปีงบประมาณ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25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ู้รับผิดชอ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ต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พ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ย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ม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พ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....</a:t>
                      </a: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1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ติดตามการการมีส่วนร่วมในแผนชุมชนกับแผนพัฒนาท้องถิ่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2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ติดตาม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OT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3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ติดตามงานสวัสดิการสังค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-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เบี้ยยังชีพคนชร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ngsana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ช่วยผู้พิการ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,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ผู้ป่วยโรคเอดส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ฯล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  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กลุ่ม ก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กลุ่ม ข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 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ทุกกลุ่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3" name=""/>
          <p:cNvSpPr/>
          <p:nvPr/>
        </p:nvSpPr>
        <p:spPr>
          <a:xfrm>
            <a:off x="4643280" y="422100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4" name=""/>
          <p:cNvSpPr/>
          <p:nvPr/>
        </p:nvSpPr>
        <p:spPr>
          <a:xfrm>
            <a:off x="5076720" y="537372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5" name=""/>
          <p:cNvSpPr/>
          <p:nvPr/>
        </p:nvSpPr>
        <p:spPr>
          <a:xfrm>
            <a:off x="6443640" y="580536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6" name=""/>
          <p:cNvSpPr/>
          <p:nvPr/>
        </p:nvSpPr>
        <p:spPr>
          <a:xfrm flipH="1" flipV="1">
            <a:off x="2699640" y="2637000"/>
            <a:ext cx="36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7" name=""/>
          <p:cNvSpPr/>
          <p:nvPr/>
        </p:nvSpPr>
        <p:spPr>
          <a:xfrm>
            <a:off x="2771640" y="2565360"/>
            <a:ext cx="28764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8" name=""/>
          <p:cNvSpPr/>
          <p:nvPr/>
        </p:nvSpPr>
        <p:spPr>
          <a:xfrm>
            <a:off x="3564000" y="292428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9" name=""/>
          <p:cNvSpPr/>
          <p:nvPr/>
        </p:nvSpPr>
        <p:spPr>
          <a:xfrm>
            <a:off x="2771640" y="537372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0" name=""/>
          <p:cNvSpPr/>
          <p:nvPr/>
        </p:nvSpPr>
        <p:spPr>
          <a:xfrm>
            <a:off x="2771640" y="4076640"/>
            <a:ext cx="287640" cy="28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1" name=""/>
          <p:cNvSpPr/>
          <p:nvPr/>
        </p:nvSpPr>
        <p:spPr>
          <a:xfrm>
            <a:off x="2771640" y="5805360"/>
            <a:ext cx="287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0289-285E-4998-A947-51598C5E8D50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ngsana New"/>
              </a:rPr>
              <a:t>การกำหนดแนวทางหรือกลยุทธ์การพัฒนา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หมายถึง ข้อความที่แนะนำวิธีการดำเนินการเพื่อ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ให้บรรลุเป้าหมาย วัตถุประสงค์ จุดมุ่งหมาย และ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วิสัยทัศน์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ได้จากการนำวัตถุประสงค์มาตั้งคำถามขึ้นต้นด้วย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Angsana New"/>
              </a:rPr>
              <a:t>ทำอย่างไรเราถึงจะสามารถ………</a:t>
            </a:r>
            <a:r>
              <a:rPr b="1" i="1" lang="en-US" sz="3600" spc="-1" strike="noStrike">
                <a:solidFill>
                  <a:srgbClr val="000000"/>
                </a:solidFill>
                <a:latin typeface="Angsana Ne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คำตอบที่ได้จะเป็นแนวทางการพัฒนา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ในแต่ละวัตถุประสงค์สามารถมีได้หลายแนวทาง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F67A-F7D8-4065-B63B-2003D8C87E0F}" type="slidenum">
              <a:t>65</a:t>
            </a:fld>
          </a:p>
        </p:txBody>
      </p:sp>
    </p:spTree>
  </p:cSld>
  <p:transition>
    <p:cover dir="l"/>
  </p:transition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7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7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893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500" spc="-1" strike="noStrike">
                <a:solidFill>
                  <a:srgbClr val="ff0066"/>
                </a:solidFill>
                <a:latin typeface="Angsana New"/>
                <a:cs typeface="Angsana New"/>
              </a:rPr>
              <a:t>ทำไมต้องประเมินผลงานและจัดการเชิงกลยุทธ์</a:t>
            </a: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5" name=""/>
          <p:cNvSpPr/>
          <p:nvPr/>
        </p:nvSpPr>
        <p:spPr>
          <a:xfrm>
            <a:off x="468360" y="1268280"/>
            <a:ext cx="7647120" cy="1556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ngsana New"/>
              </a:rPr>
              <a:t>1. </a:t>
            </a:r>
            <a:r>
              <a:rPr b="1" lang="hi-IN" sz="4800" spc="-1" strike="noStrike">
                <a:solidFill>
                  <a:srgbClr val="3333cc"/>
                </a:solidFill>
                <a:latin typeface="Angsana New"/>
                <a:cs typeface="Angsana New"/>
              </a:rPr>
              <a:t>ความซับซ้อน การเปลี่ยนแปลงตลอดเวลา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6" name=""/>
          <p:cNvSpPr/>
          <p:nvPr/>
        </p:nvSpPr>
        <p:spPr>
          <a:xfrm>
            <a:off x="611280" y="1989000"/>
            <a:ext cx="7315200" cy="82512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ngsana New"/>
              </a:rPr>
              <a:t>2. </a:t>
            </a:r>
            <a:r>
              <a:rPr b="1" lang="hi-IN" sz="4800" spc="-1" strike="noStrike">
                <a:solidFill>
                  <a:srgbClr val="008000"/>
                </a:solidFill>
                <a:latin typeface="Angsana New"/>
                <a:cs typeface="Angsana New"/>
              </a:rPr>
              <a:t>มีการแข่งขันอย่างรุนแรง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7" name=""/>
          <p:cNvSpPr/>
          <p:nvPr/>
        </p:nvSpPr>
        <p:spPr>
          <a:xfrm>
            <a:off x="684360" y="2781360"/>
            <a:ext cx="7315200" cy="82512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ngsana New"/>
              </a:rPr>
              <a:t>3. </a:t>
            </a:r>
            <a:r>
              <a:rPr b="1" lang="hi-IN" sz="4800" spc="-1" strike="noStrike">
                <a:solidFill>
                  <a:srgbClr val="800080"/>
                </a:solidFill>
                <a:latin typeface="Angsana New"/>
                <a:cs typeface="Angsana New"/>
              </a:rPr>
              <a:t>มีการใช้เทคโนโลยีใหม่ ๆ 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8" name=""/>
          <p:cNvSpPr/>
          <p:nvPr/>
        </p:nvSpPr>
        <p:spPr>
          <a:xfrm>
            <a:off x="826920" y="3500280"/>
            <a:ext cx="7770960" cy="1556280"/>
          </a:xfrm>
          <a:prstGeom prst="rect">
            <a:avLst/>
          </a:prstGeom>
          <a:solidFill>
            <a:srgbClr val="66ffcc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ngsana New"/>
              </a:rPr>
              <a:t>4. </a:t>
            </a:r>
            <a:r>
              <a:rPr b="1" lang="hi-IN" sz="4800" spc="-1" strike="noStrike">
                <a:solidFill>
                  <a:srgbClr val="3333cc"/>
                </a:solidFill>
                <a:latin typeface="Angsana New"/>
                <a:cs typeface="Angsana New"/>
              </a:rPr>
              <a:t>มีการเปลี่ยนแปลงทางเศรษฐกิจและสังคม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9" name=""/>
          <p:cNvSpPr/>
          <p:nvPr/>
        </p:nvSpPr>
        <p:spPr>
          <a:xfrm>
            <a:off x="971640" y="4221000"/>
            <a:ext cx="7315200" cy="155628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5. </a:t>
            </a:r>
            <a:r>
              <a:rPr b="1" lang="hi-IN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้องประหยัดทรัพยากรในการทำงาน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0" name=""/>
          <p:cNvSpPr/>
          <p:nvPr/>
        </p:nvSpPr>
        <p:spPr>
          <a:xfrm>
            <a:off x="1116000" y="4941720"/>
            <a:ext cx="7315200" cy="1556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ngsana New"/>
              </a:rPr>
              <a:t>6. </a:t>
            </a:r>
            <a:r>
              <a:rPr b="1" lang="hi-IN" sz="4800" spc="-1" strike="noStrike">
                <a:solidFill>
                  <a:srgbClr val="cc0099"/>
                </a:solidFill>
                <a:latin typeface="Angsana New"/>
                <a:cs typeface="Angsana New"/>
              </a:rPr>
              <a:t>การทำงานต้องมุ่งผลสัมฤทธิ์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1" name=""/>
          <p:cNvSpPr/>
          <p:nvPr/>
        </p:nvSpPr>
        <p:spPr>
          <a:xfrm>
            <a:off x="1332000" y="5661000"/>
            <a:ext cx="7315200" cy="155628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ngsana New"/>
                <a:ea typeface="Angsana New"/>
              </a:rPr>
              <a:t>7. </a:t>
            </a:r>
            <a:r>
              <a:rPr b="1" lang="hi-IN" sz="4800" spc="-1" strike="noStrike">
                <a:solidFill>
                  <a:srgbClr val="008000"/>
                </a:solidFill>
                <a:latin typeface="Angsana New"/>
                <a:cs typeface="Angsana New"/>
              </a:rPr>
              <a:t>ให้แน่ใจว่าบรรลุเป้าหมายได้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B9B3-9C36-456C-ACE1-F78B5FD307FF}" type="slidenum">
              <a:t>66</a:t>
            </a:fld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826920" y="2362320"/>
            <a:ext cx="7921800" cy="4306680"/>
          </a:xfrm>
          <a:custGeom>
            <a:avLst/>
            <a:gdLst>
              <a:gd name="textAreaLeft" fmla="*/ 507240 w 7921800"/>
              <a:gd name="textAreaRight" fmla="*/ 7414560 w 7921800"/>
              <a:gd name="textAreaTop" fmla="*/ 507240 h 4306680"/>
              <a:gd name="textAreaBottom" fmla="*/ 3799440 h 4306680"/>
            </a:gdLst>
            <a:ahLst/>
            <a:rect l="textAreaLeft" t="textAreaTop" r="textAreaRight" b="textAreaBottom"/>
            <a:pathLst>
              <a:path w="3973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6130" y="21600"/>
                </a:lnTo>
                <a:arcTo wR="3600" hR="3600" stAng="10800000" swAng="5400000"/>
                <a:lnTo>
                  <a:pt x="3973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3" name=""/>
          <p:cNvSpPr/>
          <p:nvPr/>
        </p:nvSpPr>
        <p:spPr>
          <a:xfrm>
            <a:off x="1403280" y="2565360"/>
            <a:ext cx="6985080" cy="76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hi-IN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ระบวนการกำหนดทิศทางระยะยาว 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29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hi-IN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ำหนด ดำเนิน ประเมิน บริหารกลยุทธ์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29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ุ่งความสอดคล้อง วัตถุประสงค์เดียวกัน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29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29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990720" y="533520"/>
            <a:ext cx="7162560" cy="11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rowallia New"/>
              </a:rPr>
              <a:t>การจัดการ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rowallia New"/>
              </a:rPr>
              <a:t>/</a:t>
            </a: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rowallia New"/>
              </a:rPr>
              <a:t>บริหารเชิงกลยุทธ์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0F24-DB47-4EEF-AB27-A2652C3E2FFC}" type="slidenum">
              <a:t>67</a:t>
            </a:fld>
          </a:p>
        </p:txBody>
      </p:sp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09480" y="171000"/>
            <a:ext cx="7772400" cy="10479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9933ff"/>
                </a:solidFill>
                <a:latin typeface="Angsana New"/>
                <a:cs typeface="Angsana New"/>
              </a:rPr>
              <a:t>เกณฑ์มาตรฐานและตัวชี้วัด</a:t>
            </a:r>
            <a:endParaRPr b="0" lang="en-US" sz="8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143000" y="306684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-195480">
              <a:spcBef>
                <a:spcPts val="1349"/>
              </a:spcBef>
              <a:buClr>
                <a:srgbClr val="ff99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99cc"/>
                </a:solidFill>
                <a:latin typeface="Angsana New"/>
                <a:cs typeface="Angsana New"/>
              </a:rPr>
              <a:t>เกณฑ์สำหรับประเมินผลหน่วยงาน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7" name=""/>
          <p:cNvSpPr/>
          <p:nvPr/>
        </p:nvSpPr>
        <p:spPr>
          <a:xfrm>
            <a:off x="2819520" y="1295280"/>
            <a:ext cx="386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00"/>
                </a:solidFill>
                <a:latin typeface="Angsana New"/>
              </a:rPr>
              <a:t>ประกอบด้วย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8" name=""/>
          <p:cNvSpPr/>
          <p:nvPr/>
        </p:nvSpPr>
        <p:spPr>
          <a:xfrm>
            <a:off x="1143000" y="3809880"/>
            <a:ext cx="77724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9" name=""/>
          <p:cNvSpPr/>
          <p:nvPr/>
        </p:nvSpPr>
        <p:spPr>
          <a:xfrm>
            <a:off x="1143000" y="4495680"/>
            <a:ext cx="77724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99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30" name=""/>
          <p:cNvSpPr/>
          <p:nvPr/>
        </p:nvSpPr>
        <p:spPr>
          <a:xfrm>
            <a:off x="1116000" y="4437000"/>
            <a:ext cx="7772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1349"/>
              </a:spcBef>
              <a:buClr>
                <a:srgbClr val="66ff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66ff99"/>
                </a:solidFill>
                <a:latin typeface="Angsana New"/>
                <a:cs typeface="Angsana New"/>
              </a:rPr>
              <a:t>เกณฑ์สำหรับประเมินผลโครงการ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31" name=""/>
          <p:cNvSpPr/>
          <p:nvPr/>
        </p:nvSpPr>
        <p:spPr>
          <a:xfrm>
            <a:off x="228600" y="2514600"/>
            <a:ext cx="8610480" cy="3962520"/>
          </a:xfrm>
          <a:custGeom>
            <a:avLst/>
            <a:gdLst/>
            <a:ahLst/>
            <a:rect l="l" t="t" r="r" b="b"/>
            <a:pathLst>
              <a:path w="2328" h="1072">
                <a:moveTo>
                  <a:pt x="880" y="152"/>
                </a:moveTo>
                <a:cubicBezTo>
                  <a:pt x="792" y="168"/>
                  <a:pt x="760" y="96"/>
                  <a:pt x="688" y="104"/>
                </a:cubicBezTo>
                <a:cubicBezTo>
                  <a:pt x="616" y="112"/>
                  <a:pt x="520" y="184"/>
                  <a:pt x="448" y="200"/>
                </a:cubicBezTo>
                <a:cubicBezTo>
                  <a:pt x="376" y="216"/>
                  <a:pt x="320" y="184"/>
                  <a:pt x="256" y="200"/>
                </a:cubicBezTo>
                <a:cubicBezTo>
                  <a:pt x="192" y="216"/>
                  <a:pt x="88" y="240"/>
                  <a:pt x="64" y="296"/>
                </a:cubicBezTo>
                <a:cubicBezTo>
                  <a:pt x="40" y="352"/>
                  <a:pt x="120" y="464"/>
                  <a:pt x="112" y="536"/>
                </a:cubicBezTo>
                <a:cubicBezTo>
                  <a:pt x="104" y="608"/>
                  <a:pt x="0" y="656"/>
                  <a:pt x="16" y="728"/>
                </a:cubicBezTo>
                <a:cubicBezTo>
                  <a:pt x="32" y="800"/>
                  <a:pt x="128" y="928"/>
                  <a:pt x="208" y="968"/>
                </a:cubicBezTo>
                <a:cubicBezTo>
                  <a:pt x="288" y="1008"/>
                  <a:pt x="408" y="952"/>
                  <a:pt x="496" y="968"/>
                </a:cubicBezTo>
                <a:cubicBezTo>
                  <a:pt x="584" y="984"/>
                  <a:pt x="656" y="1056"/>
                  <a:pt x="736" y="1064"/>
                </a:cubicBezTo>
                <a:cubicBezTo>
                  <a:pt x="816" y="1072"/>
                  <a:pt x="880" y="1032"/>
                  <a:pt x="976" y="1016"/>
                </a:cubicBezTo>
                <a:cubicBezTo>
                  <a:pt x="1072" y="1000"/>
                  <a:pt x="1200" y="968"/>
                  <a:pt x="1312" y="968"/>
                </a:cubicBezTo>
                <a:cubicBezTo>
                  <a:pt x="1424" y="968"/>
                  <a:pt x="1536" y="1024"/>
                  <a:pt x="1648" y="1016"/>
                </a:cubicBezTo>
                <a:cubicBezTo>
                  <a:pt x="1760" y="1008"/>
                  <a:pt x="1880" y="936"/>
                  <a:pt x="1984" y="920"/>
                </a:cubicBezTo>
                <a:cubicBezTo>
                  <a:pt x="2088" y="904"/>
                  <a:pt x="2216" y="968"/>
                  <a:pt x="2272" y="920"/>
                </a:cubicBezTo>
                <a:cubicBezTo>
                  <a:pt x="2328" y="872"/>
                  <a:pt x="2328" y="712"/>
                  <a:pt x="2320" y="632"/>
                </a:cubicBezTo>
                <a:cubicBezTo>
                  <a:pt x="2312" y="552"/>
                  <a:pt x="2256" y="512"/>
                  <a:pt x="2224" y="440"/>
                </a:cubicBezTo>
                <a:cubicBezTo>
                  <a:pt x="2192" y="368"/>
                  <a:pt x="2192" y="248"/>
                  <a:pt x="2128" y="200"/>
                </a:cubicBezTo>
                <a:cubicBezTo>
                  <a:pt x="2064" y="152"/>
                  <a:pt x="1944" y="168"/>
                  <a:pt x="1840" y="152"/>
                </a:cubicBezTo>
                <a:cubicBezTo>
                  <a:pt x="1736" y="136"/>
                  <a:pt x="1608" y="128"/>
                  <a:pt x="1504" y="104"/>
                </a:cubicBezTo>
                <a:cubicBezTo>
                  <a:pt x="1400" y="80"/>
                  <a:pt x="1312" y="0"/>
                  <a:pt x="1216" y="8"/>
                </a:cubicBezTo>
                <a:cubicBezTo>
                  <a:pt x="1120" y="16"/>
                  <a:pt x="968" y="136"/>
                  <a:pt x="880" y="152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EDE8-228D-4486-9124-F174F2E233AD}" type="slidenum">
              <a:t>68</a:t>
            </a:fld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8136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hi-IN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หน่วยงาน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7 </a:t>
            </a:r>
            <a:r>
              <a:rPr b="1" lang="hi-IN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22 </a:t>
            </a:r>
            <a:r>
              <a:rPr b="1" lang="hi-IN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ตัวชี้วัด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9B17-4CF8-4AC3-B79A-58A7352DFE6E}" type="slidenum">
              <a:t>69</a:t>
            </a:fld>
          </a:p>
        </p:txBody>
      </p:sp>
    </p:spTree>
  </p:cSld>
  <p:transition>
    <p:random/>
  </p:transition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1844640"/>
            <a:ext cx="8128080" cy="78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buClr>
                <a:srgbClr val="ff99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ff"/>
                </a:solidFill>
                <a:latin typeface="Angsana New"/>
                <a:ea typeface="Angsana New"/>
              </a:rPr>
              <a:t> </a:t>
            </a:r>
            <a:r>
              <a:rPr b="1" lang="en-US" sz="6000" spc="-1" strike="noStrike">
                <a:solidFill>
                  <a:srgbClr val="ff99ff"/>
                </a:solidFill>
                <a:latin typeface="Angsana New"/>
                <a:cs typeface="Angsana New"/>
              </a:rPr>
              <a:t>ตรวจสอบผลการดำเนินงานใน  ระหว่างกำลังดำเนินการ </a:t>
            </a:r>
            <a:r>
              <a:rPr b="1" lang="en-US" sz="6000" spc="-1" strike="noStrike">
                <a:solidFill>
                  <a:srgbClr val="ff99ff"/>
                </a:solidFill>
                <a:latin typeface="Angsana New"/>
                <a:ea typeface="Angsana New"/>
              </a:rPr>
              <a:t>(On-going) </a:t>
            </a:r>
            <a:r>
              <a:rPr b="1" lang="en-US" sz="6000" spc="-1" strike="noStrike">
                <a:solidFill>
                  <a:srgbClr val="ff99ff"/>
                </a:solidFill>
                <a:latin typeface="Angsana New"/>
                <a:cs typeface="Angsana New"/>
              </a:rPr>
              <a:t>การดำเนินการเสร็จสิ้นแล้ว </a:t>
            </a:r>
            <a:r>
              <a:rPr b="1" lang="en-US" sz="6000" spc="-1" strike="noStrike">
                <a:solidFill>
                  <a:srgbClr val="ff99ff"/>
                </a:solidFill>
                <a:latin typeface="Angsana New"/>
                <a:ea typeface="Angsana New"/>
              </a:rPr>
              <a:t>(Ex-Post)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spcBef>
                <a:spcPts val="3750"/>
              </a:spcBef>
              <a:buClr>
                <a:srgbClr val="ff99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ff"/>
                </a:solidFill>
                <a:latin typeface="Angsana New"/>
                <a:cs typeface="Angsana New"/>
              </a:rPr>
              <a:t>เป็นสิ่งที่บ่งชี้ได้ว่ามีการปฏิบัติตามแผนหรือไม่ อย่างไร ดูความสอดคล้องในการใช้ทรัพยากร เตือนล่วงหน้า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6212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ngsanaUPC"/>
              </a:rPr>
              <a:t>การประเมินผล 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ngsanaUPC"/>
              </a:rPr>
              <a:t>(evaluation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ngsanaUPC"/>
              <a:ea typeface="AngsanaUP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4E40-DCB0-46AD-BC22-B52C09236083}" type="slidenum">
              <a:t>7</a:t>
            </a:fld>
          </a:p>
        </p:txBody>
      </p:sp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8136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หน่วยงาน</a:t>
            </a:r>
            <a:br>
              <a:rPr sz="6600"/>
            </a:b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1.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สัมฤทธิ์ผล</a:t>
            </a: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1 :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ผลผลิตภาพรวม</a:t>
            </a: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ผลผลิตระดับปฏิบัติการ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242A-9E99-4BF5-A6B0-B0983FE00F4F}" type="slidenum">
              <a:t>70</a:t>
            </a:fld>
          </a:p>
        </p:txBody>
      </p:sp>
    </p:spTree>
  </p:cSld>
  <p:transition>
    <p:random/>
  </p:transition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8136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หน่วยงาน</a:t>
            </a: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2.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ความเสมอภาค</a:t>
            </a: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1 :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ารเข้าถึง</a:t>
            </a: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ารจัดสรรทรัพยากร</a:t>
            </a: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ารกระจายผลประโยชน์</a:t>
            </a: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4 :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เสมอภาค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CFD0-4662-4378-9E83-3C8F1E36ED94}" type="slidenum">
              <a:t>71</a:t>
            </a:fld>
          </a:p>
        </p:txBody>
      </p:sp>
    </p:spTree>
  </p:cSld>
  <p:transition>
    <p:random/>
  </p:transition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39280" y="1844640"/>
            <a:ext cx="8604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60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หน่วยงาน</a:t>
            </a:r>
            <a:br>
              <a:rPr sz="6000"/>
            </a:br>
            <a:r>
              <a:rPr b="1" lang="en-US" sz="6000" spc="-1" strike="noStrike">
                <a:solidFill>
                  <a:srgbClr val="66ffff"/>
                </a:solidFill>
                <a:latin typeface="Angsana New"/>
                <a:ea typeface="Angsana New"/>
              </a:rPr>
              <a:t>3. </a:t>
            </a:r>
            <a:r>
              <a:rPr b="1" lang="en-US" sz="60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ความสามารถและคุณภาพ</a:t>
            </a:r>
            <a:br>
              <a:rPr sz="6000"/>
            </a:br>
            <a:r>
              <a:rPr b="1" lang="en-US" sz="6000" spc="-1" strike="noStrike">
                <a:solidFill>
                  <a:srgbClr val="66ffff"/>
                </a:solidFill>
                <a:latin typeface="Angsana New"/>
                <a:ea typeface="Angsana New"/>
              </a:rPr>
              <a:t>    ในการให้บริการ</a:t>
            </a:r>
            <a:br>
              <a:rPr sz="6000"/>
            </a:br>
            <a:r>
              <a:rPr b="1" lang="en-US" sz="60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60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1 : </a:t>
            </a:r>
            <a:r>
              <a:rPr b="1" lang="en-US" sz="6000" spc="-1" strike="noStrike">
                <a:solidFill>
                  <a:srgbClr val="66ffff"/>
                </a:solidFill>
                <a:latin typeface="Angsana New"/>
                <a:cs typeface="Angsana New"/>
              </a:rPr>
              <a:t>สมรรถนะของหน่วยงาน       </a:t>
            </a:r>
            <a:br>
              <a:rPr sz="6000"/>
            </a:br>
            <a:r>
              <a:rPr b="1" lang="en-US" sz="60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60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60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ทั่วถึงและเพียงพอ</a:t>
            </a:r>
            <a:br>
              <a:rPr sz="6000"/>
            </a:br>
            <a:r>
              <a:rPr b="1" lang="en-US" sz="60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60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60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ถี่ในการให้บริการ</a:t>
            </a:r>
            <a:br>
              <a:rPr sz="6000"/>
            </a:br>
            <a:r>
              <a:rPr b="1" lang="en-US" sz="60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60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4 :  </a:t>
            </a:r>
            <a:r>
              <a:rPr b="1" lang="en-US" sz="60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สิทธิภาพการให้บริการ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42BC-BB22-4EE6-9E6D-FAA81C7EC7F0}" type="slidenum">
              <a:t>72</a:t>
            </a:fld>
          </a:p>
        </p:txBody>
      </p:sp>
    </p:spTree>
  </p:cSld>
  <p:transition>
    <p:random/>
  </p:transition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หน่วยงาน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4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ความรับผิดชอบต่อหน่วยงาน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พันธกิจต่อสังคม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รับผิดชอบต่อสาธารณะ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ารให้หลักประกันความเสี่ยง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4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ารยอมรับข้อผิดพลาด</a:t>
            </a: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1C5E-C3DE-48BA-9707-C4765ACB94DF}" type="slidenum">
              <a:t>73</a:t>
            </a:fld>
          </a:p>
        </p:txBody>
      </p:sp>
    </p:spTree>
  </p:cSld>
  <p:transition>
    <p:random/>
  </p:transition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หน่วยงาน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5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การตอบสนองความต้องการของ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 ประชาชน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ารกำหนดประเด็นปัญหา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ารรับฟังความคิดเห็น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มาตรการเชิงยุทธศาสตร์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             ในการแก้ไขปัญหา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4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รวดเร็วในการแก้ปัญหา</a:t>
            </a: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402C-C9B8-4129-B479-FCB3E6417414}" type="slidenum">
              <a:t>74</a:t>
            </a:fld>
          </a:p>
        </p:txBody>
      </p:sp>
    </p:spTree>
  </p:cSld>
  <p:transition>
    <p:random/>
  </p:transition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หน่วยงาน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6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ความพึงพอใจของลูกค้า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ระดับความพึงพอใจ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ารยอมรับหรือคัดค้าน</a:t>
            </a:r>
            <a:br>
              <a:rPr sz="5500"/>
            </a:b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CB9A-1605-4BD1-A5E4-1AD144B466FF}" type="slidenum">
              <a:t>75</a:t>
            </a:fld>
          </a:p>
        </p:txBody>
      </p:sp>
    </p:spTree>
  </p:cSld>
  <p:transition>
    <p:random/>
  </p:transition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หน่วยงาน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7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ผลเสียหายต่อสังคม 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ผลกระทบภายนอก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ต้นทุนทางสังคม</a:t>
            </a: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6145-EA38-43F8-B07F-8ECA36B15893}" type="slidenum">
              <a:t>76</a:t>
            </a:fld>
          </a:p>
        </p:txBody>
      </p:sp>
    </p:spTree>
  </p:cSld>
  <p:transition>
    <p:random/>
  </p:transition>
  <p:timing>
    <p:tnLst>
      <p:par>
        <p:cTn id="1514" dur="indefinite" restart="never" nodeType="tmRoot">
          <p:childTnLst>
            <p:seq>
              <p:cTn id="1515" dur="indefinite" nodeType="mainSeq">
                <p:childTnLst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8136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hi-IN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โครงการ</a:t>
            </a:r>
            <a:br>
              <a:rPr sz="6600"/>
            </a:b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8 </a:t>
            </a:r>
            <a:r>
              <a:rPr b="1" lang="hi-IN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27 </a:t>
            </a:r>
            <a:r>
              <a:rPr b="1" lang="hi-IN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ตัวชี้วัด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BD80-E111-4F3A-8025-505C40FC763E}" type="slidenum">
              <a:t>77</a:t>
            </a:fld>
          </a:p>
        </p:txBody>
      </p:sp>
    </p:spTree>
  </p:cSld>
  <p:transition>
    <p:random/>
  </p:transition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5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โครงการ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1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ความก้าวหน้า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(Progress)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ผลผลิตเทียบเป้าหมายรวมใน   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             ช่วงเวลา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จำนวนกิจกรรมที่แล้วเสร็จ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ทรัพยากรที่ใช้ไปในช่วงเวลา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4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ระยะเวลาที่ใช้ไป</a:t>
            </a: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74E4-1D83-490E-A9E6-42E0765DCCC6}" type="slidenum">
              <a:t>78</a:t>
            </a:fld>
          </a:p>
        </p:txBody>
      </p:sp>
    </p:spTree>
  </p:cSld>
  <p:transition>
    <p:random/>
  </p:transition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ประเมินโครงการ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2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ประสิทธิภาพ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(Efficiency)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สัดส่วนผลผลิตต่อค่าใช้จ่าย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ผลิตภาพต่อกำลังคน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ผลิตภาพต่อหน่วยเวลา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4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ารประหยัดทรัพยากรการจัดการ</a:t>
            </a: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87AE-1DAD-4A2C-967D-11E84EC51E00}" type="slidenum">
              <a:t>79</a:t>
            </a:fld>
          </a:p>
        </p:txBody>
      </p:sp>
    </p:spTree>
  </p:cSld>
  <p:transition>
    <p:random/>
  </p:transition>
  <p:timing>
    <p:tnLst>
      <p:par>
        <p:cTn id="1559" dur="indefinite" restart="never" nodeType="tmRoot">
          <p:childTnLst>
            <p:seq>
              <p:cTn id="1560" dur="indefinite" nodeType="mainSeq">
                <p:childTnLst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5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1341360"/>
            <a:ext cx="8128080" cy="76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buClr>
                <a:srgbClr val="ff99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ff"/>
                </a:solidFill>
                <a:latin typeface="Angsana New"/>
                <a:cs typeface="Angsana New"/>
              </a:rPr>
              <a:t>เป็นข้อมูลย้อนกลับเพื่อการตัดสินใจวางแผนในอนาคต 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spcBef>
                <a:spcPts val="3750"/>
              </a:spcBef>
              <a:buClr>
                <a:srgbClr val="ff99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ff"/>
                </a:solidFill>
                <a:latin typeface="Angsana New"/>
                <a:cs typeface="Angsana New"/>
              </a:rPr>
              <a:t>ตัดสินคุณค่าโดยใช้ข้อมูลที่รวบรวมอย่างเป็นระบบ เที่ยงตรง ปรนัย  เชื่อถือได้  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ngsana New"/>
                <a:ea typeface="Angsana New"/>
              </a:rPr>
              <a:t>Standard criteria, Benmarking, KPI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212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ngsanaUPC"/>
              </a:rPr>
              <a:t>การประเมินผล 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ngsanaUPC"/>
              </a:rPr>
              <a:t>(evaluation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ngsanaUPC"/>
              <a:ea typeface="AngsanaUP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3940-26A3-4E32-9517-5C38873DF04F}" type="slidenum">
              <a:t>8</a:t>
            </a:fld>
          </a:p>
        </p:txBody>
      </p:sp>
    </p:spTree>
  </p:cSld>
  <p:transition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โครงการ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3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ประสิทธิผล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(Effectiveness)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ระดับการบรรลุเป้าหมาย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ระดับการมีส่วนร่วม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ระดับความพึงพอใจ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4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เสี่ยงของโครงการ</a:t>
            </a: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7991-EE7E-4210-B822-7263F52A60A3}" type="slidenum">
              <a:t>80</a:t>
            </a:fld>
          </a:p>
        </p:txBody>
      </p:sp>
    </p:spTree>
  </p:cSld>
  <p:transition>
    <p:random/>
  </p:transition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โครงการ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4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ผลกระทบ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(Impacts)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ุณภาพชีวิต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ทัศนคติและความเข้าใจ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ารเปลี่ยนแปลงพฤติกรรม </a:t>
            </a:r>
            <a:br>
              <a:rPr sz="5500"/>
            </a:b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6AED-7A88-4F58-8310-448FB77516DC}" type="slidenum">
              <a:t>81</a:t>
            </a:fld>
          </a:p>
        </p:txBody>
      </p:sp>
    </p:spTree>
  </p:cSld>
  <p:transition>
    <p:random/>
  </p:transition>
  <p:timing>
    <p:tnLst>
      <p:par>
        <p:cTn id="1589" dur="indefinite" restart="never" nodeType="tmRoot">
          <p:childTnLst>
            <p:seq>
              <p:cTn id="1590" dur="indefinite" nodeType="mainSeq">
                <p:childTnLst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5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โครงการ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5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ความสอดคล้อง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(Relevance)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ด็นปัญหาหลัก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มาตรการ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/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ลยุทธ์ในการแก้ไขปัญหา    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ต้องการ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/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ข้อเรียกร้องของ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               กลุ่มเป้าหมาย</a:t>
            </a: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0543-B066-4052-8D59-1FC238804C1B}" type="slidenum">
              <a:t>82</a:t>
            </a:fld>
          </a:p>
        </p:txBody>
      </p:sp>
    </p:spTree>
  </p:cSld>
  <p:transition>
    <p:random/>
  </p:transition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โครงการ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6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ความยั่งยืน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(Sustainability)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อยู่รอดด้านเศรษฐกิจ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สมรรถนะด้านสถาบัน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เป็นไปได้ในการขยายผล</a:t>
            </a: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7E35-B449-4AE2-893E-8034280CC289}" type="slidenum">
              <a:t>83</a:t>
            </a:fld>
          </a:p>
        </p:txBody>
      </p:sp>
    </p:spTree>
  </p:cSld>
  <p:transition>
    <p:random/>
  </p:transition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โครงการ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7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ความเป็นธรรม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(Equity)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เป็นธรรมระหว่างกลุ่มอาชีพ   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เป็นธรรมระหว่างเพศ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เป็นธรรมระหว่างชนรุ่น</a:t>
            </a: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0D43-FD04-4143-8F80-B791BA37A933}" type="slidenum">
              <a:t>84</a:t>
            </a:fld>
          </a:p>
        </p:txBody>
      </p:sp>
    </p:spTree>
  </p:cSld>
  <p:transition>
    <p:random/>
  </p:transition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โครงการ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8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ความเสียหายของโครงการ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(Externalities)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ผลกระทบด้านสิ่งแวดล้อม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ผลกระทบด้านเศรษฐกิจ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ผลกระทบด้านสังคมและวัฒนธรรม </a:t>
            </a:r>
            <a:br>
              <a:rPr sz="5500"/>
            </a:b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237A-5BE1-4386-945E-35F1CE3FC234}" type="slidenum">
              <a:t>85</a:t>
            </a:fld>
          </a:p>
        </p:txBody>
      </p:sp>
    </p:spTree>
  </p:cSld>
  <p:transition>
    <p:random/>
  </p:transition>
  <p:timing>
    <p:tnLst>
      <p:par>
        <p:cTn id="1649" dur="indefinite" restart="never" nodeType="tmRoot">
          <p:childTnLst>
            <p:seq>
              <p:cTn id="1650" dur="indefinite" nodeType="mainSeq">
                <p:childTnLst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533520" y="38088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066680" y="1066680"/>
            <a:ext cx="70106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Browallia New"/>
              </a:rPr>
              <a:t>รูปแบบการติดตามประเมินผล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768" name=""/>
          <p:cNvSpPr/>
          <p:nvPr/>
        </p:nvSpPr>
        <p:spPr>
          <a:xfrm>
            <a:off x="971640" y="2994120"/>
            <a:ext cx="7559640" cy="52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spcBef>
                <a:spcPts val="2812"/>
              </a:spcBef>
              <a:buClr>
                <a:srgbClr val="ffff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ngsana New"/>
                <a:cs typeface="Angsana New"/>
              </a:rPr>
              <a:t>การใช้กระบวนการวิธีวิจัย  เช่น ทำโพลสำรวจความพึงพอใจของประชาชน</a:t>
            </a:r>
            <a:endParaRPr b="0" lang="en-US" sz="45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spcBef>
                <a:spcPts val="2812"/>
              </a:spcBef>
              <a:buClr>
                <a:srgbClr val="ffff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ngsana New"/>
                <a:cs typeface="Angsana New"/>
              </a:rPr>
              <a:t>การใช้การวิเคราะห์ระบบ  เช่น การทำ </a:t>
            </a:r>
            <a:r>
              <a:rPr b="1" lang="en-US" sz="4500" spc="-1" strike="noStrike">
                <a:solidFill>
                  <a:srgbClr val="ffff00"/>
                </a:solidFill>
                <a:latin typeface="Angsana New"/>
                <a:ea typeface="Angsana New"/>
              </a:rPr>
              <a:t>SAR                                             (Self Assessment Report)</a:t>
            </a:r>
            <a:endParaRPr b="0" lang="en-US" sz="4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61E2-333C-4B07-B033-04556D84354E}" type="slidenum">
              <a:t>86</a:t>
            </a:fld>
          </a:p>
        </p:txBody>
      </p:sp>
    </p:spTree>
  </p:cSld>
  <p:transition>
    <p:random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1295280" y="609480"/>
            <a:ext cx="708660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66"/>
                </a:solidFill>
                <a:latin typeface="Browallia New"/>
              </a:rPr>
              <a:t>ระบบติดตามและประเมินผล</a:t>
            </a:r>
            <a:endParaRPr b="1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ffff66"/>
              </a:solidFill>
              <a:latin typeface="Browallia New"/>
              <a:ea typeface="Browallia New"/>
            </a:endParaRPr>
          </a:p>
        </p:txBody>
      </p:sp>
      <p:sp>
        <p:nvSpPr>
          <p:cNvPr id="770" name=""/>
          <p:cNvSpPr/>
          <p:nvPr/>
        </p:nvSpPr>
        <p:spPr>
          <a:xfrm>
            <a:off x="684360" y="2492280"/>
            <a:ext cx="741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1" name=""/>
          <p:cNvSpPr/>
          <p:nvPr/>
        </p:nvSpPr>
        <p:spPr>
          <a:xfrm>
            <a:off x="1258920" y="2205000"/>
            <a:ext cx="7273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2" name=""/>
          <p:cNvSpPr/>
          <p:nvPr/>
        </p:nvSpPr>
        <p:spPr>
          <a:xfrm>
            <a:off x="755640" y="2781360"/>
            <a:ext cx="1152360" cy="2196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  <a:ea typeface="Angsana New"/>
              </a:rPr>
              <a:t>OUTPUT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3" name=""/>
          <p:cNvSpPr/>
          <p:nvPr/>
        </p:nvSpPr>
        <p:spPr>
          <a:xfrm>
            <a:off x="2124000" y="321300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4" name=""/>
          <p:cNvSpPr/>
          <p:nvPr/>
        </p:nvSpPr>
        <p:spPr>
          <a:xfrm>
            <a:off x="2771640" y="2852640"/>
            <a:ext cx="1152720" cy="2897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</a:rPr>
              <a:t>PRO CESS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5" name=""/>
          <p:cNvSpPr/>
          <p:nvPr/>
        </p:nvSpPr>
        <p:spPr>
          <a:xfrm>
            <a:off x="4861080" y="2852640"/>
            <a:ext cx="1223640" cy="21967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</a:rPr>
              <a:t>OUTPUT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6" name=""/>
          <p:cNvSpPr/>
          <p:nvPr/>
        </p:nvSpPr>
        <p:spPr>
          <a:xfrm>
            <a:off x="4140360" y="321300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7" name=""/>
          <p:cNvSpPr/>
          <p:nvPr/>
        </p:nvSpPr>
        <p:spPr>
          <a:xfrm>
            <a:off x="7164360" y="2852640"/>
            <a:ext cx="1584360" cy="2196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</a:rPr>
              <a:t>OUT COME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8" name=""/>
          <p:cNvSpPr/>
          <p:nvPr/>
        </p:nvSpPr>
        <p:spPr>
          <a:xfrm>
            <a:off x="6445080" y="321300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9" name=""/>
          <p:cNvSpPr/>
          <p:nvPr/>
        </p:nvSpPr>
        <p:spPr>
          <a:xfrm>
            <a:off x="1547640" y="4437000"/>
            <a:ext cx="3024360" cy="720720"/>
          </a:xfrm>
          <a:prstGeom prst="upArrowCallout">
            <a:avLst>
              <a:gd name="adj1" fmla="val 104917"/>
              <a:gd name="adj2" fmla="val 104908"/>
              <a:gd name="adj3" fmla="val 16667"/>
              <a:gd name="adj4" fmla="val 66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  <a:ea typeface="Angsana New"/>
              </a:rPr>
              <a:t>MONITORING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0" name=""/>
          <p:cNvSpPr/>
          <p:nvPr/>
        </p:nvSpPr>
        <p:spPr>
          <a:xfrm>
            <a:off x="4788000" y="4365720"/>
            <a:ext cx="2736720" cy="718920"/>
          </a:xfrm>
          <a:prstGeom prst="upArrowCallout">
            <a:avLst>
              <a:gd name="adj1" fmla="val 95177"/>
              <a:gd name="adj2" fmla="val 95168"/>
              <a:gd name="adj3" fmla="val 16667"/>
              <a:gd name="adj4" fmla="val 6666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</a:rPr>
              <a:t>EVALUATION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1" name=""/>
          <p:cNvSpPr/>
          <p:nvPr/>
        </p:nvSpPr>
        <p:spPr>
          <a:xfrm>
            <a:off x="971640" y="1628640"/>
            <a:ext cx="7488000" cy="642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ENVIRONMENT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2" name=""/>
          <p:cNvSpPr/>
          <p:nvPr/>
        </p:nvSpPr>
        <p:spPr>
          <a:xfrm>
            <a:off x="1619280" y="2349360"/>
            <a:ext cx="35892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3" name=""/>
          <p:cNvSpPr/>
          <p:nvPr/>
        </p:nvSpPr>
        <p:spPr>
          <a:xfrm>
            <a:off x="971640" y="2349360"/>
            <a:ext cx="35856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4" name=""/>
          <p:cNvSpPr/>
          <p:nvPr/>
        </p:nvSpPr>
        <p:spPr>
          <a:xfrm>
            <a:off x="680400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5" name=""/>
          <p:cNvSpPr/>
          <p:nvPr/>
        </p:nvSpPr>
        <p:spPr>
          <a:xfrm>
            <a:off x="313200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6" name=""/>
          <p:cNvSpPr/>
          <p:nvPr/>
        </p:nvSpPr>
        <p:spPr>
          <a:xfrm>
            <a:off x="399564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7" name=""/>
          <p:cNvSpPr/>
          <p:nvPr/>
        </p:nvSpPr>
        <p:spPr>
          <a:xfrm>
            <a:off x="500364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8" name=""/>
          <p:cNvSpPr/>
          <p:nvPr/>
        </p:nvSpPr>
        <p:spPr>
          <a:xfrm>
            <a:off x="766764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9" name=""/>
          <p:cNvSpPr/>
          <p:nvPr/>
        </p:nvSpPr>
        <p:spPr>
          <a:xfrm>
            <a:off x="594036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0" name=""/>
          <p:cNvSpPr/>
          <p:nvPr/>
        </p:nvSpPr>
        <p:spPr>
          <a:xfrm>
            <a:off x="2268360" y="2349360"/>
            <a:ext cx="35892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1" name=""/>
          <p:cNvSpPr/>
          <p:nvPr/>
        </p:nvSpPr>
        <p:spPr>
          <a:xfrm rot="10471800">
            <a:off x="969480" y="4436640"/>
            <a:ext cx="8174160" cy="1871640"/>
          </a:xfrm>
          <a:custGeom>
            <a:avLst/>
            <a:gdLst>
              <a:gd name="textAreaLeft" fmla="*/ 0 w 8174160"/>
              <a:gd name="textAreaRight" fmla="*/ 8174520 w 817416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2" name=""/>
          <p:cNvSpPr/>
          <p:nvPr/>
        </p:nvSpPr>
        <p:spPr>
          <a:xfrm>
            <a:off x="900000" y="5589720"/>
            <a:ext cx="27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FEEDBACKS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B514-5E69-4244-95A1-CE54C0938D4F}" type="slidenum">
              <a:t>87</a:t>
            </a:fld>
          </a:p>
        </p:txBody>
      </p:sp>
    </p:spTree>
  </p:cSld>
  <p:transition>
    <p:random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52280" y="28548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Angsana New"/>
                <a:cs typeface="Angsana New"/>
              </a:rPr>
              <a:t>ประเด็นการติดตามประเมินผล </a:t>
            </a:r>
            <a:r>
              <a:rPr b="1" lang="en-US" sz="5400" spc="-1" strike="noStrike">
                <a:solidFill>
                  <a:srgbClr val="990033"/>
                </a:solidFill>
                <a:latin typeface="Angsana New"/>
                <a:ea typeface="Angsana New"/>
              </a:rPr>
              <a:t>(IOEEI)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4" name=""/>
          <p:cNvSpPr/>
          <p:nvPr/>
        </p:nvSpPr>
        <p:spPr>
          <a:xfrm>
            <a:off x="1015920" y="1523880"/>
            <a:ext cx="7616880" cy="1143000"/>
          </a:xfrm>
          <a:custGeom>
            <a:avLst/>
            <a:gdLst>
              <a:gd name="textAreaLeft" fmla="*/ 0 w 7616880"/>
              <a:gd name="textAreaRight" fmla="*/ 7617240 w 7616880"/>
              <a:gd name="textAreaTop" fmla="*/ 147960 h 1143000"/>
              <a:gd name="textAreaBottom" fmla="*/ 9950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5" name=""/>
          <p:cNvSpPr/>
          <p:nvPr/>
        </p:nvSpPr>
        <p:spPr>
          <a:xfrm>
            <a:off x="1015920" y="2495520"/>
            <a:ext cx="7616880" cy="1162080"/>
          </a:xfrm>
          <a:custGeom>
            <a:avLst/>
            <a:gdLst>
              <a:gd name="textAreaLeft" fmla="*/ 0 w 7616880"/>
              <a:gd name="textAreaRight" fmla="*/ 7617240 w 7616880"/>
              <a:gd name="textAreaTop" fmla="*/ 150480 h 1162080"/>
              <a:gd name="textAreaBottom" fmla="*/ 1011600 h 1162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6" name=""/>
          <p:cNvSpPr/>
          <p:nvPr/>
        </p:nvSpPr>
        <p:spPr>
          <a:xfrm>
            <a:off x="914400" y="3467160"/>
            <a:ext cx="7616880" cy="1257120"/>
          </a:xfrm>
          <a:custGeom>
            <a:avLst/>
            <a:gdLst>
              <a:gd name="textAreaLeft" fmla="*/ 0 w 7616880"/>
              <a:gd name="textAreaRight" fmla="*/ 7617240 w 7616880"/>
              <a:gd name="textAreaTop" fmla="*/ 162720 h 1257120"/>
              <a:gd name="textAreaBottom" fmla="*/ 1094400 h 1257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ngsana New"/>
              </a:rPr>
              <a:t>Effectiveness </a:t>
            </a:r>
            <a:r>
              <a:rPr b="1" lang="en-US" sz="4800" spc="-1" strike="noStrike">
                <a:solidFill>
                  <a:srgbClr val="ffff99"/>
                </a:solidFill>
                <a:latin typeface="Angsana New"/>
              </a:rPr>
              <a:t>การประเมินประสิทธิผลสำเร็จ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7" name=""/>
          <p:cNvSpPr/>
          <p:nvPr/>
        </p:nvSpPr>
        <p:spPr>
          <a:xfrm>
            <a:off x="914400" y="4495680"/>
            <a:ext cx="7643880" cy="1219320"/>
          </a:xfrm>
          <a:custGeom>
            <a:avLst/>
            <a:gdLst>
              <a:gd name="textAreaLeft" fmla="*/ 0 w 7643880"/>
              <a:gd name="textAreaRight" fmla="*/ 7644240 w 7643880"/>
              <a:gd name="textAreaTop" fmla="*/ 158040 h 1219320"/>
              <a:gd name="textAreaBottom" fmla="*/ 10612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8" name=""/>
          <p:cNvSpPr/>
          <p:nvPr/>
        </p:nvSpPr>
        <p:spPr>
          <a:xfrm>
            <a:off x="941400" y="5562720"/>
            <a:ext cx="7559640" cy="1181160"/>
          </a:xfrm>
          <a:custGeom>
            <a:avLst/>
            <a:gdLst>
              <a:gd name="textAreaLeft" fmla="*/ 0 w 7559640"/>
              <a:gd name="textAreaRight" fmla="*/ 7560000 w 7559640"/>
              <a:gd name="textAreaTop" fmla="*/ 153000 h 1181160"/>
              <a:gd name="textAreaBottom" fmla="*/ 1028160 h 11811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9" name=""/>
          <p:cNvSpPr/>
          <p:nvPr/>
        </p:nvSpPr>
        <p:spPr>
          <a:xfrm>
            <a:off x="990720" y="1523880"/>
            <a:ext cx="667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Angsana New"/>
                <a:ea typeface="Angsana New"/>
              </a:rPr>
              <a:t>Input  </a:t>
            </a:r>
            <a:r>
              <a:rPr b="1" lang="en-US" sz="5400" spc="-1" strike="noStrike">
                <a:solidFill>
                  <a:srgbClr val="ccffcc"/>
                </a:solidFill>
                <a:latin typeface="Angsana New"/>
                <a:cs typeface="Angsana New"/>
              </a:rPr>
              <a:t>ประเมินปัจจัยนำเข้า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0" name=""/>
          <p:cNvSpPr/>
          <p:nvPr/>
        </p:nvSpPr>
        <p:spPr>
          <a:xfrm>
            <a:off x="1219320" y="2514600"/>
            <a:ext cx="667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Angsana New"/>
                <a:ea typeface="Angsana New"/>
              </a:rPr>
              <a:t>Output  </a:t>
            </a:r>
            <a:r>
              <a:rPr b="1" lang="en-US" sz="54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ารประเมินผลงาน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1" name=""/>
          <p:cNvSpPr/>
          <p:nvPr/>
        </p:nvSpPr>
        <p:spPr>
          <a:xfrm rot="15000">
            <a:off x="1185840" y="4868640"/>
            <a:ext cx="7239240" cy="20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ngsana New"/>
              </a:rPr>
              <a:t>Efficiency  </a:t>
            </a:r>
            <a:r>
              <a:rPr b="1" lang="en-US" sz="4800" spc="-1" strike="noStrike">
                <a:solidFill>
                  <a:srgbClr val="3333cc"/>
                </a:solidFill>
                <a:latin typeface="Angsana New"/>
              </a:rPr>
              <a:t>การประเมินประสิทธิภาพ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2" name=""/>
          <p:cNvSpPr/>
          <p:nvPr/>
        </p:nvSpPr>
        <p:spPr>
          <a:xfrm rot="145800">
            <a:off x="1243080" y="5660640"/>
            <a:ext cx="688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cc"/>
                </a:solidFill>
                <a:latin typeface="Angsana New"/>
                <a:ea typeface="Angsana New"/>
              </a:rPr>
              <a:t>      </a:t>
            </a:r>
            <a:r>
              <a:rPr b="1" lang="en-US" sz="4800" spc="-1" strike="noStrike">
                <a:solidFill>
                  <a:srgbClr val="ccffcc"/>
                </a:solidFill>
                <a:latin typeface="Angsana New"/>
                <a:ea typeface="Angsana New"/>
              </a:rPr>
              <a:t>Impacts  </a:t>
            </a:r>
            <a:r>
              <a:rPr b="1" lang="en-US" sz="4800" spc="-1" strike="noStrike">
                <a:solidFill>
                  <a:srgbClr val="ccffcc"/>
                </a:solidFill>
                <a:latin typeface="Angsana New"/>
                <a:cs typeface="Angsana New"/>
              </a:rPr>
              <a:t>การประเมินถึงผลกระทบ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0AA9-1D74-4935-BFD1-4DE1CDE02185}" type="slidenum">
              <a:t>88</a:t>
            </a:fld>
          </a:p>
        </p:txBody>
      </p:sp>
    </p:spTree>
  </p:cSld>
  <p:transition>
    <p:random/>
  </p:transition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08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1042920" y="304920"/>
            <a:ext cx="67294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Browallia New"/>
              </a:rPr>
              <a:t>กระบวนการติดตามและประเมินผล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804" name=""/>
          <p:cNvSpPr/>
          <p:nvPr/>
        </p:nvSpPr>
        <p:spPr>
          <a:xfrm>
            <a:off x="1371600" y="2133720"/>
            <a:ext cx="647712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000099"/>
                </a:solidFill>
                <a:latin typeface="Angsana New"/>
                <a:cs typeface="Angsana New"/>
              </a:rPr>
              <a:t>การวางแผนพัฒนาท้องถิ่น</a:t>
            </a:r>
            <a:endParaRPr b="0" lang="en-US" sz="8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91F5-C077-4028-9B6F-03F12E8CE72C}" type="slidenum">
              <a:t>89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295280" y="609480"/>
            <a:ext cx="708660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66"/>
                </a:solidFill>
                <a:latin typeface="Browallia New"/>
              </a:rPr>
              <a:t>ระบบติดตามและประเมินผล</a:t>
            </a:r>
            <a:endParaRPr b="1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ffff66"/>
              </a:solidFill>
              <a:latin typeface="Browallia New"/>
              <a:ea typeface="Browallia New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492280"/>
            <a:ext cx="741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" name=""/>
          <p:cNvSpPr/>
          <p:nvPr/>
        </p:nvSpPr>
        <p:spPr>
          <a:xfrm>
            <a:off x="1258920" y="2205000"/>
            <a:ext cx="7273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2781360"/>
            <a:ext cx="1152360" cy="2561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  <a:ea typeface="Angsana New"/>
              </a:rPr>
              <a:t>IN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  <a:ea typeface="Angsana New"/>
              </a:rPr>
              <a:t>PUT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" name=""/>
          <p:cNvSpPr/>
          <p:nvPr/>
        </p:nvSpPr>
        <p:spPr>
          <a:xfrm>
            <a:off x="2124000" y="321300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" name=""/>
          <p:cNvSpPr/>
          <p:nvPr/>
        </p:nvSpPr>
        <p:spPr>
          <a:xfrm>
            <a:off x="2771640" y="2852640"/>
            <a:ext cx="1152720" cy="2897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</a:rPr>
              <a:t>PRO CESS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" name=""/>
          <p:cNvSpPr/>
          <p:nvPr/>
        </p:nvSpPr>
        <p:spPr>
          <a:xfrm>
            <a:off x="4861080" y="2852640"/>
            <a:ext cx="1223640" cy="21967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</a:rPr>
              <a:t>OUTPUT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321300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" name=""/>
          <p:cNvSpPr/>
          <p:nvPr/>
        </p:nvSpPr>
        <p:spPr>
          <a:xfrm>
            <a:off x="7164360" y="2852640"/>
            <a:ext cx="1584360" cy="2196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</a:rPr>
              <a:t>OUT COME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" name=""/>
          <p:cNvSpPr/>
          <p:nvPr/>
        </p:nvSpPr>
        <p:spPr>
          <a:xfrm>
            <a:off x="6445080" y="321300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8" name=""/>
          <p:cNvSpPr/>
          <p:nvPr/>
        </p:nvSpPr>
        <p:spPr>
          <a:xfrm>
            <a:off x="1547640" y="4437000"/>
            <a:ext cx="3024360" cy="720720"/>
          </a:xfrm>
          <a:prstGeom prst="upArrowCallout">
            <a:avLst>
              <a:gd name="adj1" fmla="val 104917"/>
              <a:gd name="adj2" fmla="val 104908"/>
              <a:gd name="adj3" fmla="val 16667"/>
              <a:gd name="adj4" fmla="val 66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  <a:ea typeface="Angsana New"/>
              </a:rPr>
              <a:t>MONITORING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9" name=""/>
          <p:cNvSpPr/>
          <p:nvPr/>
        </p:nvSpPr>
        <p:spPr>
          <a:xfrm>
            <a:off x="4788000" y="4365720"/>
            <a:ext cx="2736720" cy="718920"/>
          </a:xfrm>
          <a:prstGeom prst="upArrowCallout">
            <a:avLst>
              <a:gd name="adj1" fmla="val 95177"/>
              <a:gd name="adj2" fmla="val 95168"/>
              <a:gd name="adj3" fmla="val 16667"/>
              <a:gd name="adj4" fmla="val 6666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</a:rPr>
              <a:t>EVALUATION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1628640"/>
            <a:ext cx="7488000" cy="642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ENVIRONMENT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2349360"/>
            <a:ext cx="35892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2349360"/>
            <a:ext cx="35856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3" name=""/>
          <p:cNvSpPr/>
          <p:nvPr/>
        </p:nvSpPr>
        <p:spPr>
          <a:xfrm>
            <a:off x="680400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4" name=""/>
          <p:cNvSpPr/>
          <p:nvPr/>
        </p:nvSpPr>
        <p:spPr>
          <a:xfrm>
            <a:off x="313200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6" name=""/>
          <p:cNvSpPr/>
          <p:nvPr/>
        </p:nvSpPr>
        <p:spPr>
          <a:xfrm>
            <a:off x="500364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" name=""/>
          <p:cNvSpPr/>
          <p:nvPr/>
        </p:nvSpPr>
        <p:spPr>
          <a:xfrm>
            <a:off x="766764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" name=""/>
          <p:cNvSpPr/>
          <p:nvPr/>
        </p:nvSpPr>
        <p:spPr>
          <a:xfrm>
            <a:off x="2268360" y="2349360"/>
            <a:ext cx="35892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" name=""/>
          <p:cNvSpPr/>
          <p:nvPr/>
        </p:nvSpPr>
        <p:spPr>
          <a:xfrm rot="10471800">
            <a:off x="969480" y="4436640"/>
            <a:ext cx="8174160" cy="1871640"/>
          </a:xfrm>
          <a:custGeom>
            <a:avLst/>
            <a:gdLst>
              <a:gd name="textAreaLeft" fmla="*/ 0 w 8174160"/>
              <a:gd name="textAreaRight" fmla="*/ 8174520 w 817416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5589720"/>
            <a:ext cx="27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FEEDBACKS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3F94-1245-4B50-94DD-3B2518F65039}" type="slidenum">
              <a:t>9</a:t>
            </a:fld>
          </a:p>
        </p:txBody>
      </p:sp>
    </p:spTree>
  </p:cSld>
  <p:transition>
    <p:random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99ff66"/>
                </a:solidFill>
                <a:latin typeface="Angsana New"/>
              </a:rPr>
              <a:t>4</a:t>
            </a:r>
            <a:r>
              <a:rPr b="1" lang="en-US" sz="6400" spc="-1" strike="noStrike">
                <a:solidFill>
                  <a:srgbClr val="99ff66"/>
                </a:solidFill>
                <a:latin typeface="Angsana New"/>
                <a:ea typeface="Angsana New"/>
              </a:rPr>
              <a:t> </a:t>
            </a:r>
            <a:r>
              <a:rPr b="1" lang="hi-IN" sz="6400" spc="-1" strike="noStrike">
                <a:solidFill>
                  <a:srgbClr val="99ff66"/>
                </a:solidFill>
                <a:latin typeface="Angsana New"/>
                <a:cs typeface="Angsana New"/>
              </a:rPr>
              <a:t>ขั้นตอนง่าย ๆ </a:t>
            </a:r>
            <a:endParaRPr b="0" lang="en-US" sz="6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6" name=""/>
          <p:cNvSpPr/>
          <p:nvPr/>
        </p:nvSpPr>
        <p:spPr>
          <a:xfrm>
            <a:off x="228600" y="1600200"/>
            <a:ext cx="3454560" cy="3382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ccff"/>
                </a:solidFill>
                <a:latin typeface="Angsana New"/>
                <a:cs typeface="Angsana New"/>
              </a:rPr>
              <a:t>กำหนดรายละเอียดกลยุทธ์  แนวทาง ตัวชี้วัด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7" name=""/>
          <p:cNvSpPr/>
          <p:nvPr/>
        </p:nvSpPr>
        <p:spPr>
          <a:xfrm>
            <a:off x="4788000" y="1447920"/>
            <a:ext cx="4076640" cy="301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ก็บ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/</a:t>
            </a:r>
            <a:r>
              <a:rPr b="1" lang="hi-IN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ัดเลือกข้อมูล โดย บันทึก สังเกต แบบสอบถาม สัมภาษณ์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8" name=""/>
          <p:cNvSpPr/>
          <p:nvPr/>
        </p:nvSpPr>
        <p:spPr>
          <a:xfrm>
            <a:off x="304920" y="4724280"/>
            <a:ext cx="3555720" cy="21402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cccc"/>
                </a:solidFill>
                <a:latin typeface="Angsana New"/>
                <a:cs typeface="Angsana New"/>
              </a:rPr>
              <a:t>วิเคราะห์ข้อมูลเปรียบเทียบกับเป้าหมาย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9" name=""/>
          <p:cNvSpPr/>
          <p:nvPr/>
        </p:nvSpPr>
        <p:spPr>
          <a:xfrm>
            <a:off x="4724280" y="4800600"/>
            <a:ext cx="3657600" cy="2140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9900cc"/>
                </a:solidFill>
                <a:latin typeface="Angsana New"/>
                <a:cs typeface="Angsana New"/>
              </a:rPr>
              <a:t>การรายงานเพื่อนำไปสู่การปรับปรุง ใช้ประโยชน์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CC2D-9FAE-4EAC-9150-5652923F6749}" type="slidenum">
              <a:t>90</a:t>
            </a:fld>
          </a:p>
        </p:txBody>
      </p:sp>
    </p:spTree>
  </p:cSld>
  <p:transition>
    <p:random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826920" y="1700280"/>
            <a:ext cx="7162920" cy="1218960"/>
          </a:xfrm>
          <a:prstGeom prst="flowChartMultidocumen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1" name=""/>
          <p:cNvSpPr/>
          <p:nvPr/>
        </p:nvSpPr>
        <p:spPr>
          <a:xfrm>
            <a:off x="1332000" y="1628640"/>
            <a:ext cx="60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ccffff"/>
                </a:solidFill>
                <a:latin typeface="Angsana New"/>
                <a:cs typeface="Angsana New"/>
              </a:rPr>
              <a:t>มีเป้าหมายชัดเจน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914400" y="304920"/>
            <a:ext cx="7162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rowallia New"/>
              </a:rPr>
              <a:t>การติดตามงานอย่างมีประสิทธิภาพ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813" name=""/>
          <p:cNvSpPr/>
          <p:nvPr/>
        </p:nvSpPr>
        <p:spPr>
          <a:xfrm>
            <a:off x="900000" y="2997360"/>
            <a:ext cx="7162920" cy="1218960"/>
          </a:xfrm>
          <a:prstGeom prst="flowChartMultidocumen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4" name=""/>
          <p:cNvSpPr/>
          <p:nvPr/>
        </p:nvSpPr>
        <p:spPr>
          <a:xfrm>
            <a:off x="1187280" y="314172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6699"/>
                </a:solidFill>
                <a:latin typeface="Angsana New"/>
                <a:cs typeface="Angsana New"/>
              </a:rPr>
              <a:t>มีมาตรฐาน</a:t>
            </a:r>
            <a:r>
              <a:rPr b="1" lang="en-US" sz="5400" spc="-1" strike="noStrike">
                <a:solidFill>
                  <a:srgbClr val="ff6699"/>
                </a:solidFill>
                <a:latin typeface="Angsana New"/>
                <a:ea typeface="Angsana New"/>
              </a:rPr>
              <a:t>/</a:t>
            </a:r>
            <a:r>
              <a:rPr b="1" lang="hi-IN" sz="5400" spc="-1" strike="noStrike">
                <a:solidFill>
                  <a:srgbClr val="ff6699"/>
                </a:solidFill>
                <a:latin typeface="Angsana New"/>
                <a:cs typeface="Angsana New"/>
              </a:rPr>
              <a:t>ตัวชี้วัดที่แน่นอน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5" name=""/>
          <p:cNvSpPr/>
          <p:nvPr/>
        </p:nvSpPr>
        <p:spPr>
          <a:xfrm>
            <a:off x="900000" y="4076640"/>
            <a:ext cx="7162920" cy="1219320"/>
          </a:xfrm>
          <a:prstGeom prst="flowChartMultidocumen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6" name=""/>
          <p:cNvSpPr/>
          <p:nvPr/>
        </p:nvSpPr>
        <p:spPr>
          <a:xfrm>
            <a:off x="1187280" y="4221000"/>
            <a:ext cx="666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3333cc"/>
                </a:solidFill>
                <a:latin typeface="Angsana New"/>
                <a:cs typeface="Angsana New"/>
              </a:rPr>
              <a:t>มีการทบทวนความต้องการเสมอ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7" name=""/>
          <p:cNvSpPr/>
          <p:nvPr/>
        </p:nvSpPr>
        <p:spPr>
          <a:xfrm>
            <a:off x="1042920" y="5300640"/>
            <a:ext cx="7162920" cy="1219320"/>
          </a:xfrm>
          <a:prstGeom prst="flowChartMultidocumen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8" name=""/>
          <p:cNvSpPr/>
          <p:nvPr/>
        </p:nvSpPr>
        <p:spPr>
          <a:xfrm>
            <a:off x="1476360" y="5589720"/>
            <a:ext cx="61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ngsana New"/>
                <a:cs typeface="Angsana New"/>
              </a:rPr>
              <a:t>นำผลการติดตามมาประเมินและปรับปรุง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9C97-2267-490C-B5C7-DA64E463F639}" type="slidenum">
              <a:t>91</a:t>
            </a:fld>
          </a:p>
        </p:txBody>
      </p:sp>
    </p:spTree>
  </p:cSld>
  <p:transition>
    <p:random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457200" y="1523880"/>
            <a:ext cx="8229600" cy="15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Browallia New"/>
              </a:rPr>
              <a:t>การรายงานผล</a:t>
            </a:r>
            <a:endParaRPr b="1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5024-E546-4256-A775-0C284B2F9625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250920" y="1628640"/>
            <a:ext cx="9219960" cy="60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buClr>
                <a:srgbClr val="99cc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ngsana New"/>
                <a:cs typeface="Angsana New"/>
              </a:rPr>
              <a:t>ประมวลผลโดยการสังเคราะห์ตามระเบียบวิธีวิจัย อาจใช้ </a:t>
            </a:r>
            <a:r>
              <a:rPr b="1" lang="en-US" sz="5400" spc="-1" strike="noStrike">
                <a:solidFill>
                  <a:srgbClr val="99cc00"/>
                </a:solidFill>
                <a:latin typeface="Angsana New"/>
                <a:ea typeface="Angsana New"/>
              </a:rPr>
              <a:t>SPSS </a:t>
            </a:r>
            <a:r>
              <a:rPr b="1" lang="en-US" sz="5400" spc="-1" strike="noStrike">
                <a:solidFill>
                  <a:srgbClr val="99cc00"/>
                </a:solidFill>
                <a:latin typeface="Angsana New"/>
                <a:cs typeface="Angsana New"/>
              </a:rPr>
              <a:t>การประเมินแบบง่ายทีบอกความสัมพันธ์ระหว่างตัวแปรได้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buClr>
                <a:srgbClr val="ffff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ngsana New"/>
                <a:cs typeface="Angsana New"/>
              </a:rPr>
              <a:t>ใช้งบประมาณ เวลา มาก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buClr>
                <a:srgbClr val="ff00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ngsana New"/>
                <a:cs typeface="Angsana New"/>
              </a:rPr>
              <a:t>ให้ผลเชื่อถือได้ เป็นสถิติ ปรนัย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457200" y="304920"/>
            <a:ext cx="80773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Angsana New"/>
              </a:rPr>
              <a:t> </a:t>
            </a: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Angsana New"/>
              </a:rPr>
              <a:t>1. </a:t>
            </a:r>
            <a:r>
              <a:rPr b="0" lang="hi-IN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Angsana New"/>
              </a:rPr>
              <a:t>การใช้กระบวนการวิธีวิจัย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D77D-4FE4-4427-9A62-88134B50F0AD}" type="slidenum">
              <a:t>93</a:t>
            </a:fld>
          </a:p>
        </p:txBody>
      </p:sp>
    </p:spTree>
  </p:cSld>
  <p:transition>
    <p:random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250920" y="1628640"/>
            <a:ext cx="9219960" cy="75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buClr>
                <a:srgbClr val="66ff33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33"/>
                </a:solidFill>
                <a:latin typeface="Angsana New"/>
                <a:cs typeface="Angsana New"/>
              </a:rPr>
              <a:t>วิเคราะห์ทรัพยากร ปัจจัยนำเข้า กระบวนการ ผลผลิต ผลลัพธ์ ผลกระทบ ผลสะท้อน แวดล้อม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buClr>
                <a:srgbClr val="ff99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ff"/>
                </a:solidFill>
                <a:latin typeface="Angsana New"/>
                <a:cs typeface="Angsana New"/>
              </a:rPr>
              <a:t>ดัดแปลงจากวิธีวิจัย มาปรับใช้ให้เหมาะสม ประหยัดงบประมาณและเวลา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buClr>
                <a:srgbClr val="ffff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ngsana New"/>
                <a:cs typeface="Angsana New"/>
              </a:rPr>
              <a:t>ควรมีเทคนิคควบคุม หรือเตือนล่วงหน้า เช่น การให้สี การใช้ </a:t>
            </a:r>
            <a:r>
              <a:rPr b="1" lang="en-US" sz="5400" spc="-1" strike="noStrike">
                <a:solidFill>
                  <a:srgbClr val="ffff00"/>
                </a:solidFill>
                <a:latin typeface="Angsana New"/>
                <a:ea typeface="Angsana New"/>
              </a:rPr>
              <a:t>Gantt Chart </a:t>
            </a:r>
            <a:r>
              <a:rPr b="1" lang="en-US" sz="5400" spc="-1" strike="noStrike">
                <a:solidFill>
                  <a:srgbClr val="ffff00"/>
                </a:solidFill>
                <a:latin typeface="Angsana New"/>
                <a:cs typeface="Angsana New"/>
              </a:rPr>
              <a:t>ควบคุม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457200" y="304920"/>
            <a:ext cx="80773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Angsana New"/>
              </a:rPr>
              <a:t> </a:t>
            </a: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Angsana New"/>
              </a:rPr>
              <a:t>2. </a:t>
            </a:r>
            <a:r>
              <a:rPr b="0" lang="hi-IN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Angsana New"/>
              </a:rPr>
              <a:t>การใช้การวิเคราะห์ระบบ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162A-3F9D-46D7-9C3D-2E8B33DD8CE1}" type="slidenum">
              <a:t>94</a:t>
            </a:fld>
          </a:p>
        </p:txBody>
      </p:sp>
    </p:spTree>
  </p:cSld>
  <p:transition>
    <p:random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12880" y="685800"/>
            <a:ext cx="7772400" cy="9907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0000ff"/>
                </a:solidFill>
                <a:latin typeface="Angsana New"/>
                <a:cs typeface="Angsana New"/>
              </a:rPr>
              <a:t>องค์ประกอบของนักประเมินที่ดี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5" name=""/>
          <p:cNvSpPr/>
          <p:nvPr/>
        </p:nvSpPr>
        <p:spPr>
          <a:xfrm>
            <a:off x="279360" y="3657600"/>
            <a:ext cx="2641680" cy="2068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Angsana New"/>
                <a:cs typeface="Angsana New"/>
              </a:rPr>
              <a:t>ทัศนคติ           เชิงบวก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6" name=""/>
          <p:cNvSpPr/>
          <p:nvPr/>
        </p:nvSpPr>
        <p:spPr>
          <a:xfrm>
            <a:off x="3124080" y="3657600"/>
            <a:ext cx="2641680" cy="20682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ป็นนักวางแผนที่ดี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7" name=""/>
          <p:cNvSpPr/>
          <p:nvPr/>
        </p:nvSpPr>
        <p:spPr>
          <a:xfrm>
            <a:off x="5969160" y="3657600"/>
            <a:ext cx="2844720" cy="17755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99cc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6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ลือกแนวทางที่เหมาะสม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8" name=""/>
          <p:cNvSpPr/>
          <p:nvPr/>
        </p:nvSpPr>
        <p:spPr>
          <a:xfrm>
            <a:off x="965160" y="2400480"/>
            <a:ext cx="1015920" cy="66672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9" name=""/>
          <p:cNvSpPr/>
          <p:nvPr/>
        </p:nvSpPr>
        <p:spPr>
          <a:xfrm>
            <a:off x="3809880" y="2457360"/>
            <a:ext cx="1016280" cy="66672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0" y="2514600"/>
            <a:ext cx="1015920" cy="66672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0557-90DF-4549-B125-395494252783}" type="slidenum">
              <a:t>95</a:t>
            </a:fld>
          </a:p>
        </p:txBody>
      </p:sp>
    </p:spTree>
  </p:cSld>
  <p:transition>
    <p:random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 txBox="1"/>
          <p:nvPr/>
        </p:nvSpPr>
        <p:spPr>
          <a:xfrm>
            <a:off x="1219320" y="1523880"/>
            <a:ext cx="73134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rowallia New"/>
              </a:rPr>
              <a:t>การติดตามจะสำเร็จได้ถ้า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8B46-12D8-4826-852F-BF41C203AF77}" type="slidenum">
              <a:t>96</a:t>
            </a:fld>
          </a:p>
        </p:txBody>
      </p:sp>
    </p:spTree>
  </p:cSld>
  <p:transition>
    <p:random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685800" y="1600200"/>
            <a:ext cx="7772400" cy="1434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ำหนดสิ่งที่คาดหวังชัดเจน </a:t>
            </a:r>
            <a:r>
              <a:rPr b="1" lang="en-US" sz="4400" spc="-1" strike="noStrike">
                <a:solidFill>
                  <a:srgbClr val="3333cc"/>
                </a:solidFill>
                <a:latin typeface="Angsana New"/>
                <a:ea typeface="Angsana New"/>
              </a:rPr>
              <a:t>(</a:t>
            </a:r>
            <a:r>
              <a:rPr b="1" lang="hi-IN" sz="4400" spc="-1" strike="noStrike">
                <a:solidFill>
                  <a:srgbClr val="3333cc"/>
                </a:solidFill>
                <a:latin typeface="Angsana New"/>
                <a:cs typeface="Angsana New"/>
              </a:rPr>
              <a:t>มีกลยุทธ์</a:t>
            </a:r>
            <a:r>
              <a:rPr b="1" lang="en-US" sz="4400" spc="-1" strike="noStrike">
                <a:solidFill>
                  <a:srgbClr val="3333cc"/>
                </a:solidFill>
                <a:latin typeface="Angsana New"/>
                <a:ea typeface="Angsana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33" name=""/>
          <p:cNvSpPr/>
          <p:nvPr/>
        </p:nvSpPr>
        <p:spPr>
          <a:xfrm>
            <a:off x="684360" y="2637000"/>
            <a:ext cx="7772400" cy="1434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00"/>
                </a:solidFill>
                <a:latin typeface="Angsana New"/>
                <a:cs typeface="Angsana New"/>
              </a:rPr>
              <a:t>สร้างบรรยากาศช่วยให้มีกำลังใจดำเนินงาน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34" name=""/>
          <p:cNvSpPr/>
          <p:nvPr/>
        </p:nvSpPr>
        <p:spPr>
          <a:xfrm>
            <a:off x="611280" y="3573360"/>
            <a:ext cx="7772400" cy="764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3300"/>
                </a:solidFill>
                <a:latin typeface="Angsana New"/>
                <a:cs typeface="Angsana New"/>
              </a:rPr>
              <a:t>กำหนดเป้าหมายร่วมกัน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35" name=""/>
          <p:cNvSpPr/>
          <p:nvPr/>
        </p:nvSpPr>
        <p:spPr>
          <a:xfrm>
            <a:off x="611280" y="4581360"/>
            <a:ext cx="7772400" cy="1434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3333cc"/>
                </a:solidFill>
                <a:latin typeface="Angsana New"/>
                <a:cs typeface="Angsana New"/>
              </a:rPr>
              <a:t>ถาม</a:t>
            </a:r>
            <a:r>
              <a:rPr b="1" lang="en-US" sz="4400" spc="-1" strike="noStrike">
                <a:solidFill>
                  <a:srgbClr val="3333cc"/>
                </a:solidFill>
                <a:latin typeface="Angsana New"/>
                <a:ea typeface="Angsana New"/>
              </a:rPr>
              <a:t>/</a:t>
            </a:r>
            <a:r>
              <a:rPr b="1" lang="hi-IN" sz="4400" spc="-1" strike="noStrike">
                <a:solidFill>
                  <a:srgbClr val="3333cc"/>
                </a:solidFill>
                <a:latin typeface="Angsana New"/>
                <a:cs typeface="Angsana New"/>
              </a:rPr>
              <a:t>รับฟังผู้อื่นอย่างตั้งใจ และชื่นชม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9877-FC84-4E3E-9647-399EDEF3728B}" type="slidenum">
              <a:t>97</a:t>
            </a:fld>
          </a:p>
        </p:txBody>
      </p:sp>
    </p:spTree>
  </p:cSld>
  <p:transition>
    <p:random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685800" y="609480"/>
            <a:ext cx="7772400" cy="3124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3333cc"/>
                </a:solidFill>
                <a:latin typeface="Angsana New"/>
                <a:cs typeface="Angsana New"/>
              </a:rPr>
              <a:t>รับทราบ</a:t>
            </a:r>
            <a:r>
              <a:rPr b="1" lang="en-US" sz="4400" spc="-1" strike="noStrike">
                <a:solidFill>
                  <a:srgbClr val="3333cc"/>
                </a:solidFill>
                <a:latin typeface="Angsana New"/>
                <a:ea typeface="Angsana New"/>
              </a:rPr>
              <a:t>+</a:t>
            </a:r>
            <a:r>
              <a:rPr b="1" lang="hi-IN" sz="4400" spc="-1" strike="noStrike">
                <a:solidFill>
                  <a:srgbClr val="3333cc"/>
                </a:solidFill>
                <a:latin typeface="Angsana New"/>
                <a:cs typeface="Angsana New"/>
              </a:rPr>
              <a:t>ชื่นชมความเห็นผู้อื่นในที่สาธารณะ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3333cc"/>
                </a:solidFill>
                <a:latin typeface="Angsana New"/>
                <a:cs typeface="Angsana New"/>
              </a:rPr>
              <a:t>และ แก้ไข</a:t>
            </a:r>
            <a:r>
              <a:rPr b="1" lang="en-US" sz="4400" spc="-1" strike="noStrike">
                <a:solidFill>
                  <a:srgbClr val="3333cc"/>
                </a:solidFill>
                <a:latin typeface="Angsana New"/>
                <a:ea typeface="Angsana New"/>
              </a:rPr>
              <a:t>+</a:t>
            </a:r>
            <a:r>
              <a:rPr b="1" lang="hi-IN" sz="4400" spc="-1" strike="noStrike">
                <a:solidFill>
                  <a:srgbClr val="3333cc"/>
                </a:solidFill>
                <a:latin typeface="Angsana New"/>
                <a:cs typeface="Angsana New"/>
              </a:rPr>
              <a:t>เตือนให้ปรับปรุงเป็นการส่วนตัว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37" name=""/>
          <p:cNvSpPr/>
          <p:nvPr/>
        </p:nvSpPr>
        <p:spPr>
          <a:xfrm>
            <a:off x="684360" y="2781360"/>
            <a:ext cx="7991280" cy="14346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cc"/>
                </a:solidFill>
                <a:latin typeface="Angsana New"/>
                <a:cs typeface="Angsana New"/>
              </a:rPr>
              <a:t>มองหาสิ่งดี ๆ ทุกสถานการณ์ ค้นหาอย่างสร้างสรรค์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38" name=""/>
          <p:cNvSpPr/>
          <p:nvPr/>
        </p:nvSpPr>
        <p:spPr>
          <a:xfrm>
            <a:off x="611280" y="4508640"/>
            <a:ext cx="7772400" cy="15260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ffff"/>
                </a:solidFill>
                <a:latin typeface="Angsana New"/>
                <a:cs typeface="Angsana New"/>
              </a:rPr>
              <a:t>เฝ้าติดตามผลให้มั่นใจว่าเป็นไปตามที่</a:t>
            </a:r>
            <a:r>
              <a:rPr b="1" lang="hi-IN" sz="5000" spc="-1" strike="noStrike">
                <a:solidFill>
                  <a:srgbClr val="66ff33"/>
                </a:solidFill>
                <a:latin typeface="Angsana New"/>
                <a:cs typeface="Angsana New"/>
              </a:rPr>
              <a:t>ตกลงกัน</a:t>
            </a:r>
            <a:r>
              <a:rPr b="1" lang="hi-IN" sz="4400" spc="-1" strike="noStrike">
                <a:solidFill>
                  <a:srgbClr val="ccffff"/>
                </a:solidFill>
                <a:latin typeface="Angsana New"/>
                <a:cs typeface="Angsana New"/>
              </a:rPr>
              <a:t>ไว้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6565-E93B-4422-86DD-6BB2EC6C77AE}" type="slidenum">
              <a:t>98</a:t>
            </a:fld>
          </a:p>
        </p:txBody>
      </p:sp>
    </p:spTree>
  </p:cSld>
  <p:transition>
    <p:random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684360" y="3179880"/>
            <a:ext cx="7561080" cy="37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44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Browallia New"/>
              </a:rPr>
              <a:t>การติดตามประเมินผลจะล้มเหลวถ้า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F7D3-25B0-470A-8273-47EC2A177DFF}" type="slidenum">
              <a:t>9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3:42:20Z</dcterms:created>
  <dc:creator>unknown</dc:creator>
  <dc:description/>
  <dc:language>en-US</dc:language>
  <cp:lastModifiedBy>iLLuSioN</cp:lastModifiedBy>
  <cp:lastPrinted>2000-03-27T09:05:04Z</cp:lastPrinted>
  <dcterms:modified xsi:type="dcterms:W3CDTF">2006-05-22T07:20:28Z</dcterms:modified>
  <cp:revision>74</cp:revision>
  <dc:subject/>
  <dc:title>ไม่มีชื่อเรื่องภาพนิ่ง</dc:title>
</cp:coreProperties>
</file>