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DRIVEBY.WAV" ContentType="audio/x-wav"/>
  <Override PartName="/ppt/media/image11.wmf" ContentType="image/x-wmf"/>
  <Override PartName="/ppt/media/image9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jpeg" ContentType="image/jpeg"/>
  <Override PartName="/ppt/media/image15.png" ContentType="image/png"/>
  <Override PartName="/ppt/media/image13.jpeg" ContentType="image/jpeg"/>
  <Override PartName="/ppt/media/image3.wmf" ContentType="image/x-wmf"/>
  <Override PartName="/ppt/media/image2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2.jpeg" ContentType="image/jpeg"/>
  <Override PartName="/ppt/media/image6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346-97A2-42FA-87BD-DDCD791C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AA5-4F89-4422-99F0-0F1C4984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2C4-86C1-463F-8868-5717D8BE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FEC-D725-4438-8DBB-E27C3F8D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E3F4-198D-4D4D-B225-50B79ECE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15E-1612-4FAA-B449-0D2263FD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459D-51AF-4289-980D-B0279674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0B12-9A61-43EB-B305-1853AF89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46C-0208-4DF1-8415-5AFCEBB0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BDD-914B-4024-9A67-0DF8FACC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5DF-813D-4205-874E-B774563A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BAF-5D76-4907-8A5E-BA71DB05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date/time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ngsana New"/>
                <a:ea typeface="Angsana New"/>
              </a:rPr>
              <a:t>&lt;footer&gt;</a:t>
            </a:r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368D-D24F-47EF-ACC9-E3C08AD74FD6}" type="slidenum">
              <a:rPr b="0" lang="en-US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hyperlink" Target="mailto:meu@thailocaladmin.go.th" TargetMode="External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image" Target="../media/image18.wmf"/><Relationship Id="rId11" Type="http://schemas.openxmlformats.org/officeDocument/2006/relationships/image" Target="../media/image18.wmf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2666880"/>
            <a:ext cx="8137440" cy="321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36602"/>
                    </a:gs>
                    <a:gs pos="50000">
                      <a:srgbClr val="fbde05"/>
                    </a:gs>
                    <a:gs pos="100000">
                      <a:srgbClr val="736602"/>
                    </a:gs>
                  </a:gsLst>
                  <a:lin ang="13500000"/>
                </a:gradFill>
                <a:latin typeface="Angsana New"/>
              </a:rPr>
              <a:t>การติดตามและประเมินผลแผนพัฒนาท้องถิ่น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36602"/>
                  </a:gs>
                  <a:gs pos="50000">
                    <a:srgbClr val="fbde05"/>
                  </a:gs>
                  <a:gs pos="100000">
                    <a:srgbClr val="736602"/>
                  </a:gs>
                </a:gsLst>
                <a:lin ang="13500000"/>
              </a:gradFill>
              <a:latin typeface="Angsana New"/>
              <a:ea typeface="Angsana New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08360" y="1052640"/>
            <a:ext cx="1943280" cy="193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EE9-4059-4539-983B-65786CCE6BD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การวิเคราะห์สถานการณ์ในการพัฒนาของท้องถิ่น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โดยการใช้เทคนิค 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SWO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S  = Strength      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จุดแข็ง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W = Weakness   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จุดอ่อ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O  = Opportunity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โอกาส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T  = Threat             = </a:t>
            </a: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อุปสรรค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26D-5368-4123-B89D-C272DAA305A0}" type="slidenum">
              <a:t>10</a:t>
            </a:fld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755640" y="1125360"/>
            <a:ext cx="7721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ff"/>
                </a:solidFill>
                <a:latin typeface="Angsana New"/>
              </a:rPr>
              <a:t>1) </a:t>
            </a:r>
            <a:r>
              <a:rPr b="1" lang="hi-IN" sz="5400" spc="-1" strike="noStrike">
                <a:solidFill>
                  <a:srgbClr val="ff66ff"/>
                </a:solidFill>
                <a:latin typeface="Angsana New"/>
                <a:cs typeface="Angsana New"/>
              </a:rPr>
              <a:t>มิได้ไตร่ตรองรอบคอบว่าคาดหวังอะไร และจะวัดความสำเร็จอย่างไ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1" name=""/>
          <p:cNvSpPr/>
          <p:nvPr/>
        </p:nvSpPr>
        <p:spPr>
          <a:xfrm>
            <a:off x="755640" y="2924280"/>
            <a:ext cx="77216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ffcc"/>
                </a:solidFill>
                <a:latin typeface="Angsana New"/>
              </a:rPr>
              <a:t>2) </a:t>
            </a:r>
            <a:r>
              <a:rPr b="1" lang="hi-IN" sz="5400" spc="-1" strike="noStrike">
                <a:solidFill>
                  <a:srgbClr val="99ffcc"/>
                </a:solidFill>
                <a:latin typeface="Angsana New"/>
                <a:cs typeface="Angsana New"/>
              </a:rPr>
              <a:t>กำหนดเป้าหมาย</a:t>
            </a:r>
            <a:r>
              <a:rPr b="1" lang="en-US" sz="5400" spc="-1" strike="noStrike">
                <a:solidFill>
                  <a:srgbClr val="99ffcc"/>
                </a:solidFill>
                <a:latin typeface="Angsana New"/>
                <a:ea typeface="Angsana New"/>
              </a:rPr>
              <a:t>/</a:t>
            </a:r>
            <a:r>
              <a:rPr b="1" lang="hi-IN" sz="5400" spc="-1" strike="noStrike">
                <a:solidFill>
                  <a:srgbClr val="99ffcc"/>
                </a:solidFill>
                <a:latin typeface="Angsana New"/>
                <a:cs typeface="Angsana New"/>
              </a:rPr>
              <a:t>มาตรฐานตามอำเภอใจ ทำอยู่ฝ่ายเดียว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2" name=""/>
          <p:cNvSpPr/>
          <p:nvPr/>
        </p:nvSpPr>
        <p:spPr>
          <a:xfrm>
            <a:off x="826920" y="4653000"/>
            <a:ext cx="7721640" cy="23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Angsana New"/>
                <a:ea typeface="Angsana New"/>
              </a:rPr>
              <a:t>3</a:t>
            </a:r>
            <a:r>
              <a:rPr b="1" lang="en-US" sz="4800" spc="-1" strike="noStrike">
                <a:solidFill>
                  <a:srgbClr val="ff66ff"/>
                </a:solidFill>
                <a:latin typeface="Angsana New"/>
              </a:rPr>
              <a:t>) </a:t>
            </a:r>
            <a:r>
              <a:rPr b="1" lang="hi-IN" sz="4800" spc="-1" strike="noStrike">
                <a:solidFill>
                  <a:srgbClr val="ff66ff"/>
                </a:solidFill>
                <a:latin typeface="Angsana New"/>
                <a:cs typeface="Angsana New"/>
              </a:rPr>
              <a:t>ไม่รับฟัง</a:t>
            </a:r>
            <a:r>
              <a:rPr b="1" lang="en-US" sz="4800" spc="-1" strike="noStrike">
                <a:solidFill>
                  <a:srgbClr val="ff66ff"/>
                </a:solidFill>
                <a:latin typeface="Angsana New"/>
                <a:ea typeface="Angsana New"/>
              </a:rPr>
              <a:t>/</a:t>
            </a:r>
            <a:r>
              <a:rPr b="1" lang="hi-IN" sz="4800" spc="-1" strike="noStrike">
                <a:solidFill>
                  <a:srgbClr val="ff66ff"/>
                </a:solidFill>
                <a:latin typeface="Angsana New"/>
                <a:cs typeface="Angsana New"/>
              </a:rPr>
              <a:t>แสวงหาความคิดผู้อื่น </a:t>
            </a:r>
            <a:r>
              <a:rPr b="1" lang="en-US" sz="5400" spc="-1" strike="noStrike">
                <a:solidFill>
                  <a:srgbClr val="ff66ff"/>
                </a:solidFill>
                <a:latin typeface="Angsana New"/>
                <a:ea typeface="Angsana New"/>
              </a:rPr>
              <a:t> </a:t>
            </a:r>
            <a:r>
              <a:rPr b="1" lang="en-US" sz="4800" spc="-1" strike="noStrike">
                <a:solidFill>
                  <a:srgbClr val="ff66ff"/>
                </a:solidFill>
                <a:latin typeface="Angsana New"/>
                <a:ea typeface="Angsana Ne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66ff"/>
                </a:solidFill>
                <a:latin typeface="Angsana New"/>
                <a:cs typeface="Angsana New"/>
              </a:rPr>
              <a:t>ชอบที่ตอบปัญหาแทนผู้อื่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01A-A66E-4802-95E5-5C15D06E0A80}" type="slidenum">
              <a:t>100</a:t>
            </a:fld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611280" y="3141720"/>
            <a:ext cx="772164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ff"/>
                </a:solidFill>
                <a:latin typeface="Angsana New"/>
                <a:ea typeface="Angsana New"/>
              </a:rPr>
              <a:t>5</a:t>
            </a:r>
            <a:r>
              <a:rPr b="1" lang="en-US" sz="5400" spc="-1" strike="noStrike">
                <a:solidFill>
                  <a:srgbClr val="9999ff"/>
                </a:solidFill>
                <a:latin typeface="Angsana New"/>
              </a:rPr>
              <a:t>) </a:t>
            </a:r>
            <a:r>
              <a:rPr b="1" lang="hi-IN" sz="5400" spc="-1" strike="noStrike">
                <a:solidFill>
                  <a:srgbClr val="9999ff"/>
                </a:solidFill>
                <a:latin typeface="Angsana New"/>
                <a:cs typeface="Angsana New"/>
              </a:rPr>
              <a:t>ใช้เวลามากไป          สิ่งผิด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99ff"/>
                </a:solidFill>
                <a:latin typeface="Angsana New"/>
                <a:ea typeface="Angsana New"/>
              </a:rPr>
              <a:t>    </a:t>
            </a:r>
            <a:r>
              <a:rPr b="1" lang="hi-IN" sz="5400" spc="-1" strike="noStrike">
                <a:solidFill>
                  <a:srgbClr val="9999ff"/>
                </a:solidFill>
                <a:latin typeface="Angsana New"/>
                <a:cs typeface="Angsana New"/>
              </a:rPr>
              <a:t>ใช้เวลาน้อยไป          สิ่งถูก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4" name=""/>
          <p:cNvSpPr/>
          <p:nvPr/>
        </p:nvSpPr>
        <p:spPr>
          <a:xfrm>
            <a:off x="539640" y="5229360"/>
            <a:ext cx="842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66"/>
                </a:solidFill>
                <a:latin typeface="Angsana New"/>
              </a:rPr>
              <a:t>6) </a:t>
            </a:r>
            <a:r>
              <a:rPr b="1" lang="hi-IN" sz="5400" spc="-1" strike="noStrike">
                <a:solidFill>
                  <a:srgbClr val="ff9966"/>
                </a:solidFill>
                <a:latin typeface="Angsana New"/>
                <a:cs typeface="Angsana New"/>
              </a:rPr>
              <a:t>ไม่มุ่งมั่น จริงจังติดตามงานว่าทำอย่างไ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5" name=""/>
          <p:cNvSpPr/>
          <p:nvPr/>
        </p:nvSpPr>
        <p:spPr>
          <a:xfrm>
            <a:off x="611280" y="836640"/>
            <a:ext cx="772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ngsana New"/>
                <a:ea typeface="Angsana New"/>
              </a:rPr>
              <a:t>4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</a:rPr>
              <a:t>) </a:t>
            </a:r>
            <a:r>
              <a:rPr b="1" lang="hi-IN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วิจารณ์ผลการดำเนินงานอย่างเปิดเผยโดยมิได้ให้ความชื่นชมในวาระอันคว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6" name=""/>
          <p:cNvSpPr/>
          <p:nvPr/>
        </p:nvSpPr>
        <p:spPr>
          <a:xfrm>
            <a:off x="3924360" y="328464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7" name=""/>
          <p:cNvSpPr/>
          <p:nvPr/>
        </p:nvSpPr>
        <p:spPr>
          <a:xfrm>
            <a:off x="3995640" y="4365720"/>
            <a:ext cx="792360" cy="288720"/>
          </a:xfrm>
          <a:prstGeom prst="rightArrow">
            <a:avLst>
              <a:gd name="adj1" fmla="val 50000"/>
              <a:gd name="adj2" fmla="val 686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666-3238-4ED4-9A8F-BD5ED7445648}" type="slidenum">
              <a:t>101</a:t>
            </a:fld>
          </a:p>
        </p:txBody>
      </p:sp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cc00ff"/>
                </a:solidFill>
                <a:latin typeface="Angsana New"/>
                <a:cs typeface="Angsana New"/>
              </a:rPr>
              <a:t>กรณีศึกษา</a:t>
            </a:r>
            <a:br>
              <a:rPr sz="2000"/>
            </a:br>
            <a:r>
              <a:rPr b="1" lang="hi-IN" sz="2000" spc="-1" strike="noStrike">
                <a:solidFill>
                  <a:srgbClr val="cc00ff"/>
                </a:solidFill>
                <a:latin typeface="Angsana New"/>
                <a:cs typeface="Angsana New"/>
              </a:rPr>
              <a:t>ปฏิทินการติดตามและประเมินผลการดำเนินงานของกรมส่งเสริมการปกครองท้องถิ่น</a:t>
            </a:r>
            <a:br>
              <a:rPr sz="2000"/>
            </a:br>
            <a:r>
              <a:rPr b="1" lang="en-US" sz="2000" spc="-1" strike="noStrike">
                <a:solidFill>
                  <a:srgbClr val="cc00ff"/>
                </a:solidFill>
                <a:latin typeface="Angsana New"/>
                <a:ea typeface="Angsana New"/>
              </a:rPr>
              <a:t> ปี พ</a:t>
            </a:r>
            <a:r>
              <a:rPr b="1" lang="en-US" sz="2000" spc="-1" strike="noStrike">
                <a:solidFill>
                  <a:srgbClr val="cc00ff"/>
                </a:solidFill>
                <a:latin typeface="Angsana New"/>
                <a:ea typeface="Angsana New"/>
              </a:rPr>
              <a:t>.</a:t>
            </a:r>
            <a:r>
              <a:rPr b="1" lang="hi-IN" sz="2000" spc="-1" strike="noStrike">
                <a:solidFill>
                  <a:srgbClr val="cc00ff"/>
                </a:solidFill>
                <a:latin typeface="Angsana New"/>
                <a:cs typeface="Angsana New"/>
              </a:rPr>
              <a:t>ศ</a:t>
            </a:r>
            <a:r>
              <a:rPr b="1" lang="en-US" sz="2000" spc="-1" strike="noStrike">
                <a:solidFill>
                  <a:srgbClr val="cc00ff"/>
                </a:solidFill>
                <a:latin typeface="Angsana New"/>
                <a:ea typeface="Angsana New"/>
              </a:rPr>
              <a:t>. 2549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395280" y="1268280"/>
          <a:ext cx="8282160" cy="5288040"/>
        </p:xfrm>
        <a:graphic>
          <a:graphicData uri="http://schemas.openxmlformats.org/drawingml/2006/table">
            <a:tbl>
              <a:tblPr/>
              <a:tblGrid>
                <a:gridCol w="2089080"/>
                <a:gridCol w="647640"/>
                <a:gridCol w="648000"/>
                <a:gridCol w="504720"/>
                <a:gridCol w="574560"/>
                <a:gridCol w="649440"/>
                <a:gridCol w="503280"/>
                <a:gridCol w="144144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เรื่องที่ต้องต้องติดตา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ดั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วา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สำเร็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ยะเวลา ปีงบประมาณ 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ต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ม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..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จัดเก็บข้อมูล จปฐ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2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ส่งเสริมอาชีพกลุ่มสตร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3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จัดตั้งศูนย์พัฒนาครอบครั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4.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Home Health Ca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5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สงเคราะห์เบี้ยยังชีพผู้สูงอายุ ผู้พิการ และผู้ติดเชื้อเอดส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6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เทศบาล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อบต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สัญจ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    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ngsana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ก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ข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,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ทุกกลุ่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0" name=""/>
          <p:cNvSpPr/>
          <p:nvPr/>
        </p:nvSpPr>
        <p:spPr>
          <a:xfrm>
            <a:off x="3995640" y="335772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1" name=""/>
          <p:cNvSpPr/>
          <p:nvPr/>
        </p:nvSpPr>
        <p:spPr>
          <a:xfrm flipH="1" flipV="1">
            <a:off x="2699640" y="263700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2" name=""/>
          <p:cNvSpPr/>
          <p:nvPr/>
        </p:nvSpPr>
        <p:spPr>
          <a:xfrm>
            <a:off x="2700360" y="2492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3" name=""/>
          <p:cNvSpPr/>
          <p:nvPr/>
        </p:nvSpPr>
        <p:spPr>
          <a:xfrm>
            <a:off x="3564000" y="29242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4" name=""/>
          <p:cNvSpPr/>
          <p:nvPr/>
        </p:nvSpPr>
        <p:spPr>
          <a:xfrm>
            <a:off x="2700360" y="328464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5" name=""/>
          <p:cNvSpPr/>
          <p:nvPr/>
        </p:nvSpPr>
        <p:spPr>
          <a:xfrm>
            <a:off x="2700360" y="292428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6" name=""/>
          <p:cNvSpPr/>
          <p:nvPr/>
        </p:nvSpPr>
        <p:spPr>
          <a:xfrm>
            <a:off x="2700360" y="3933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7" name=""/>
          <p:cNvSpPr/>
          <p:nvPr/>
        </p:nvSpPr>
        <p:spPr>
          <a:xfrm>
            <a:off x="2700360" y="465300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8" name=""/>
          <p:cNvSpPr/>
          <p:nvPr/>
        </p:nvSpPr>
        <p:spPr>
          <a:xfrm>
            <a:off x="2700360" y="5589720"/>
            <a:ext cx="2872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F8C-B282-4E36-8DF5-FE1F6177C317}" type="slidenum">
              <a:t>102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00ff"/>
                </a:solidFill>
                <a:latin typeface="Angsana New"/>
                <a:cs typeface="Angsana New"/>
              </a:rPr>
              <a:t>ปฏิทินการติดตามและประเมินผลการดำเนินงานของกรมส่งเสริมการปกครองท้องถิ่น</a:t>
            </a:r>
            <a:br>
              <a:rPr sz="2800"/>
            </a:br>
            <a:r>
              <a:rPr b="1" lang="en-US" sz="2800" spc="-1" strike="noStrike">
                <a:solidFill>
                  <a:srgbClr val="cc00ff"/>
                </a:solidFill>
                <a:latin typeface="Angsana New"/>
                <a:ea typeface="Angsana New"/>
              </a:rPr>
              <a:t> ปี พ</a:t>
            </a:r>
            <a:r>
              <a:rPr b="1" lang="en-US" sz="2800" spc="-1" strike="noStrike">
                <a:solidFill>
                  <a:srgbClr val="cc00ff"/>
                </a:solidFill>
                <a:latin typeface="Angsana New"/>
                <a:ea typeface="Angsana New"/>
              </a:rPr>
              <a:t>.</a:t>
            </a:r>
            <a:r>
              <a:rPr b="1" lang="hi-IN" sz="2800" spc="-1" strike="noStrike">
                <a:solidFill>
                  <a:srgbClr val="cc00ff"/>
                </a:solidFill>
                <a:latin typeface="Angsana New"/>
                <a:cs typeface="Angsana New"/>
              </a:rPr>
              <a:t>ศ</a:t>
            </a:r>
            <a:r>
              <a:rPr b="1" lang="en-US" sz="2800" spc="-1" strike="noStrike">
                <a:solidFill>
                  <a:srgbClr val="cc00ff"/>
                </a:solidFill>
                <a:latin typeface="Angsana New"/>
                <a:ea typeface="Angsana New"/>
              </a:rPr>
              <a:t>. 2549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395280" y="1268280"/>
          <a:ext cx="8282160" cy="5042160"/>
        </p:xfrm>
        <a:graphic>
          <a:graphicData uri="http://schemas.openxmlformats.org/drawingml/2006/table">
            <a:tbl>
              <a:tblPr/>
              <a:tblGrid>
                <a:gridCol w="2305080"/>
                <a:gridCol w="576360"/>
                <a:gridCol w="503280"/>
                <a:gridCol w="504720"/>
                <a:gridCol w="574560"/>
                <a:gridCol w="649440"/>
                <a:gridCol w="503280"/>
                <a:gridCol w="144144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เรื่องที่ต้องติดตา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ดั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วา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สำเร็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ระยะเวลา ปีงบประมาณ </a:t>
                      </a:r>
                      <a:r>
                        <a:rPr b="1" lang="en-US" sz="24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a50021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ต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 </a:t>
                      </a:r>
                      <a:r>
                        <a:rPr b="1" lang="th-TH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ม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..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a50021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Angsana New"/>
                          <a:ea typeface="Angsana New"/>
                        </a:rPr>
                        <a:t>.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7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ประชุมผู้นำชุมชน                  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ทุกเดือน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8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ีฬาชุมชนสัมพันธ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9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ติดตามประเมินผล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OTO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0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พัฒนาศักยภาพ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S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1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คาราวานแก้จ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2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โครงการหนึ่งฝน หนึ่งต้น เพื่อปวงชนชาวไท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3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องทุนออมทรัพย์หมู่บ้า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14. </a:t>
                      </a: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อบรมค่ายเยาวช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ก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กลุ่ม ข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 ,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3333cc"/>
                          </a:solidFill>
                          <a:latin typeface="Angsana New"/>
                          <a:cs typeface="Angsana New"/>
                        </a:rPr>
                        <a:t>ทุกกลุ่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 flipH="1" flipV="1">
            <a:off x="2699640" y="263700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2" name=""/>
          <p:cNvSpPr/>
          <p:nvPr/>
        </p:nvSpPr>
        <p:spPr>
          <a:xfrm>
            <a:off x="2771640" y="249228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3" name=""/>
          <p:cNvSpPr/>
          <p:nvPr/>
        </p:nvSpPr>
        <p:spPr>
          <a:xfrm>
            <a:off x="2771640" y="31417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4" name=""/>
          <p:cNvSpPr/>
          <p:nvPr/>
        </p:nvSpPr>
        <p:spPr>
          <a:xfrm>
            <a:off x="2771640" y="350028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5" name=""/>
          <p:cNvSpPr/>
          <p:nvPr/>
        </p:nvSpPr>
        <p:spPr>
          <a:xfrm>
            <a:off x="2771640" y="386064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6" name=""/>
          <p:cNvSpPr/>
          <p:nvPr/>
        </p:nvSpPr>
        <p:spPr>
          <a:xfrm>
            <a:off x="2771640" y="450864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7" name=""/>
          <p:cNvSpPr/>
          <p:nvPr/>
        </p:nvSpPr>
        <p:spPr>
          <a:xfrm>
            <a:off x="2771640" y="494172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8" name=""/>
          <p:cNvSpPr/>
          <p:nvPr/>
        </p:nvSpPr>
        <p:spPr>
          <a:xfrm>
            <a:off x="2771640" y="55897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9" name=""/>
          <p:cNvSpPr/>
          <p:nvPr/>
        </p:nvSpPr>
        <p:spPr>
          <a:xfrm>
            <a:off x="2771640" y="602136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B3F-1F9B-4476-B52B-853AE08A6CAF}" type="slidenum">
              <a:t>103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>
            <a:off x="971640" y="1700280"/>
            <a:ext cx="76327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นางคณิตา  ราษฎร์นุ้ย   เจ้าพนักงานปกครอง </a:t>
            </a:r>
            <a:r>
              <a:rPr b="1" lang="th-TH" sz="3500" spc="-1" strike="noStrike">
                <a:solidFill>
                  <a:srgbClr val="66ffff"/>
                </a:solidFill>
                <a:latin typeface="Angsana New"/>
                <a:ea typeface="Angsana New"/>
              </a:rPr>
              <a:t>7</a:t>
            </a:r>
            <a:r>
              <a:rPr b="1" lang="th-TH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ว                                 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ำนักพัฒนาและส่งเสริมการบริหารงานท้องถิ่น                       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ea typeface="Angsana New"/>
              </a:rPr>
              <a:t>(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cs typeface="Angsana New"/>
              </a:rPr>
              <a:t>นโยบายและแผน</a:t>
            </a:r>
            <a:r>
              <a:rPr b="1" lang="en-US" sz="3500" spc="-1" strike="noStrike">
                <a:solidFill>
                  <a:srgbClr val="66ffff"/>
                </a:solidFill>
                <a:latin typeface="Angsana New"/>
                <a:ea typeface="Angsana New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ff99"/>
                </a:solidFill>
                <a:latin typeface="Angsana New"/>
                <a:cs typeface="Angsana New"/>
              </a:rPr>
              <a:t>ส่วนติดตามและประเมินผล                                                                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ea typeface="Angsana New"/>
              </a:rPr>
              <a:t>0-2241-9000 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cs typeface="Angsana New"/>
              </a:rPr>
              <a:t>ต่อ 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ea typeface="Angsana New"/>
              </a:rPr>
              <a:t>2102-4                          </a:t>
            </a:r>
            <a:r>
              <a:rPr b="0" lang="en-US" sz="3500" spc="-1" strike="noStrike" u="sng">
                <a:solidFill>
                  <a:srgbClr val="ccccff"/>
                </a:solidFill>
                <a:uFillTx/>
                <a:latin typeface="Angsana New"/>
                <a:ea typeface="Angsana New"/>
                <a:hlinkClick r:id="rId1"/>
              </a:rPr>
              <a:t>meu@thailocaladmin.go.th</a:t>
            </a:r>
            <a:r>
              <a:rPr b="1" lang="en-US" sz="3500" spc="-1" strike="noStrike">
                <a:solidFill>
                  <a:srgbClr val="ccff99"/>
                </a:solidFill>
                <a:latin typeface="Angsana New"/>
                <a:ea typeface="Angsana New"/>
              </a:rPr>
              <a:t>  ,  </a:t>
            </a:r>
            <a:r>
              <a:rPr b="1" lang="en-US" sz="3500" spc="-1" strike="noStrike">
                <a:solidFill>
                  <a:srgbClr val="ccccff"/>
                </a:solidFill>
                <a:latin typeface="Angsana New"/>
                <a:ea typeface="Angsana New"/>
              </a:rPr>
              <a:t>Kanita_bam@yahoo.com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1" name=""/>
          <p:cNvSpPr/>
          <p:nvPr/>
        </p:nvSpPr>
        <p:spPr>
          <a:xfrm>
            <a:off x="755640" y="404640"/>
            <a:ext cx="7991640" cy="2226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000" spc="-1" strike="noStrike">
                <a:solidFill>
                  <a:srgbClr val="ffccff"/>
                </a:solidFill>
                <a:latin typeface="Angsana New"/>
              </a:rPr>
              <a:t>กรม</a:t>
            </a:r>
            <a:r>
              <a:rPr b="1" lang="hi-IN" sz="7000" spc="-1" strike="noStrike">
                <a:solidFill>
                  <a:srgbClr val="ffccff"/>
                </a:solidFill>
                <a:latin typeface="Angsana New"/>
                <a:cs typeface="Angsana New"/>
              </a:rPr>
              <a:t>ส่งเสริมการปกครองท้องถิ่น</a:t>
            </a:r>
            <a:endParaRPr b="0" lang="en-US" sz="70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872" name="" descr=""/>
          <p:cNvPicPr/>
          <p:nvPr/>
        </p:nvPicPr>
        <p:blipFill>
          <a:blip r:embed="rId2"/>
          <a:stretch/>
        </p:blipFill>
        <p:spPr>
          <a:xfrm>
            <a:off x="8317080" y="5300640"/>
            <a:ext cx="572760" cy="1143000"/>
          </a:xfrm>
          <a:prstGeom prst="rect">
            <a:avLst/>
          </a:prstGeom>
          <a:ln w="0">
            <a:noFill/>
          </a:ln>
        </p:spPr>
      </p:pic>
      <p:pic>
        <p:nvPicPr>
          <p:cNvPr id="873" name="" descr=""/>
          <p:cNvPicPr/>
          <p:nvPr/>
        </p:nvPicPr>
        <p:blipFill>
          <a:blip r:embed="rId3"/>
          <a:stretch/>
        </p:blipFill>
        <p:spPr>
          <a:xfrm>
            <a:off x="539640" y="494172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4"/>
          <a:stretch/>
        </p:blipFill>
        <p:spPr>
          <a:xfrm>
            <a:off x="1692360" y="522936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5" name="" descr=""/>
          <p:cNvPicPr/>
          <p:nvPr/>
        </p:nvPicPr>
        <p:blipFill>
          <a:blip r:embed="rId5"/>
          <a:stretch/>
        </p:blipFill>
        <p:spPr>
          <a:xfrm>
            <a:off x="5940360" y="522936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6" name="" descr=""/>
          <p:cNvPicPr/>
          <p:nvPr/>
        </p:nvPicPr>
        <p:blipFill>
          <a:blip r:embed="rId6"/>
          <a:stretch/>
        </p:blipFill>
        <p:spPr>
          <a:xfrm>
            <a:off x="3276720" y="530064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7" name="" descr=""/>
          <p:cNvPicPr/>
          <p:nvPr/>
        </p:nvPicPr>
        <p:blipFill>
          <a:blip r:embed="rId7"/>
          <a:stretch/>
        </p:blipFill>
        <p:spPr>
          <a:xfrm>
            <a:off x="6659640" y="5445000"/>
            <a:ext cx="573120" cy="11430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8"/>
          <a:stretch/>
        </p:blipFill>
        <p:spPr>
          <a:xfrm>
            <a:off x="5292720" y="501336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79" name="" descr=""/>
          <p:cNvPicPr/>
          <p:nvPr/>
        </p:nvPicPr>
        <p:blipFill>
          <a:blip r:embed="rId9"/>
          <a:stretch/>
        </p:blipFill>
        <p:spPr>
          <a:xfrm>
            <a:off x="3708360" y="508464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80" name="" descr=""/>
          <p:cNvPicPr/>
          <p:nvPr/>
        </p:nvPicPr>
        <p:blipFill>
          <a:blip r:embed="rId10"/>
          <a:stretch/>
        </p:blipFill>
        <p:spPr>
          <a:xfrm>
            <a:off x="2195640" y="5084640"/>
            <a:ext cx="1447560" cy="154476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/>
          <p:cNvPicPr/>
          <p:nvPr/>
        </p:nvPicPr>
        <p:blipFill>
          <a:blip r:embed="rId11"/>
          <a:stretch/>
        </p:blipFill>
        <p:spPr>
          <a:xfrm>
            <a:off x="4211640" y="5013360"/>
            <a:ext cx="1447920" cy="154476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12"/>
          <a:stretch/>
        </p:blipFill>
        <p:spPr>
          <a:xfrm>
            <a:off x="7093080" y="5084640"/>
            <a:ext cx="1447560" cy="1544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783A-B413-49BC-8DFD-D9E51639374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ตาราง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SWOT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ประเด็น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...................................................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99072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429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7" name=""/>
          <p:cNvSpPr/>
          <p:nvPr/>
        </p:nvSpPr>
        <p:spPr>
          <a:xfrm>
            <a:off x="947880" y="99000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แข็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"/>
          <p:cNvSpPr/>
          <p:nvPr/>
        </p:nvSpPr>
        <p:spPr>
          <a:xfrm>
            <a:off x="4601520" y="106596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อ่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9" name=""/>
          <p:cNvSpPr/>
          <p:nvPr/>
        </p:nvSpPr>
        <p:spPr>
          <a:xfrm>
            <a:off x="1095120" y="365688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อกาส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4591080" y="3656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ุปสรรค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024040" y="1066680"/>
            <a:ext cx="581400" cy="4724640"/>
            <a:chOff x="8024040" y="1066680"/>
            <a:chExt cx="581400" cy="4724640"/>
          </a:xfrm>
        </p:grpSpPr>
        <p:sp>
          <p:nvSpPr>
            <p:cNvPr id="92" name=""/>
            <p:cNvSpPr/>
            <p:nvPr/>
          </p:nvSpPr>
          <p:spPr>
            <a:xfrm rot="5400000">
              <a:off x="7133400" y="195696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ใน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93" name=""/>
            <p:cNvSpPr/>
            <p:nvPr/>
          </p:nvSpPr>
          <p:spPr>
            <a:xfrm rot="5400000">
              <a:off x="7133400" y="431928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นอก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7BDF-6CA3-4FB2-AB49-A8A3E139406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55640" y="2278080"/>
            <a:ext cx="75898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3300"/>
                </a:solidFill>
                <a:latin typeface="Browallia New"/>
              </a:rPr>
              <a:t>ตัวอย่างการทำ </a:t>
            </a:r>
            <a:r>
              <a:rPr b="1" lang="en-US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3300"/>
                </a:solidFill>
                <a:latin typeface="Browallia New"/>
              </a:rPr>
              <a:t>SWOT </a:t>
            </a: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3300"/>
                </a:solidFill>
                <a:latin typeface="Browallia New"/>
              </a:rPr>
              <a:t>กับการวางแผนพัฒนาท้องถิ่น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3300"/>
              </a:solidFill>
              <a:latin typeface="Browallia New"/>
              <a:ea typeface="Browalli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3300"/>
              </a:solidFill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CBD-B743-483F-9EF8-09A6C2D18955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90080"/>
            <a:ext cx="80629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ตาราง </a:t>
            </a:r>
            <a:r>
              <a:rPr b="1" lang="en-US" sz="2400" spc="-1" strike="noStrike">
                <a:solidFill>
                  <a:srgbClr val="000000"/>
                </a:solidFill>
                <a:latin typeface="Angsana New"/>
              </a:rPr>
              <a:t>SWOT </a:t>
            </a:r>
            <a:br>
              <a:rPr sz="2400"/>
            </a:br>
            <a:r>
              <a:rPr b="1" lang="en-US" sz="3000" spc="-1" strike="noStrike">
                <a:solidFill>
                  <a:srgbClr val="000000"/>
                </a:solidFill>
                <a:latin typeface="Angsana New"/>
              </a:rPr>
              <a:t>ประเด็น</a:t>
            </a:r>
            <a:r>
              <a:rPr b="1" lang="en-US" sz="3000" spc="-1" strike="noStrike">
                <a:solidFill>
                  <a:srgbClr val="000000"/>
                </a:solidFill>
                <a:latin typeface="Angsana New"/>
                <a:ea typeface="Angsana New"/>
              </a:rPr>
              <a:t> การติดตามประเมินผลการวางแผนพัฒนาท้องถิ่น</a:t>
            </a:r>
            <a:endParaRPr b="0" lang="en-US" sz="3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90720"/>
            <a:ext cx="0" cy="510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3429000"/>
            <a:ext cx="678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947880" y="99000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แข็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4601520" y="106596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ุดอ่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1095120" y="3656880"/>
            <a:ext cx="11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โอกาส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4591080" y="365688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อุปสรรค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024040" y="1066680"/>
            <a:ext cx="581400" cy="4724640"/>
            <a:chOff x="8024040" y="1066680"/>
            <a:chExt cx="581400" cy="4724640"/>
          </a:xfrm>
        </p:grpSpPr>
        <p:sp>
          <p:nvSpPr>
            <p:cNvPr id="103" name=""/>
            <p:cNvSpPr/>
            <p:nvPr/>
          </p:nvSpPr>
          <p:spPr>
            <a:xfrm rot="5400000">
              <a:off x="7133400" y="195696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ใน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7133400" y="4319280"/>
              <a:ext cx="2362320" cy="58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ยนอก</a:t>
              </a:r>
              <a:endParaRPr b="0" lang="en-US" sz="32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116000" y="1557360"/>
            <a:ext cx="3240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น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ข้าใจบทบาท หน้าที่ของตนเองในการวางแผนพัฒนาท้องถิ่นดี มีความตั้งใจทำงานมา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ทำงานใน อป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ลักษณะเป็นทีมเวิร์ค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ู้บริหารให้ความสำคัญกับการติดตามประเมินผลมา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1700280"/>
            <a:ext cx="324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 จน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ด้านการพัฒนาท้องถิ่นจำนวนน้อ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จนท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ยังไม่มีความรู้ด้านการติดตามและประเมินผลนั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าดงบประมาณสนับสนุนการติดตามประเมินผลโดยวิธีวิจัย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1258920" y="4149720"/>
            <a:ext cx="32400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ถ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การอบรมการวางแผน การติดตามประเมินผลการดำเนินงา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คู่มือติดตามและประเมินผลแบบง่าย ไม่ต้องใช้งบประมาณมากนั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ีการสร้างเครือข่ายการติดตามและประเมินผลท้องถิ่น เพื่อช่วยเหลือซึ่งกันและกันในด้านต่าง ๆ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4292640"/>
            <a:ext cx="324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1. </a:t>
            </a:r>
            <a:r>
              <a:rPr b="0" lang="hi-IN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ารประสานงานระหว่างหน่วยงานไม่ค่อยราบรื่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  <a:ea typeface="Angsana New"/>
              </a:rPr>
              <a:t>2. </a:t>
            </a:r>
            <a:r>
              <a:rPr b="0" lang="hi-IN" sz="18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าดการสนับสนุนงบประมาณจากหน่วยงานอื่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9B8E-8754-4D21-BA0E-25F213B1A9A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80880" y="360360"/>
          <a:ext cx="8001000" cy="6138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60360"/>
                    <a:ext cx="8001000" cy="61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6534-FAE3-46B9-BB5F-133AC9A9AE8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ngsana New"/>
              </a:rPr>
              <a:t>แผน</a:t>
            </a:r>
            <a:r>
              <a:rPr b="1" lang="hi-IN" sz="66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ลยุทธ์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ความหมาย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อง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กำหนดแนวทางหรือวิธีการ “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ต่อสู้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” เพื่อ “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เอาชนะ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” อย่าง “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เบ็ดเสร็จเด็ดขาด ยั่งยืน และเป็นระบบ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โดยเน้นทั้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Angsana New"/>
              </a:rPr>
              <a:t>เชิงรุกและเชิงรับ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หลักคิด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รู้อดีต คิดในโลกปัจจุบัน  มุ่งมั่นเพื่อความยั่งยืนในอนาคต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พัฒนาควบคู่กับการสร้างภูมิคุ้มกั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1179-F54E-42AF-8963-782B2649622E}" type="slidenum">
              <a:t>15</a:t>
            </a:fld>
          </a:p>
        </p:txBody>
      </p:sp>
    </p:spTree>
  </p:cSld>
  <p:transition>
    <p:cover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คำถามเชิง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ลยุทธ์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การวางแผนพัฒนา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  <a:cs typeface="Angsana New"/>
              </a:rPr>
              <a:t>และติดตามประเมินผล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เราเคยเป็นอย่างไ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เราอยู่ตรงไห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อยากเป็นอย่างไร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ละเพื่อนเราจะทำอย่างไรจึงจะไปสู่สิ่งที่อยากจะเป็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จะแน่ใจได้อย่างไรว่าสิ่งที่เราทำจะนำเราไปสู่สิ่งที่เราอยากจะเป็น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เราแน่ใจอย่างไรว่าเราได้เป็นสิ่งทีเราอยากจะเป็นแล้ว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190D-36A3-4FDE-A950-8EF4EA629801}" type="slidenum">
              <a:t>16</a:t>
            </a:fld>
          </a:p>
        </p:txBody>
      </p:sp>
    </p:spTree>
  </p:cSld>
  <p:transition>
    <p:cover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ส่วนประกอบของแผนยุทธศาสตร์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                            </a:t>
            </a: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พัฒนา</a:t>
            </a:r>
            <a:r>
              <a:rPr b="0" lang="hi-IN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้องถิ่น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0" lang="hi-IN" sz="4400" spc="-1" strike="noStrike">
                <a:solidFill>
                  <a:srgbClr val="000000"/>
                </a:solidFill>
                <a:latin typeface="Angsana New"/>
                <a:cs typeface="Angsana New"/>
              </a:rPr>
              <a:t>ชุมช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นำ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2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สภาพทั่วไปและข้อมูลพื้นฐานสำคัญของท้องถิ่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ารวิเคราะห์ศักยภาพการพัฒนาท้องถิ่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4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วิสัยทัศน์ ภารกิจ วัตถุประสงค์ เป้าหมายการพัฒนา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และตัวชี้วั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บทที่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5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ยุทธศาสตร์การพัฒนาท้องถิ่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876"/>
              </a:spcBef>
              <a:buClr>
                <a:srgbClr val="ff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0066"/>
                </a:solidFill>
                <a:latin typeface="Angsana New"/>
              </a:rPr>
              <a:t>บทที่ </a:t>
            </a:r>
            <a:r>
              <a:rPr b="1" lang="en-US" sz="3500" spc="-1" strike="noStrike">
                <a:solidFill>
                  <a:srgbClr val="ff0066"/>
                </a:solidFill>
                <a:latin typeface="Angsana New"/>
              </a:rPr>
              <a:t>6 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</a:rPr>
              <a:t>การนำแผนยุทธศาสตร์ไปสู่การปฏิบัติ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                 </a:t>
            </a:r>
            <a:r>
              <a:rPr b="1" lang="th-TH" sz="3500" spc="-1" strike="noStrike">
                <a:solidFill>
                  <a:srgbClr val="ff0066"/>
                </a:solidFill>
                <a:latin typeface="Angsana New"/>
              </a:rPr>
              <a:t> และการติดตามประเมินผล</a:t>
            </a:r>
            <a:endParaRPr b="0" lang="en-US" sz="3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6C94-DDCE-4746-8B28-46742CE0DE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ngsana New"/>
              </a:rPr>
              <a:t>การสรุปข้อมูลพื้นฐาน </a:t>
            </a:r>
            <a:r>
              <a:rPr b="1" lang="en-US" sz="4400" spc="-1" strike="noStrike">
                <a:solidFill>
                  <a:srgbClr val="ff0066"/>
                </a:solidFill>
                <a:latin typeface="Angsana New"/>
              </a:rPr>
              <a:t>(Base line Data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99"/>
                </a:solidFill>
                <a:latin typeface="Angsana New"/>
              </a:rPr>
              <a:t>บอกว่ามีอะไร จำนวน เท่าใ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-29484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99"/>
                </a:solidFill>
                <a:latin typeface="Angsana New"/>
              </a:rPr>
              <a:t>ขาด เกิน จากจำนวนที่ควรจะมีเท่าใ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-294840">
              <a:lnSpc>
                <a:spcPct val="90000"/>
              </a:lnSpc>
              <a:spcBef>
                <a:spcPts val="1199"/>
              </a:spcBef>
              <a:buClr>
                <a:srgbClr val="ff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99"/>
                </a:solidFill>
                <a:latin typeface="Angsana New"/>
              </a:rPr>
              <a:t>จะต้องสร้าง ซ่อม เพิ่ม ลดลง คงที่ ไว้ในระดับใ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1377-9E00-49DC-ABD5-44530EEA44E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130640" y="2724120"/>
            <a:ext cx="898560" cy="925920"/>
            <a:chOff x="4130640" y="2724120"/>
            <a:chExt cx="898560" cy="925920"/>
          </a:xfrm>
        </p:grpSpPr>
        <p:sp>
          <p:nvSpPr>
            <p:cNvPr id="120" name=""/>
            <p:cNvSpPr/>
            <p:nvPr/>
          </p:nvSpPr>
          <p:spPr>
            <a:xfrm>
              <a:off x="4487760" y="2724120"/>
              <a:ext cx="160560" cy="198360"/>
            </a:xfrm>
            <a:prstGeom prst="downArrow">
              <a:avLst>
                <a:gd name="adj1" fmla="val 50000"/>
                <a:gd name="adj2" fmla="val 308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30640" y="2946240"/>
              <a:ext cx="898560" cy="70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SWOT</a:t>
              </a:r>
              <a:endParaRPr b="0" lang="en-US" sz="2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037120" y="2374920"/>
            <a:ext cx="4433760" cy="1435680"/>
            <a:chOff x="5037120" y="2374920"/>
            <a:chExt cx="4433760" cy="1435680"/>
          </a:xfrm>
        </p:grpSpPr>
        <p:sp>
          <p:nvSpPr>
            <p:cNvPr id="123" name=""/>
            <p:cNvSpPr/>
            <p:nvPr/>
          </p:nvSpPr>
          <p:spPr>
            <a:xfrm>
              <a:off x="5037120" y="31240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6001200" y="2374920"/>
              <a:ext cx="3469680" cy="1435680"/>
              <a:chOff x="6001200" y="2374920"/>
              <a:chExt cx="3469680" cy="1435680"/>
            </a:xfrm>
          </p:grpSpPr>
          <p:sp>
            <p:nvSpPr>
              <p:cNvPr id="125" name=""/>
              <p:cNvSpPr/>
              <p:nvPr/>
            </p:nvSpPr>
            <p:spPr>
              <a:xfrm>
                <a:off x="6256440" y="25146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6440" y="2514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256440" y="28954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56440" y="32767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256440" y="3657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56640" y="2374920"/>
                <a:ext cx="2887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จุดแข็ง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</a:t>
                </a: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       โครงการส่งเสริม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075440" y="253368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34400" y="2711520"/>
                <a:ext cx="257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จุดอ่อน           โครงการรักษ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094520" y="289548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42960" y="3137040"/>
                <a:ext cx="311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โอกาส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</a:t>
                </a:r>
                <a:r>
                  <a:rPr b="1" lang="th-TH" sz="1600" spc="-1" strike="noStrike">
                    <a:solidFill>
                      <a:srgbClr val="000000"/>
                    </a:solidFill>
                    <a:latin typeface="Angsana New"/>
                    <a:ea typeface="Angsana New"/>
                  </a:rPr>
                  <a:t>         โครงการริเริ่ม พัฒน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091280" y="329580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001200" y="3473280"/>
                <a:ext cx="3469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อุปสรรค           โครงการป้องกันบรรเท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200720" y="364320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2606760" y="3200400"/>
            <a:ext cx="1719000" cy="1371600"/>
            <a:chOff x="2606760" y="3200400"/>
            <a:chExt cx="1719000" cy="1371600"/>
          </a:xfrm>
        </p:grpSpPr>
        <p:sp>
          <p:nvSpPr>
            <p:cNvPr id="139" name=""/>
            <p:cNvSpPr/>
            <p:nvPr/>
          </p:nvSpPr>
          <p:spPr>
            <a:xfrm flipH="1" rot="3600000">
              <a:off x="3931920" y="3314160"/>
              <a:ext cx="305280" cy="380880"/>
            </a:xfrm>
            <a:prstGeom prst="downArrow">
              <a:avLst>
                <a:gd name="adj1" fmla="val 50000"/>
                <a:gd name="adj2" fmla="val 3119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8480" y="3200400"/>
              <a:ext cx="110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ทำไม่ได้เอง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06760" y="3524400"/>
              <a:ext cx="127944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ประสาน</a:t>
              </a:r>
              <a:br>
                <a:rPr sz="1600"/>
              </a:b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หน่วยสูงขึ้นไป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 rot="16200000">
              <a:off x="3542400" y="4152600"/>
              <a:ext cx="457200" cy="381240"/>
            </a:xfrm>
            <a:custGeom>
              <a:avLst/>
              <a:gdLst>
                <a:gd name="textAreaLeft" fmla="*/ 152640 w 457200"/>
                <a:gd name="textAreaRight" fmla="*/ 392040 w 457200"/>
                <a:gd name="textAreaTop" fmla="*/ 219600 h 381240"/>
                <a:gd name="textAreaBottom" fmla="*/ 3265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120600"/>
            <a:ext cx="4777920" cy="644400"/>
            <a:chOff x="2286000" y="120600"/>
            <a:chExt cx="4777920" cy="644400"/>
          </a:xfrm>
        </p:grpSpPr>
        <p:grpSp>
          <p:nvGrpSpPr>
            <p:cNvPr id="144" name=""/>
            <p:cNvGrpSpPr/>
            <p:nvPr/>
          </p:nvGrpSpPr>
          <p:grpSpPr>
            <a:xfrm>
              <a:off x="3178440" y="123840"/>
              <a:ext cx="1146960" cy="350280"/>
              <a:chOff x="3178440" y="123840"/>
              <a:chExt cx="1146960" cy="350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352680" y="123840"/>
                <a:ext cx="9144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78440" y="136800"/>
                <a:ext cx="1146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c0000"/>
                    </a:solidFill>
                    <a:latin typeface="Angsana New"/>
                    <a:ea typeface="Angsana New"/>
                  </a:rPr>
                  <a:t>    </a:t>
                </a: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ศักยภาพ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2286000" y="120600"/>
              <a:ext cx="762120" cy="337320"/>
              <a:chOff x="2286000" y="120600"/>
              <a:chExt cx="762120" cy="337320"/>
            </a:xfrm>
          </p:grpSpPr>
          <p:sp>
            <p:nvSpPr>
              <p:cNvPr id="148" name=""/>
              <p:cNvSpPr/>
              <p:nvPr/>
            </p:nvSpPr>
            <p:spPr>
              <a:xfrm>
                <a:off x="2286000" y="164880"/>
                <a:ext cx="76212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31360" y="120600"/>
                <a:ext cx="714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ปัญห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66160" y="152280"/>
              <a:ext cx="2597760" cy="612720"/>
              <a:chOff x="4466160" y="152280"/>
              <a:chExt cx="2597760" cy="612720"/>
            </a:xfrm>
          </p:grpSpPr>
          <p:sp>
            <p:nvSpPr>
              <p:cNvPr id="151" name=""/>
              <p:cNvSpPr/>
              <p:nvPr/>
            </p:nvSpPr>
            <p:spPr>
              <a:xfrm>
                <a:off x="4800600" y="152280"/>
                <a:ext cx="1981080" cy="60984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66160" y="184320"/>
                <a:ext cx="25977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นโยบายของรัฐ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ยุทธศาสตร์การพัฒนาจังหวัด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3472560" y="2209680"/>
            <a:ext cx="2266920" cy="534240"/>
            <a:chOff x="3472560" y="2209680"/>
            <a:chExt cx="2266920" cy="534240"/>
          </a:xfrm>
        </p:grpSpPr>
        <p:grpSp>
          <p:nvGrpSpPr>
            <p:cNvPr id="154" name=""/>
            <p:cNvGrpSpPr/>
            <p:nvPr/>
          </p:nvGrpSpPr>
          <p:grpSpPr>
            <a:xfrm>
              <a:off x="3472560" y="2406600"/>
              <a:ext cx="2266920" cy="337320"/>
              <a:chOff x="3472560" y="2406600"/>
              <a:chExt cx="2266920" cy="337320"/>
            </a:xfrm>
          </p:grpSpPr>
          <p:sp>
            <p:nvSpPr>
              <p:cNvPr id="155" name=""/>
              <p:cNvSpPr/>
              <p:nvPr/>
            </p:nvSpPr>
            <p:spPr>
              <a:xfrm>
                <a:off x="3665520" y="2438280"/>
                <a:ext cx="304920" cy="25884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70440" y="2438280"/>
                <a:ext cx="304560" cy="258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75000" y="2438280"/>
                <a:ext cx="304920" cy="25884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9920" y="2438280"/>
                <a:ext cx="304920" cy="2588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84840" y="2438280"/>
                <a:ext cx="304560" cy="2588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89400" y="2438280"/>
                <a:ext cx="304920" cy="2588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72560" y="2406600"/>
                <a:ext cx="226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ประเด็นหลักในการพัฒนา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491000" y="2209680"/>
              <a:ext cx="160200" cy="198720"/>
            </a:xfrm>
            <a:prstGeom prst="downArrow">
              <a:avLst>
                <a:gd name="adj1" fmla="val 50000"/>
                <a:gd name="adj2" fmla="val 3101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193120" y="425520"/>
            <a:ext cx="1123920" cy="977760"/>
            <a:chOff x="2193120" y="425520"/>
            <a:chExt cx="1123920" cy="977760"/>
          </a:xfrm>
        </p:grpSpPr>
        <p:grpSp>
          <p:nvGrpSpPr>
            <p:cNvPr id="164" name=""/>
            <p:cNvGrpSpPr/>
            <p:nvPr/>
          </p:nvGrpSpPr>
          <p:grpSpPr>
            <a:xfrm>
              <a:off x="2209680" y="425520"/>
              <a:ext cx="1067040" cy="977760"/>
              <a:chOff x="2209680" y="425520"/>
              <a:chExt cx="1067040" cy="977760"/>
            </a:xfrm>
          </p:grpSpPr>
          <p:sp>
            <p:nvSpPr>
              <p:cNvPr id="165" name=""/>
              <p:cNvSpPr/>
              <p:nvPr/>
            </p:nvSpPr>
            <p:spPr>
              <a:xfrm>
                <a:off x="2209680" y="1066680"/>
                <a:ext cx="1067040" cy="336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2286000" y="554040"/>
                <a:ext cx="762120" cy="337320"/>
                <a:chOff x="2286000" y="554040"/>
                <a:chExt cx="762120" cy="3373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286000" y="628560"/>
                  <a:ext cx="762120" cy="228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325960" y="554040"/>
                  <a:ext cx="7185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1600" spc="-1" strike="noStrike">
                      <a:solidFill>
                        <a:srgbClr val="cc0000"/>
                      </a:solidFill>
                      <a:latin typeface="Angsana New"/>
                      <a:cs typeface="Angsana New"/>
                    </a:rPr>
                    <a:t>สาเหตุ</a:t>
                  </a:r>
                  <a:endParaRPr b="0" lang="en-US" sz="16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2651040" y="4255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651040" y="870120"/>
                <a:ext cx="0" cy="18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2193120" y="1030320"/>
              <a:ext cx="112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cc0000"/>
                  </a:solidFill>
                  <a:latin typeface="Angsana New"/>
                  <a:cs typeface="Angsana New"/>
                </a:rPr>
                <a:t>จุดคานงัด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36520" y="1784520"/>
            <a:ext cx="5797800" cy="380880"/>
            <a:chOff x="1136520" y="1784520"/>
            <a:chExt cx="5797800" cy="380880"/>
          </a:xfrm>
        </p:grpSpPr>
        <p:sp>
          <p:nvSpPr>
            <p:cNvPr id="173" name=""/>
            <p:cNvSpPr/>
            <p:nvPr/>
          </p:nvSpPr>
          <p:spPr>
            <a:xfrm>
              <a:off x="2209680" y="1784520"/>
              <a:ext cx="4724640" cy="380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36520" y="1784520"/>
              <a:ext cx="55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ngsana New"/>
                  <a:ea typeface="Angsana New"/>
                </a:rPr>
                <a:t>                                 </a:t>
              </a:r>
              <a:r>
                <a:rPr b="1" lang="hi-IN" sz="1800" spc="-1" strike="noStrike">
                  <a:solidFill>
                    <a:srgbClr val="cc0000"/>
                  </a:solidFill>
                  <a:latin typeface="Angsana New"/>
                  <a:cs typeface="Angsana New"/>
                </a:rPr>
                <a:t>ความต้องการการพัฒนาของท้องถิ่น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91600" y="304920"/>
            <a:ext cx="1139400" cy="2394720"/>
            <a:chOff x="291600" y="304920"/>
            <a:chExt cx="1139400" cy="2394720"/>
          </a:xfrm>
        </p:grpSpPr>
        <p:sp>
          <p:nvSpPr>
            <p:cNvPr id="176" name=""/>
            <p:cNvSpPr/>
            <p:nvPr/>
          </p:nvSpPr>
          <p:spPr>
            <a:xfrm>
              <a:off x="421560" y="236232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พรวม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1600" y="30492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รายละเอียด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2120" y="609480"/>
              <a:ext cx="228600" cy="1828800"/>
            </a:xfrm>
            <a:prstGeom prst="upDownArrow">
              <a:avLst>
                <a:gd name="adj1" fmla="val 50000"/>
                <a:gd name="adj2" fmla="val 15925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91600" y="4038480"/>
            <a:ext cx="1139400" cy="2471040"/>
            <a:chOff x="291600" y="4038480"/>
            <a:chExt cx="1139400" cy="2471040"/>
          </a:xfrm>
        </p:grpSpPr>
        <p:sp>
          <p:nvSpPr>
            <p:cNvPr id="180" name=""/>
            <p:cNvSpPr/>
            <p:nvPr/>
          </p:nvSpPr>
          <p:spPr>
            <a:xfrm>
              <a:off x="291600" y="617220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รายละเอียด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2120" y="4419720"/>
              <a:ext cx="228600" cy="1828800"/>
            </a:xfrm>
            <a:prstGeom prst="upDownArrow">
              <a:avLst>
                <a:gd name="adj1" fmla="val 50000"/>
                <a:gd name="adj2" fmla="val 159259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560" y="403848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พรวม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962520" y="3390840"/>
            <a:ext cx="2255040" cy="1333440"/>
            <a:chOff x="3962520" y="3390840"/>
            <a:chExt cx="2255040" cy="1333440"/>
          </a:xfrm>
        </p:grpSpPr>
        <p:grpSp>
          <p:nvGrpSpPr>
            <p:cNvPr id="184" name=""/>
            <p:cNvGrpSpPr/>
            <p:nvPr/>
          </p:nvGrpSpPr>
          <p:grpSpPr>
            <a:xfrm>
              <a:off x="4714920" y="3390840"/>
              <a:ext cx="973080" cy="381240"/>
              <a:chOff x="4714920" y="3390840"/>
              <a:chExt cx="973080" cy="381240"/>
            </a:xfrm>
          </p:grpSpPr>
          <p:sp>
            <p:nvSpPr>
              <p:cNvPr id="185" name=""/>
              <p:cNvSpPr/>
              <p:nvPr/>
            </p:nvSpPr>
            <p:spPr>
              <a:xfrm>
                <a:off x="4784760" y="3397320"/>
                <a:ext cx="90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000000"/>
                    </a:solidFill>
                    <a:latin typeface="Angsana New"/>
                    <a:cs typeface="Angsana New"/>
                  </a:rPr>
                  <a:t>ทำได้เอง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14920" y="3390840"/>
                <a:ext cx="304920" cy="381240"/>
              </a:xfrm>
              <a:prstGeom prst="downArrow">
                <a:avLst>
                  <a:gd name="adj1" fmla="val 50000"/>
                  <a:gd name="adj2" fmla="val 31257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5288400" y="41911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ิสัยทัศน์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62520" y="3809880"/>
              <a:ext cx="1447560" cy="914400"/>
            </a:xfrm>
            <a:prstGeom prst="cloudCallout">
              <a:avLst>
                <a:gd name="adj1" fmla="val -27129"/>
                <a:gd name="adj2" fmla="val 4482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108320" y="3916440"/>
            <a:ext cx="1140120" cy="64620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2209680" y="1403280"/>
            <a:ext cx="4724640" cy="387360"/>
            <a:chOff x="2209680" y="1403280"/>
            <a:chExt cx="4724640" cy="387360"/>
          </a:xfrm>
        </p:grpSpPr>
        <p:sp>
          <p:nvSpPr>
            <p:cNvPr id="191" name=""/>
            <p:cNvSpPr/>
            <p:nvPr/>
          </p:nvSpPr>
          <p:spPr>
            <a:xfrm>
              <a:off x="2209680" y="1403280"/>
              <a:ext cx="47246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37640" y="1422360"/>
              <a:ext cx="241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cc0000"/>
                  </a:solidFill>
                  <a:latin typeface="Angsana New"/>
                  <a:cs typeface="Angsana New"/>
                </a:rPr>
                <a:t>ข้อมูลพื้นฐานการพัฒนา</a:t>
              </a:r>
              <a:endParaRPr b="0" lang="en-US" sz="1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37120" y="441360"/>
            <a:ext cx="1379880" cy="961920"/>
            <a:chOff x="3237120" y="441360"/>
            <a:chExt cx="1379880" cy="961920"/>
          </a:xfrm>
        </p:grpSpPr>
        <p:grpSp>
          <p:nvGrpSpPr>
            <p:cNvPr id="194" name=""/>
            <p:cNvGrpSpPr/>
            <p:nvPr/>
          </p:nvGrpSpPr>
          <p:grpSpPr>
            <a:xfrm>
              <a:off x="3313080" y="609480"/>
              <a:ext cx="1303920" cy="339120"/>
              <a:chOff x="3313080" y="609480"/>
              <a:chExt cx="1303920" cy="339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352680" y="609480"/>
                <a:ext cx="9144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313080" y="611280"/>
                <a:ext cx="130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6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ความคิดริเริ่ม</a:t>
                </a:r>
                <a:endParaRPr b="0" lang="en-US" sz="16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3809880" y="441360"/>
              <a:ext cx="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09880" y="923760"/>
              <a:ext cx="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237120" y="1022400"/>
              <a:ext cx="1290240" cy="380880"/>
              <a:chOff x="3237120" y="1022400"/>
              <a:chExt cx="1290240" cy="380880"/>
            </a:xfrm>
          </p:grpSpPr>
          <p:sp>
            <p:nvSpPr>
              <p:cNvPr id="200" name=""/>
              <p:cNvSpPr/>
              <p:nvPr/>
            </p:nvSpPr>
            <p:spPr>
              <a:xfrm>
                <a:off x="3276720" y="1066680"/>
                <a:ext cx="1143000" cy="3366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237120" y="1022400"/>
                <a:ext cx="129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cc0000"/>
                    </a:solidFill>
                    <a:latin typeface="Angsana New"/>
                    <a:cs typeface="Angsana New"/>
                  </a:rPr>
                  <a:t>ความจำเป็น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2400480" y="4724280"/>
            <a:ext cx="5939280" cy="1904760"/>
            <a:chOff x="2400480" y="4724280"/>
            <a:chExt cx="5939280" cy="1904760"/>
          </a:xfrm>
        </p:grpSpPr>
        <p:sp>
          <p:nvSpPr>
            <p:cNvPr id="203" name=""/>
            <p:cNvSpPr/>
            <p:nvPr/>
          </p:nvSpPr>
          <p:spPr>
            <a:xfrm>
              <a:off x="6705720" y="6400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9080" y="6216480"/>
              <a:ext cx="14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โครงการพัฒนา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2400480" y="4724280"/>
              <a:ext cx="4343400" cy="1904760"/>
              <a:chOff x="2400480" y="4724280"/>
              <a:chExt cx="4343400" cy="1904760"/>
            </a:xfrm>
          </p:grpSpPr>
          <p:sp>
            <p:nvSpPr>
              <p:cNvPr id="206" name=""/>
              <p:cNvSpPr/>
              <p:nvPr/>
            </p:nvSpPr>
            <p:spPr>
              <a:xfrm>
                <a:off x="2400480" y="4735080"/>
                <a:ext cx="4343400" cy="1893960"/>
              </a:xfrm>
              <a:prstGeom prst="flowChartExtra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572000" y="629820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326016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85264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3667320" y="6298200"/>
                <a:ext cx="226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074120" y="6298200"/>
                <a:ext cx="135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84344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02452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0560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386320" y="6298200"/>
                <a:ext cx="135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6740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4848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1992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303336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344088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384804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707720" y="6298200"/>
                <a:ext cx="450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3380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11488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95960" y="6298200"/>
                <a:ext cx="135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47704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58120" y="6298200"/>
                <a:ext cx="18072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84200" y="6298200"/>
                <a:ext cx="22608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20100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580840" y="6298200"/>
                <a:ext cx="36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716560" y="6298200"/>
                <a:ext cx="36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0480" y="6298200"/>
                <a:ext cx="36180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4300200" y="6298200"/>
                <a:ext cx="9036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94300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3124080" y="6298200"/>
                <a:ext cx="316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335052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531600" y="6298200"/>
                <a:ext cx="27144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762280" y="4724280"/>
                <a:ext cx="3619440" cy="1580400"/>
                <a:chOff x="2762280" y="4724280"/>
                <a:chExt cx="3619440" cy="158040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2762280" y="4724280"/>
                  <a:ext cx="3619440" cy="1580400"/>
                  <a:chOff x="2762280" y="4724280"/>
                  <a:chExt cx="3619440" cy="158040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762280" y="4730760"/>
                    <a:ext cx="3619440" cy="1573920"/>
                    <a:chOff x="2762280" y="4730760"/>
                    <a:chExt cx="3619440" cy="15739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2762280" y="4730760"/>
                      <a:ext cx="3619440" cy="1573920"/>
                    </a:xfrm>
                    <a:prstGeom prst="flowChartExtract">
                      <a:avLst/>
                    </a:prstGeom>
                    <a:solidFill>
                      <a:srgbClr val="ccff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4572000" y="5924520"/>
                      <a:ext cx="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>
                      <a:off x="3531240" y="5924520"/>
                      <a:ext cx="27144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H="1">
                      <a:off x="3169080" y="5924520"/>
                      <a:ext cx="31644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>
                      <a:off x="3893400" y="5924520"/>
                      <a:ext cx="22608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4933800" y="5924520"/>
                      <a:ext cx="9036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205240" y="5924520"/>
                      <a:ext cx="18072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5522040" y="5924520"/>
                      <a:ext cx="226080" cy="373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3192120" y="4724280"/>
                    <a:ext cx="2759760" cy="1200240"/>
                    <a:chOff x="3192120" y="4724280"/>
                    <a:chExt cx="2759760" cy="1200240"/>
                  </a:xfrm>
                </p:grpSpPr>
                <p:grpSp>
                  <p:nvGrpSpPr>
                    <p:cNvPr id="250" name=""/>
                    <p:cNvGrpSpPr/>
                    <p:nvPr/>
                  </p:nvGrpSpPr>
                  <p:grpSpPr>
                    <a:xfrm>
                      <a:off x="3192120" y="4724280"/>
                      <a:ext cx="2759760" cy="1200240"/>
                      <a:chOff x="3192120" y="4724280"/>
                      <a:chExt cx="2759760" cy="1200240"/>
                    </a:xfrm>
                  </p:grpSpPr>
                  <p:sp>
                    <p:nvSpPr>
                      <p:cNvPr id="251" name=""/>
                      <p:cNvSpPr/>
                      <p:nvPr/>
                    </p:nvSpPr>
                    <p:spPr>
                      <a:xfrm>
                        <a:off x="3192120" y="4724280"/>
                        <a:ext cx="2759760" cy="1200240"/>
                      </a:xfrm>
                      <a:prstGeom prst="flowChartExtract">
                        <a:avLst/>
                      </a:prstGeom>
                      <a:solidFill>
                        <a:srgbClr val="99cc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flipH="1">
                        <a:off x="3802680" y="5604480"/>
                        <a:ext cx="22608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flipH="1">
                        <a:off x="3485880" y="5604480"/>
                        <a:ext cx="27144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flipH="1">
                        <a:off x="4119480" y="5604480"/>
                        <a:ext cx="18072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>
                        <a:off x="4572000" y="5604480"/>
                        <a:ext cx="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>
                        <a:off x="4843440" y="5604480"/>
                        <a:ext cx="9036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5069520" y="5604480"/>
                        <a:ext cx="13572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>
                        <a:off x="5340960" y="5604480"/>
                        <a:ext cx="180720" cy="320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</p:grpSp>
                <p:grpSp>
                  <p:nvGrpSpPr>
                    <p:cNvPr id="259" name=""/>
                    <p:cNvGrpSpPr/>
                    <p:nvPr/>
                  </p:nvGrpSpPr>
                  <p:grpSpPr>
                    <a:xfrm>
                      <a:off x="3553920" y="4724280"/>
                      <a:ext cx="2024280" cy="880200"/>
                      <a:chOff x="3553920" y="4724280"/>
                      <a:chExt cx="2024280" cy="880200"/>
                    </a:xfrm>
                  </p:grpSpPr>
                  <p:grpSp>
                    <p:nvGrpSpPr>
                      <p:cNvPr id="260" name=""/>
                      <p:cNvGrpSpPr/>
                      <p:nvPr/>
                    </p:nvGrpSpPr>
                    <p:grpSpPr>
                      <a:xfrm>
                        <a:off x="3553920" y="4724280"/>
                        <a:ext cx="2024280" cy="880200"/>
                        <a:chOff x="3553920" y="4724280"/>
                        <a:chExt cx="2024280" cy="880200"/>
                      </a:xfrm>
                    </p:grpSpPr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>
                          <a:off x="3553920" y="4724280"/>
                          <a:ext cx="2024280" cy="880200"/>
                        </a:xfrm>
                        <a:prstGeom prst="flowChartExtract">
                          <a:avLst/>
                        </a:prstGeom>
                        <a:solidFill>
                          <a:srgbClr val="c0c0c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H="1">
                          <a:off x="4021200" y="5337720"/>
                          <a:ext cx="180720" cy="26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3" name=""/>
                        <p:cNvSpPr/>
                        <p:nvPr/>
                      </p:nvSpPr>
                      <p:spPr>
                        <a:xfrm>
                          <a:off x="4564080" y="5337720"/>
                          <a:ext cx="0" cy="26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4" name=""/>
                        <p:cNvSpPr/>
                        <p:nvPr/>
                      </p:nvSpPr>
                      <p:spPr>
                        <a:xfrm>
                          <a:off x="4925880" y="5337720"/>
                          <a:ext cx="135360" cy="26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</p:grpSp>
                  <p:grpSp>
                    <p:nvGrpSpPr>
                      <p:cNvPr id="265" name=""/>
                      <p:cNvGrpSpPr/>
                      <p:nvPr/>
                    </p:nvGrpSpPr>
                    <p:grpSpPr>
                      <a:xfrm>
                        <a:off x="3862800" y="4724280"/>
                        <a:ext cx="1402200" cy="613440"/>
                        <a:chOff x="3862800" y="4724280"/>
                        <a:chExt cx="1402200" cy="613440"/>
                      </a:xfrm>
                    </p:grpSpPr>
                    <p:sp>
                      <p:nvSpPr>
                        <p:cNvPr id="266" name=""/>
                        <p:cNvSpPr/>
                        <p:nvPr/>
                      </p:nvSpPr>
                      <p:spPr>
                        <a:xfrm>
                          <a:off x="3862800" y="4724280"/>
                          <a:ext cx="1402200" cy="613440"/>
                        </a:xfrm>
                        <a:prstGeom prst="flowChartExtract">
                          <a:avLst/>
                        </a:prstGeom>
                        <a:solidFill>
                          <a:srgbClr val="ff99cc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  <p:sp>
                      <p:nvSpPr>
                        <p:cNvPr id="267" name=""/>
                        <p:cNvSpPr/>
                        <p:nvPr/>
                      </p:nvSpPr>
                      <p:spPr>
                        <a:xfrm>
                          <a:off x="4563720" y="4724280"/>
                          <a:ext cx="0" cy="613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800" spc="-1" strike="noStrike">
                            <a:solidFill>
                              <a:srgbClr val="000000"/>
                            </a:solidFill>
                            <a:latin typeface="Angsana New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268" name=""/>
                <p:cNvSpPr/>
                <p:nvPr/>
              </p:nvSpPr>
              <p:spPr>
                <a:xfrm flipH="1">
                  <a:off x="4209840" y="5924520"/>
                  <a:ext cx="13572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753080" y="5924520"/>
                  <a:ext cx="9036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069520" y="5924520"/>
                  <a:ext cx="13572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40960" y="5924520"/>
                  <a:ext cx="22608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703120" y="5924520"/>
                  <a:ext cx="31644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712320" y="5924520"/>
                  <a:ext cx="27144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349800" y="5924520"/>
                  <a:ext cx="31644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2942640" y="5924520"/>
                  <a:ext cx="407160" cy="37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</p:grpSp>
      <p:grpSp>
        <p:nvGrpSpPr>
          <p:cNvPr id="276" name=""/>
          <p:cNvGrpSpPr/>
          <p:nvPr/>
        </p:nvGrpSpPr>
        <p:grpSpPr>
          <a:xfrm>
            <a:off x="4071960" y="779400"/>
            <a:ext cx="3521160" cy="623880"/>
            <a:chOff x="4071960" y="779400"/>
            <a:chExt cx="3521160" cy="623880"/>
          </a:xfrm>
        </p:grpSpPr>
        <p:sp>
          <p:nvSpPr>
            <p:cNvPr id="277" name=""/>
            <p:cNvSpPr/>
            <p:nvPr/>
          </p:nvSpPr>
          <p:spPr>
            <a:xfrm>
              <a:off x="5791320" y="7794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4071960" y="1022400"/>
              <a:ext cx="3521160" cy="380880"/>
              <a:chOff x="4071960" y="1022400"/>
              <a:chExt cx="3521160" cy="380880"/>
            </a:xfrm>
          </p:grpSpPr>
          <p:sp>
            <p:nvSpPr>
              <p:cNvPr id="279" name=""/>
              <p:cNvSpPr/>
              <p:nvPr/>
            </p:nvSpPr>
            <p:spPr>
              <a:xfrm>
                <a:off x="4419720" y="1066680"/>
                <a:ext cx="2514600" cy="336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71960" y="1022400"/>
                <a:ext cx="352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b2b2b2"/>
                    </a:solidFill>
                    <a:latin typeface="Angsana New"/>
                    <a:cs typeface="Angsana New"/>
                  </a:rPr>
                  <a:t>ความเชื่อมโยงกับสภาวะของท้องถิ่น</a:t>
                </a:r>
                <a:endParaRPr b="0" lang="en-US" sz="1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3870360" y="4724280"/>
            <a:ext cx="3117240" cy="612720"/>
            <a:chOff x="3870360" y="4724280"/>
            <a:chExt cx="3117240" cy="612720"/>
          </a:xfrm>
        </p:grpSpPr>
        <p:sp>
          <p:nvSpPr>
            <p:cNvPr id="282" name=""/>
            <p:cNvSpPr/>
            <p:nvPr/>
          </p:nvSpPr>
          <p:spPr>
            <a:xfrm>
              <a:off x="5029200" y="4952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25240" y="4768920"/>
              <a:ext cx="196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จุดมุ่งหมาย 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/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 </a:t>
              </a:r>
              <a:r>
                <a:rPr b="1" lang="th-TH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พันธกิจ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870360" y="4724280"/>
              <a:ext cx="1403280" cy="612720"/>
              <a:chOff x="3870360" y="4724280"/>
              <a:chExt cx="1403280" cy="612720"/>
            </a:xfrm>
          </p:grpSpPr>
          <p:sp>
            <p:nvSpPr>
              <p:cNvPr id="285" name=""/>
              <p:cNvSpPr/>
              <p:nvPr/>
            </p:nvSpPr>
            <p:spPr>
              <a:xfrm>
                <a:off x="3870360" y="4724280"/>
                <a:ext cx="1403280" cy="612720"/>
              </a:xfrm>
              <a:prstGeom prst="flowChartExtra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72000" y="4724280"/>
                <a:ext cx="0" cy="61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3562200" y="4724280"/>
            <a:ext cx="4890600" cy="879480"/>
            <a:chOff x="3562200" y="4724280"/>
            <a:chExt cx="4890600" cy="879480"/>
          </a:xfrm>
        </p:grpSpPr>
        <p:sp>
          <p:nvSpPr>
            <p:cNvPr id="288" name=""/>
            <p:cNvSpPr/>
            <p:nvPr/>
          </p:nvSpPr>
          <p:spPr>
            <a:xfrm>
              <a:off x="5560920" y="5378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04760" y="5194440"/>
              <a:ext cx="2948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ัตถุประสงค์ห้าปี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ตัวชี้วัด </a:t>
              </a:r>
              <a:r>
                <a:rPr b="1" lang="en-US" sz="16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(KPIs) 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562200" y="4724280"/>
              <a:ext cx="2024280" cy="879480"/>
              <a:chOff x="3562200" y="4724280"/>
              <a:chExt cx="2024280" cy="87948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562200" y="4724280"/>
                <a:ext cx="2024280" cy="879480"/>
                <a:chOff x="3562200" y="4724280"/>
                <a:chExt cx="2024280" cy="8794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562200" y="4724280"/>
                  <a:ext cx="2024280" cy="879480"/>
                </a:xfrm>
                <a:prstGeom prst="flowChartExtra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4029480" y="5337360"/>
                  <a:ext cx="180720" cy="26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572360" y="5337360"/>
                  <a:ext cx="0" cy="26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934160" y="5337360"/>
                  <a:ext cx="135360" cy="26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871080" y="4724280"/>
                <a:ext cx="1402200" cy="613080"/>
                <a:chOff x="3871080" y="4724280"/>
                <a:chExt cx="1402200" cy="6130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871080" y="4724280"/>
                  <a:ext cx="1402200" cy="613080"/>
                </a:xfrm>
                <a:prstGeom prst="flowChartExtra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572000" y="4724280"/>
                  <a:ext cx="0" cy="61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ngsana New"/>
                  </a:endParaRPr>
                </a:p>
              </p:txBody>
            </p:sp>
          </p:grpSp>
        </p:grpSp>
      </p:grpSp>
      <p:grpSp>
        <p:nvGrpSpPr>
          <p:cNvPr id="299" name=""/>
          <p:cNvGrpSpPr/>
          <p:nvPr/>
        </p:nvGrpSpPr>
        <p:grpSpPr>
          <a:xfrm>
            <a:off x="2762280" y="4724280"/>
            <a:ext cx="5350320" cy="1581120"/>
            <a:chOff x="2762280" y="4724280"/>
            <a:chExt cx="5350320" cy="1581120"/>
          </a:xfrm>
        </p:grpSpPr>
        <p:sp>
          <p:nvSpPr>
            <p:cNvPr id="300" name=""/>
            <p:cNvSpPr/>
            <p:nvPr/>
          </p:nvSpPr>
          <p:spPr>
            <a:xfrm>
              <a:off x="6324480" y="6051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54360" y="5867280"/>
              <a:ext cx="175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แนวทางการพัฒนา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762280" y="4724280"/>
              <a:ext cx="3619440" cy="1581120"/>
              <a:chOff x="2762280" y="4724280"/>
              <a:chExt cx="3619440" cy="158112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2762280" y="4724280"/>
                <a:ext cx="3619440" cy="1581120"/>
                <a:chOff x="2762280" y="4724280"/>
                <a:chExt cx="3619440" cy="158112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2762280" y="4730760"/>
                  <a:ext cx="3619440" cy="1574640"/>
                  <a:chOff x="2762280" y="4730760"/>
                  <a:chExt cx="3619440" cy="157464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2762280" y="4730760"/>
                    <a:ext cx="3619440" cy="1574640"/>
                  </a:xfrm>
                  <a:prstGeom prst="flowChartExtra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4572000" y="5925240"/>
                    <a:ext cx="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3531240" y="5925240"/>
                    <a:ext cx="27144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>
                    <a:off x="3169080" y="5925240"/>
                    <a:ext cx="31644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>
                    <a:off x="3893400" y="5925240"/>
                    <a:ext cx="22608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4933800" y="5925240"/>
                    <a:ext cx="9036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205240" y="5925240"/>
                    <a:ext cx="18072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522040" y="5925240"/>
                    <a:ext cx="226080" cy="3733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3192120" y="4724280"/>
                  <a:ext cx="2759760" cy="1200960"/>
                  <a:chOff x="3192120" y="4724280"/>
                  <a:chExt cx="2759760" cy="1200960"/>
                </a:xfrm>
              </p:grpSpPr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3192120" y="4724280"/>
                    <a:ext cx="2759760" cy="1200960"/>
                    <a:chOff x="3192120" y="4724280"/>
                    <a:chExt cx="2759760" cy="120096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192120" y="4724280"/>
                      <a:ext cx="2759760" cy="1200960"/>
                    </a:xfrm>
                    <a:prstGeom prst="flowChartExtract">
                      <a:avLst/>
                    </a:prstGeom>
                    <a:solidFill>
                      <a:srgbClr val="99cc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>
                      <a:off x="3802680" y="5604840"/>
                      <a:ext cx="22608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>
                      <a:off x="3485880" y="5604840"/>
                      <a:ext cx="27144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>
                      <a:off x="4119480" y="5604840"/>
                      <a:ext cx="18072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4572000" y="5604840"/>
                      <a:ext cx="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4843440" y="5604840"/>
                      <a:ext cx="9036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5069520" y="5604840"/>
                      <a:ext cx="13572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5340960" y="5604840"/>
                      <a:ext cx="180720" cy="320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3553920" y="4724280"/>
                    <a:ext cx="2024280" cy="880560"/>
                    <a:chOff x="3553920" y="4724280"/>
                    <a:chExt cx="2024280" cy="880560"/>
                  </a:xfrm>
                </p:grpSpPr>
                <p:grpSp>
                  <p:nvGrpSpPr>
                    <p:cNvPr id="324" name=""/>
                    <p:cNvGrpSpPr/>
                    <p:nvPr/>
                  </p:nvGrpSpPr>
                  <p:grpSpPr>
                    <a:xfrm>
                      <a:off x="3553920" y="4724280"/>
                      <a:ext cx="2024280" cy="880560"/>
                      <a:chOff x="3553920" y="4724280"/>
                      <a:chExt cx="2024280" cy="880560"/>
                    </a:xfrm>
                  </p:grpSpPr>
                  <p:sp>
                    <p:nvSpPr>
                      <p:cNvPr id="325" name=""/>
                      <p:cNvSpPr/>
                      <p:nvPr/>
                    </p:nvSpPr>
                    <p:spPr>
                      <a:xfrm>
                        <a:off x="3553920" y="4724280"/>
                        <a:ext cx="2024280" cy="880560"/>
                      </a:xfrm>
                      <a:prstGeom prst="flowChartExtract">
                        <a:avLst/>
                      </a:pr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26" name=""/>
                      <p:cNvSpPr/>
                      <p:nvPr/>
                    </p:nvSpPr>
                    <p:spPr>
                      <a:xfrm flipH="1">
                        <a:off x="4021200" y="5338080"/>
                        <a:ext cx="180720" cy="266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4564080" y="5338080"/>
                        <a:ext cx="0" cy="266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4925880" y="5338080"/>
                        <a:ext cx="135360" cy="266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</p:grpSp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3862800" y="4724280"/>
                      <a:ext cx="1402200" cy="613800"/>
                      <a:chOff x="3862800" y="4724280"/>
                      <a:chExt cx="1402200" cy="613800"/>
                    </a:xfrm>
                  </p:grpSpPr>
                  <p:sp>
                    <p:nvSpPr>
                      <p:cNvPr id="330" name=""/>
                      <p:cNvSpPr/>
                      <p:nvPr/>
                    </p:nvSpPr>
                    <p:spPr>
                      <a:xfrm>
                        <a:off x="3862800" y="4724280"/>
                        <a:ext cx="1402200" cy="613800"/>
                      </a:xfrm>
                      <a:prstGeom prst="flowChartExtract">
                        <a:avLst/>
                      </a:prstGeom>
                      <a:solidFill>
                        <a:srgbClr val="ff99cc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4563720" y="4724280"/>
                        <a:ext cx="0" cy="613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32" name=""/>
              <p:cNvSpPr/>
              <p:nvPr/>
            </p:nvSpPr>
            <p:spPr>
              <a:xfrm flipH="1">
                <a:off x="4209840" y="5925240"/>
                <a:ext cx="13572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753080" y="5925240"/>
                <a:ext cx="9036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069520" y="5925240"/>
                <a:ext cx="13572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340960" y="5925240"/>
                <a:ext cx="22608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703120" y="5925240"/>
                <a:ext cx="31644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712320" y="5925240"/>
                <a:ext cx="27144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349800" y="5925240"/>
                <a:ext cx="31644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942640" y="5925240"/>
                <a:ext cx="407160" cy="37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grpSp>
        <p:nvGrpSpPr>
          <p:cNvPr id="340" name=""/>
          <p:cNvGrpSpPr/>
          <p:nvPr/>
        </p:nvGrpSpPr>
        <p:grpSpPr>
          <a:xfrm>
            <a:off x="3192480" y="4724280"/>
            <a:ext cx="4252320" cy="1200240"/>
            <a:chOff x="3192480" y="4724280"/>
            <a:chExt cx="4252320" cy="1200240"/>
          </a:xfrm>
        </p:grpSpPr>
        <p:sp>
          <p:nvSpPr>
            <p:cNvPr id="341" name=""/>
            <p:cNvSpPr/>
            <p:nvPr/>
          </p:nvSpPr>
          <p:spPr>
            <a:xfrm>
              <a:off x="5948280" y="5715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8440" y="55627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เป้าหมายรายปี</a:t>
              </a:r>
              <a:endParaRPr b="0" lang="en-US" sz="16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3192480" y="4724280"/>
              <a:ext cx="2759040" cy="1200240"/>
              <a:chOff x="3192480" y="4724280"/>
              <a:chExt cx="2759040" cy="1200240"/>
            </a:xfrm>
          </p:grpSpPr>
          <p:sp>
            <p:nvSpPr>
              <p:cNvPr id="344" name=""/>
              <p:cNvSpPr/>
              <p:nvPr/>
            </p:nvSpPr>
            <p:spPr>
              <a:xfrm>
                <a:off x="4572000" y="5604480"/>
                <a:ext cx="0" cy="3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grpSp>
            <p:nvGrpSpPr>
              <p:cNvPr id="345" name=""/>
              <p:cNvGrpSpPr/>
              <p:nvPr/>
            </p:nvGrpSpPr>
            <p:grpSpPr>
              <a:xfrm>
                <a:off x="3192480" y="4724280"/>
                <a:ext cx="2759040" cy="1200240"/>
                <a:chOff x="3192480" y="4724280"/>
                <a:chExt cx="2759040" cy="120024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3192480" y="4724280"/>
                  <a:ext cx="2759040" cy="1200240"/>
                  <a:chOff x="3192480" y="4724280"/>
                  <a:chExt cx="2759040" cy="120024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>
                    <a:off x="3192480" y="4724280"/>
                    <a:ext cx="2759040" cy="1200240"/>
                  </a:xfrm>
                  <a:prstGeom prst="flowChartExtract">
                    <a:avLst/>
                  </a:prstGeom>
                  <a:solidFill>
                    <a:srgbClr val="99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>
                    <a:off x="3803040" y="5604480"/>
                    <a:ext cx="22608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 flipH="1">
                    <a:off x="3485880" y="5604480"/>
                    <a:ext cx="27108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>
                    <a:off x="4119480" y="5604480"/>
                    <a:ext cx="18072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572000" y="5604480"/>
                    <a:ext cx="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4843440" y="5604480"/>
                    <a:ext cx="9036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5069520" y="5604480"/>
                    <a:ext cx="13536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5340600" y="5604480"/>
                    <a:ext cx="18072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ngsana New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3554280" y="4724280"/>
                  <a:ext cx="2023920" cy="880200"/>
                  <a:chOff x="3554280" y="4724280"/>
                  <a:chExt cx="2023920" cy="880200"/>
                </a:xfrm>
              </p:grpSpPr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554280" y="4724280"/>
                    <a:ext cx="2023920" cy="880200"/>
                    <a:chOff x="3554280" y="4724280"/>
                    <a:chExt cx="2023920" cy="88020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3554280" y="4724280"/>
                      <a:ext cx="2023920" cy="880200"/>
                    </a:xfrm>
                    <a:prstGeom prst="flowChartExtract">
                      <a:avLst/>
                    </a:pr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>
                      <a:off x="4021560" y="5337720"/>
                      <a:ext cx="180720" cy="26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4564080" y="5337720"/>
                      <a:ext cx="0" cy="26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4925880" y="5337720"/>
                      <a:ext cx="135360" cy="26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3863160" y="4724280"/>
                    <a:ext cx="1402200" cy="613440"/>
                    <a:chOff x="3863160" y="4724280"/>
                    <a:chExt cx="1402200" cy="61344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3863160" y="4724280"/>
                      <a:ext cx="1402200" cy="613440"/>
                    </a:xfrm>
                    <a:prstGeom prst="flowChartExtract">
                      <a:avLst/>
                    </a:prstGeom>
                    <a:solidFill>
                      <a:srgbClr val="ff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4564080" y="4724280"/>
                      <a:ext cx="0" cy="613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D32-0D3F-4902-A816-A9BBC68F73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1628640"/>
            <a:ext cx="8077320" cy="567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50000"/>
              </a:lnSpc>
              <a:spcBef>
                <a:spcPts val="3750"/>
              </a:spcBef>
              <a:buClr>
                <a:srgbClr val="ffff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หลักการวางแผนในการ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    </a:t>
            </a:r>
            <a:r>
              <a:rPr b="1" lang="hi-IN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ติดตามประเมินผล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ngsana New"/>
              </a:rPr>
              <a:t>2. </a:t>
            </a:r>
            <a:r>
              <a:rPr b="1" lang="hi-IN" sz="6000" spc="-1" strike="noStrike">
                <a:solidFill>
                  <a:srgbClr val="00ffcc"/>
                </a:solidFill>
                <a:latin typeface="Angsana New"/>
                <a:cs typeface="Angsana New"/>
              </a:rPr>
              <a:t>ปัจจัยสภาวะแวดล้อม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cc"/>
                </a:solidFill>
                <a:latin typeface="Angsana New"/>
                <a:ea typeface="Angsana New"/>
              </a:rPr>
              <a:t>    </a:t>
            </a:r>
            <a:r>
              <a:rPr b="1" lang="hi-IN" sz="6000" spc="-1" strike="noStrike">
                <a:solidFill>
                  <a:srgbClr val="00ffcc"/>
                </a:solidFill>
                <a:latin typeface="Angsana New"/>
                <a:cs typeface="Angsana New"/>
              </a:rPr>
              <a:t>ที่เกี่ยวข้องกับการวางแผนพัฒนา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ngsana New"/>
              </a:rPr>
              <a:t>3. </a:t>
            </a:r>
            <a:r>
              <a:rPr b="1" lang="hi-IN" sz="6000" spc="-1" strike="noStrike">
                <a:solidFill>
                  <a:srgbClr val="ffccff"/>
                </a:solidFill>
                <a:latin typeface="Angsana New"/>
                <a:cs typeface="Angsana New"/>
              </a:rPr>
              <a:t>การประเมินผลกับ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 algn="ctr">
              <a:lnSpc>
                <a:spcPct val="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ff"/>
                </a:solidFill>
                <a:latin typeface="Angsana New"/>
                <a:ea typeface="Angsana New"/>
              </a:rPr>
              <a:t>    </a:t>
            </a:r>
            <a:r>
              <a:rPr b="1" lang="hi-IN" sz="6000" spc="-1" strike="noStrike">
                <a:solidFill>
                  <a:srgbClr val="ffccff"/>
                </a:solidFill>
                <a:latin typeface="Angsana New"/>
                <a:cs typeface="Angsana New"/>
              </a:rPr>
              <a:t>การจัดการเชิงกลยุทธ์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0"/>
            <a:ext cx="8153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ประเด็นที่ต้องศึกษา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10B-D7C7-4268-B7D7-F9657313B16E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ข้อมูลปัญหาด้า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133720"/>
                <a:gridCol w="1371600"/>
                <a:gridCol w="1371600"/>
                <a:gridCol w="1371600"/>
                <a:gridCol w="1371600"/>
              </a:tblGrid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ภา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นาดของ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ได้รั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ลกระท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ควา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รุนแรงของ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02A-3A5B-4030-993C-620BFFA4F9A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-3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ข้อมูลในช่องสภาพของปัญห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ลักษณะของปัญหา และขนาด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ระยะเวลาที่เกิดปัญห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พื้นที่ที่ครอบคลุ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ูลค่าความเสียหายในปัจจุบัน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ประวัติการเกิดของปัญหาและความเสียหายย้อนหลั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ผลการดำเนินการแก้ไขในอดีต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-236520"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แนวโน้มของปัญหาในอนาคต และความเสียหาย    ที่อาจจะเกิด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D34-5AFE-43BF-A857-1E71C6A58AF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ตารางสรุปปัญหาและสาเหตุ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ัญห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าเหต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73C-C046-4FE4-B150-AA072023C2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ตารางสรุปประเด็นและข้อมูลพื้นฐานปัญห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ปัญห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E67D-507A-4526-B3D4-7D410BD7EF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ความต้องการที่ตอบสนองต่อปัญหา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ต้องกา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อบสนองต่อปัญห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ที่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ที่คาดว่าจะต้องใช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2EF-4AB1-43FC-8DE5-7633C996C6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ngsana New"/>
              </a:rPr>
              <a:t>ศักยภาพของท้องถิ่นหมายถึง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62485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ทางสังคมและวัฒนธรร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ด้านทรัพยากรมนุษย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ด้านทรัพยากรธรรมชาติและสิ่งแวดล้อม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ด้านสภาพภูมิประเทศและภูมิอากาศ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ต้นทุนทางด้านเทคโนโลยี และโครงสร้างพื้นฐาน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6" name=""/>
          <p:cNvSpPr/>
          <p:nvPr/>
        </p:nvSpPr>
        <p:spPr>
          <a:xfrm>
            <a:off x="1219320" y="5029200"/>
            <a:ext cx="6781680" cy="1434600"/>
          </a:xfrm>
          <a:prstGeom prst="rect">
            <a:avLst/>
          </a:prstGeom>
          <a:solidFill>
            <a:srgbClr val="f7f7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66"/>
                </a:solidFill>
                <a:latin typeface="Arial Narrow"/>
                <a:cs typeface="Angsana New"/>
              </a:rPr>
              <a:t>ที่จะสามารถนำมาพัฒนาให้เกิดมูลค่าเพิ่มขึ้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2A0-A111-4CF0-A3FD-0D554C10511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ศักยภาพ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ศักยภา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ใช้ศักยภา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ัจจุบั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อกาสในการพัฒน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ใช้เป็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ได้รับผล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ร้าง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ำ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................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จำเป็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. 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ได้รับผล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......</a:t>
                      </a:r>
                      <a:r>
                        <a:rPr b="1" lang="th-TH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5A4D-D7DC-492F-9924-789948A52C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ตารางสรุปประเด็นและข้อมูลพื้นฐานศักยภาพ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ศักยภาพ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E73-E233-4D4B-A995-1A93BADAB4D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ความต้องการที่ตอบสนองต่อศักยภาพ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ต้องกา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อบสนองต่อศักยภา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ที่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ที่คาดว่าจะต้องใช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C36-7683-4CEE-B86F-9A7E0D730A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ารางสรุปประเด็นและข้อมูลพื้นฐานยุทธศาสตร์แห่งรัฐ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600200" y="1066680"/>
          <a:ext cx="6095880" cy="5029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ฯ แห่งรัฐ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36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E41-98B9-4368-9027-7EACD0B5EB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0"/>
            <a:ext cx="8077320" cy="934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99"/>
                </a:solidFill>
                <a:latin typeface="Angsana New"/>
                <a:ea typeface="Angsana New"/>
              </a:rPr>
              <a:t>4. </a:t>
            </a:r>
            <a:r>
              <a:rPr b="1" lang="hi-IN" sz="6000" spc="-1" strike="noStrike">
                <a:solidFill>
                  <a:srgbClr val="99ff99"/>
                </a:solidFill>
                <a:latin typeface="Angsana New"/>
                <a:cs typeface="Angsana New"/>
              </a:rPr>
              <a:t>รูปแบบ</a:t>
            </a:r>
            <a:r>
              <a:rPr b="1" lang="en-US" sz="6000" spc="-1" strike="noStrike">
                <a:solidFill>
                  <a:srgbClr val="99ff99"/>
                </a:solidFill>
                <a:latin typeface="Angsana New"/>
                <a:ea typeface="Angsana New"/>
              </a:rPr>
              <a:t>/</a:t>
            </a:r>
            <a:r>
              <a:rPr b="1" lang="hi-IN" sz="6000" spc="-1" strike="noStrike">
                <a:solidFill>
                  <a:srgbClr val="99ff99"/>
                </a:solidFill>
                <a:latin typeface="Angsana New"/>
                <a:cs typeface="Angsana New"/>
              </a:rPr>
              <a:t>ประเด็นการติดตามประเมินผล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5. </a:t>
            </a:r>
            <a:r>
              <a:rPr b="1" lang="hi-IN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ารติดตามผลการปฏิบัติงานอย่างมีประสิทธิภาพ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6. </a:t>
            </a:r>
            <a:r>
              <a:rPr b="1" lang="hi-IN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การรายงานผลจากการติดตามและประเมินผลงาน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6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8C6-3939-4356-8476-B2DC6C4015B8}" type="slidenum">
              <a:t>3</a:t>
            </a:fld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้อมูลความต้องการที่ตอบสนองยุทธศาสตร์แห่งรัฐด้าน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..... </a:t>
            </a:r>
            <a:br>
              <a:rPr sz="3200"/>
            </a:b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บล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 </a:t>
            </a:r>
            <a:r>
              <a:rPr b="1" lang="hi-IN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ำเภอ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.......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57200" y="1295280"/>
          <a:ext cx="8229600" cy="5105520"/>
        </p:xfrm>
        <a:graphic>
          <a:graphicData uri="http://schemas.openxmlformats.org/drawingml/2006/table">
            <a:tbl>
              <a:tblPr/>
              <a:tblGrid>
                <a:gridCol w="609480"/>
                <a:gridCol w="2590920"/>
                <a:gridCol w="1600200"/>
                <a:gridCol w="1752480"/>
                <a:gridCol w="167652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ลำดับที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วามต้องการ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อบสนองต่อยุทธศาสตร์แห่งรั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ี่ตั้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ที่ได้รับประโยชน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/</a:t>
                      </a: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งบประมาณที่คาดว่าจะต้องใช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FCE-B982-47F0-A164-F4544F7D63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905120" y="45720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สรุปประเด็นหลักในการพัฒน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838080" y="1828800"/>
          <a:ext cx="7925040" cy="3987720"/>
        </p:xfrm>
        <a:graphic>
          <a:graphicData uri="http://schemas.openxmlformats.org/drawingml/2006/table">
            <a:tbl>
              <a:tblPr/>
              <a:tblGrid>
                <a:gridCol w="1981440"/>
                <a:gridCol w="1981080"/>
                <a:gridCol w="1981080"/>
                <a:gridCol w="1981440"/>
              </a:tblGrid>
              <a:tr h="25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สาเหตุของปัญห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ศักยภาพ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นโยบายท้องถิ่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่อนโยบายของรัฐ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72C-B268-4FA0-9108-261D6C557FA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ตารางวิเคราะห์ผลที่มุ่งมั่นให้สำเร็จ</a:t>
            </a:r>
            <a:br>
              <a:rPr sz="4400"/>
            </a:b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ตามประเด็น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685800" y="1981080"/>
          <a:ext cx="7772400" cy="39304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เด็นการพัฒน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สิ่งที่จะต้องทำให้เกิดหรือม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4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ลลัพธ์ที่มุ่งหวังสูงสุด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บริหารจัดการสิ่งแวดล้อมและมลพิ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ระบบบริหารจัดการสิ่งแวดล้อมที่ทันสมัยและพอเพีย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ท้องถิ่นสะอาด ปลอดมลพิ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.............................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448-9D74-40DC-9543-A195F2D9ABA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ngsana New"/>
              </a:rPr>
              <a:t>วิสัยทัศน์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ngsana New"/>
              </a:rPr>
              <a:t>คือ สภาพการณ์ที่เราปรารถนาให้เกิดขึ้นในอนาคต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2714760" y="3581280"/>
            <a:ext cx="2238120" cy="302436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3657600" y="2057400"/>
            <a:ext cx="3581280" cy="2057400"/>
            <a:chOff x="3657600" y="2057400"/>
            <a:chExt cx="3581280" cy="2057400"/>
          </a:xfrm>
        </p:grpSpPr>
        <p:sp>
          <p:nvSpPr>
            <p:cNvPr id="395" name=""/>
            <p:cNvSpPr/>
            <p:nvPr/>
          </p:nvSpPr>
          <p:spPr>
            <a:xfrm>
              <a:off x="3657600" y="2057400"/>
              <a:ext cx="3581280" cy="2057400"/>
            </a:xfrm>
            <a:prstGeom prst="cloudCallout">
              <a:avLst>
                <a:gd name="adj1" fmla="val -27129"/>
                <a:gd name="adj2" fmla="val 44828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2"/>
            <a:stretch/>
          </p:blipFill>
          <p:spPr>
            <a:xfrm>
              <a:off x="4019400" y="2295360"/>
              <a:ext cx="2818800" cy="14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"/>
          <p:cNvSpPr/>
          <p:nvPr/>
        </p:nvSpPr>
        <p:spPr>
          <a:xfrm>
            <a:off x="6019920" y="4648320"/>
            <a:ext cx="2895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rial Narrow"/>
                <a:cs typeface="Angsana New"/>
              </a:rPr>
              <a:t>เราอยากเป็นอะไ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AAA-AB34-4E4D-936B-2241C23AAA1F}" type="slidenum">
              <a:t>33</a:t>
            </a:fld>
          </a:p>
        </p:txBody>
      </p:sp>
    </p:spTree>
  </p:cSld>
  <p:transition>
    <p:cover dir="l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วิสัยทัศน์จะต้องเป็น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  <a:ea typeface="Angsana New"/>
              </a:rPr>
              <a:t>     </a:t>
            </a:r>
            <a:r>
              <a:rPr b="1" lang="th-TH" sz="17200" spc="-1" strike="noStrike">
                <a:solidFill>
                  <a:srgbClr val="000000"/>
                </a:solidFill>
                <a:latin typeface="Angsana New"/>
              </a:rPr>
              <a:t>จุด</a:t>
            </a:r>
            <a:endParaRPr b="0" lang="en-US" sz="17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มิใช่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1" lang="th-TH" sz="8000" spc="-1" strike="noStrike">
                <a:solidFill>
                  <a:srgbClr val="000000"/>
                </a:solidFill>
                <a:latin typeface="Angsana New"/>
              </a:rPr>
              <a:t>แนวทาง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0" name=""/>
          <p:cNvSpPr/>
          <p:nvPr/>
        </p:nvSpPr>
        <p:spPr>
          <a:xfrm>
            <a:off x="5292720" y="2276640"/>
            <a:ext cx="576360" cy="50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A89-50C3-499E-843A-E2D8584B794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00"/>
                </a:solidFill>
                <a:latin typeface="Angsana New"/>
              </a:rPr>
              <a:t>ลักษณะของวิสัยทัศน์ที่ดี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เป็นไปได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ล้ำหน้าและท้าทาย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จำได้แค่ชายต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สัญญาที่มุ่งมั่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เป็นสิ่งที่เราอยากสร้างสรรค์ที่จะชี้นำแนวทางดำเนินงา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B53-BF19-4884-BE99-56BDC129C6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395280" y="52560"/>
          <a:ext cx="8269200" cy="6805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2560"/>
                    <a:ext cx="8269200" cy="68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2F1-ED02-4EBC-AC2B-C37BAFBF02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ngsana New"/>
              </a:rPr>
              <a:t>การกำหนดภารกิจหลัก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พื่อทำ </a:t>
            </a:r>
            <a:r>
              <a:rPr b="1" lang="en-US" sz="6000" spc="-1" strike="noStrike">
                <a:solidFill>
                  <a:srgbClr val="000000"/>
                </a:solidFill>
                <a:latin typeface="Angsana New"/>
                <a:ea typeface="Angsana New"/>
              </a:rPr>
              <a:t>JD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438280" y="5486400"/>
            <a:ext cx="416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คำตอบคือ ภารกิจหลัก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205740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Narrow"/>
                <a:cs typeface="Angsana New"/>
              </a:rPr>
              <a:t>คือ การตอบคำถามว่า  “องค์กรของเราจัดตั้งขึ้นมาเพื่อมีหน้าที่หลักอะไร”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8FBD-71BC-499C-A113-4352980D356B}" type="slidenum">
              <a:t>37</a:t>
            </a:fld>
          </a:p>
        </p:txBody>
      </p:sp>
    </p:spTree>
  </p:cSld>
  <p:transition>
    <p:cover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000000"/>
                </a:solidFill>
                <a:latin typeface="Angsana New"/>
              </a:rPr>
              <a:t>การกำหนดพันธกิจหลัก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้องทราบปัญหา ความต้องการ และศักยภาพก่อ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้องทราบสถานภาพ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จุดแข็ง จุดอ่อน โอกาส และอุปสรรค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ก่อ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้องทราบวิสัยทัศน์ และจุดมุ่งหมายก่อ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-291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อบคำถามว่า ท้องถิ่นต้องทำอะไรเพื่อให้บรรลุวิสัยทัศน์และจุดมุ่งหมายที่กำหนดไว้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438280" y="5486400"/>
            <a:ext cx="4162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คำตอบคือ พันธกิจหลัก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0D1-50D6-425B-A884-7202DCB4CFD3}" type="slidenum">
              <a:t>38</a:t>
            </a:fld>
          </a:p>
        </p:txBody>
      </p:sp>
    </p:spTree>
  </p:cSld>
  <p:transition>
    <p:cover dir="l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การกำหนดจุดมุ่งหมายของการพัฒนาท้องถิ่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3" name=""/>
          <p:cNvSpPr/>
          <p:nvPr/>
        </p:nvSpPr>
        <p:spPr>
          <a:xfrm>
            <a:off x="1905120" y="1981080"/>
            <a:ext cx="5943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คือการตอบคำถามว่า การบรรลุวิสัยทัศน์ของท้องถิ่น จะต้องมี     ส่วนประกอบอะไรบ้าง หรือ จะต้องสร้างอะไรให้เกิดขึ้นบ้าง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D9A-EAE6-4888-A8D4-9C4FED44AA1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153280" cy="60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52856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ngsana New"/>
                <a:cs typeface="Angsana New"/>
              </a:rPr>
              <a:t>สิ่งที่ต้องรู้</a:t>
            </a:r>
            <a:br>
              <a:rPr sz="72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1.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งานในหน้าที่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  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(JD-Job Description)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2.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ทิศทางการพัฒนาของ อปท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.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3. 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การวางแผนทุกระดับ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4. 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การวิเคราะห์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SWOT </a:t>
            </a:r>
            <a:r>
              <a:rPr b="1" lang="en-US" sz="5900" spc="-1" strike="noStrike">
                <a:solidFill>
                  <a:srgbClr val="ff0066"/>
                </a:solidFill>
                <a:latin typeface="Angsana New"/>
                <a:cs typeface="Angsana New"/>
              </a:rPr>
              <a:t>ขององค์กร  </a:t>
            </a:r>
            <a:br>
              <a:rPr sz="5900"/>
            </a:br>
            <a:r>
              <a:rPr b="1" lang="en-US" sz="5900" spc="-1" strike="noStrike">
                <a:solidFill>
                  <a:srgbClr val="ff0066"/>
                </a:solidFill>
                <a:latin typeface="Angsana New"/>
                <a:ea typeface="Angsana New"/>
              </a:rPr>
              <a:t>     และพื้นที่</a:t>
            </a:r>
            <a:br>
              <a:rPr sz="5900"/>
            </a:br>
            <a:br>
              <a:rPr sz="5900"/>
            </a:br>
            <a:br>
              <a:rPr sz="5900"/>
            </a:br>
            <a:endParaRPr b="0" lang="en-US" sz="59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6BA-AF26-49BF-98C0-12EF9586EA8D}" type="slidenum">
              <a:t>4</a:t>
            </a:fld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การกำหนดจุดมุ่งหมา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52480" y="16761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ำหนดจากผลที่มุ่งมั่นจะให้เกิดจากการพัฒนาตามประเด็นในการพัฒนาที่ผ่านการวิเคราะห์ว่าเป็นไปได้ และเป็นปัจจัยที่สำคัญในการบรรลุวิสัยทัศน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698-AA5C-4872-A1B4-6B3D376C00A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ตารางวิเคราะห์เพื่อกำหนดยุทธศาสตร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345960" y="1371240"/>
            <a:ext cx="8226720" cy="4953240"/>
            <a:chOff x="345960" y="1371240"/>
            <a:chExt cx="8226720" cy="4953240"/>
          </a:xfrm>
        </p:grpSpPr>
        <p:grpSp>
          <p:nvGrpSpPr>
            <p:cNvPr id="418" name=""/>
            <p:cNvGrpSpPr/>
            <p:nvPr/>
          </p:nvGrpSpPr>
          <p:grpSpPr>
            <a:xfrm>
              <a:off x="533520" y="1447920"/>
              <a:ext cx="8001000" cy="4876560"/>
              <a:chOff x="533520" y="1447920"/>
              <a:chExt cx="8001000" cy="4876560"/>
            </a:xfrm>
          </p:grpSpPr>
          <p:sp>
            <p:nvSpPr>
              <p:cNvPr id="419" name=""/>
              <p:cNvSpPr/>
              <p:nvPr/>
            </p:nvSpPr>
            <p:spPr>
              <a:xfrm>
                <a:off x="533520" y="1447920"/>
                <a:ext cx="8001000" cy="48765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33520" y="2705040"/>
                <a:ext cx="800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97180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1972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0020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79132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38880" y="1447920"/>
                <a:ext cx="0" cy="487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45960" y="1599840"/>
              <a:ext cx="1425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ิสัยทัศน์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87000" y="1599840"/>
              <a:ext cx="1911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จุดมุ่งหมาย</a:t>
              </a: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/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ภารกิจหลัก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34920" y="1599840"/>
              <a:ext cx="1915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วัตถุประสงค์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81560" y="1599840"/>
              <a:ext cx="1427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เป้าหมาย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05080" y="158364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ตัวชี้วัด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113600" y="1371240"/>
              <a:ext cx="145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แนวทาง</a:t>
              </a:r>
              <a:r>
                <a:rPr b="0" lang="en-US" sz="2800" spc="-1" strike="noStrike">
                  <a:solidFill>
                    <a:srgbClr val="000000"/>
                  </a:solidFill>
                  <a:latin typeface="Angsana New"/>
                  <a:ea typeface="Angsana New"/>
                </a:rPr>
                <a:t>/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Angsana New"/>
                  <a:cs typeface="Angsana New"/>
                </a:rPr>
                <a:t>กลยุทธ์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727C-23E3-416E-897B-103863F8D7D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ngsana New"/>
              </a:rPr>
              <a:t>การกำหนดวัตถุประสงค์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การกำหนดความต้องการที่สอดคล้องกับจุดมุ่งหมาย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ความชัดเจน วัดผลได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ความเข้าใจตรงกัน และเห็นพ้องกั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ความเป็นไปได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* </a:t>
            </a: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มีกำหนดระยะเวลา สถานที่ที่แน่นอ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756-4295-4F8A-B530-1021904F11AE}" type="slidenum">
              <a:t>42</a:t>
            </a:fld>
          </a:p>
        </p:txBody>
      </p:sp>
    </p:spTree>
  </p:cSld>
  <p:transition>
    <p:cover dir="l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758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0" spc="-1" strike="noStrike">
                <a:solidFill>
                  <a:srgbClr val="ffff00"/>
                </a:solidFill>
                <a:latin typeface="Angsana New"/>
                <a:cs typeface="AngsanaUPC"/>
              </a:rPr>
              <a:t>วัตถุประสงค์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5" name=""/>
          <p:cNvSpPr/>
          <p:nvPr/>
        </p:nvSpPr>
        <p:spPr>
          <a:xfrm>
            <a:off x="497520" y="2560680"/>
            <a:ext cx="5066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ทำอะไร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ปริมาณ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ใช้เวลา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6" name=""/>
          <p:cNvSpPr/>
          <p:nvPr/>
        </p:nvSpPr>
        <p:spPr>
          <a:xfrm>
            <a:off x="669960" y="1614600"/>
            <a:ext cx="35971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บอก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  <a:ea typeface="AngsanaUPC"/>
              </a:rPr>
              <a:t>...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ช่วงเวลา</a:t>
            </a:r>
            <a:r>
              <a:rPr b="0" lang="th-TH" sz="4800" spc="-1" strike="noStrike">
                <a:solidFill>
                  <a:srgbClr val="ff0000"/>
                </a:solidFill>
                <a:latin typeface="Times New Roman"/>
                <a:cs typeface="AngsanaUPC"/>
              </a:rPr>
              <a:t>ทั้งหมด</a:t>
            </a:r>
            <a:r>
              <a:rPr b="0" lang="th-TH" sz="3200" spc="-1" strike="noStrike">
                <a:solidFill>
                  <a:srgbClr val="ffff00"/>
                </a:solidFill>
                <a:latin typeface="Times New Roman"/>
                <a:cs typeface="AngsanaUPC"/>
              </a:rPr>
              <a:t>ว่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C85-4EB4-4CFC-A7B3-1308B79E780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5000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685800" y="453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เป้าหมาย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8" name=""/>
          <p:cNvSpPr/>
          <p:nvPr/>
        </p:nvSpPr>
        <p:spPr>
          <a:xfrm>
            <a:off x="15840" y="2255760"/>
            <a:ext cx="5066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ทำอะไร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ปริมาณ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 </a:t>
            </a:r>
            <a:r>
              <a:rPr b="0" lang="hi-IN" sz="6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ใช้เวลาเท่าใ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9" name=""/>
          <p:cNvSpPr/>
          <p:nvPr/>
        </p:nvSpPr>
        <p:spPr>
          <a:xfrm>
            <a:off x="898560" y="1309680"/>
            <a:ext cx="48164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บอก</a:t>
            </a:r>
            <a:r>
              <a:rPr b="0" lang="th-TH" sz="3200" spc="-1" strike="noStrike">
                <a:solidFill>
                  <a:srgbClr val="3333cc"/>
                </a:solidFill>
                <a:latin typeface="Times New Roman"/>
                <a:ea typeface="AngsanaUPC"/>
              </a:rPr>
              <a:t>...</a:t>
            </a:r>
            <a:r>
              <a:rPr b="0" lang="th-TH" sz="3200" spc="-1" strike="noStrike">
                <a:solidFill>
                  <a:srgbClr val="66ff66"/>
                </a:solidFill>
                <a:latin typeface="Times New Roman"/>
                <a:ea typeface="AngsanaUPC"/>
              </a:rPr>
              <a:t> </a:t>
            </a:r>
            <a:r>
              <a:rPr b="0" lang="th-TH" sz="4800" spc="-1" strike="noStrike">
                <a:solidFill>
                  <a:srgbClr val="ff0000"/>
                </a:solidFill>
                <a:latin typeface="Times New Roman"/>
                <a:cs typeface="AngsanaUPC"/>
              </a:rPr>
              <a:t>แต่ละช่วงเวลา</a:t>
            </a:r>
            <a:r>
              <a:rPr b="0" lang="th-TH" sz="4800" spc="-1" strike="noStrike">
                <a:solidFill>
                  <a:srgbClr val="66ff66"/>
                </a:solidFill>
                <a:latin typeface="Times New Roman"/>
                <a:ea typeface="AngsanaUPC"/>
              </a:rPr>
              <a:t> </a:t>
            </a:r>
            <a:r>
              <a:rPr b="0" lang="th-TH" sz="32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ว่า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0" name=""/>
          <p:cNvSpPr/>
          <p:nvPr/>
        </p:nvSpPr>
        <p:spPr>
          <a:xfrm>
            <a:off x="5695560" y="3081240"/>
            <a:ext cx="408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วัตถุประสงค์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267080" y="2209680"/>
            <a:ext cx="2576520" cy="2895840"/>
            <a:chOff x="4267080" y="2209680"/>
            <a:chExt cx="2576520" cy="2895840"/>
          </a:xfrm>
        </p:grpSpPr>
        <p:sp>
          <p:nvSpPr>
            <p:cNvPr id="442" name=""/>
            <p:cNvSpPr/>
            <p:nvPr/>
          </p:nvSpPr>
          <p:spPr>
            <a:xfrm>
              <a:off x="4374000" y="3267000"/>
              <a:ext cx="2469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4000" spc="-1" strike="noStrike">
                  <a:solidFill>
                    <a:srgbClr val="000000"/>
                  </a:solidFill>
                  <a:latin typeface="Times New Roman"/>
                  <a:cs typeface="AngsanaUPC"/>
                </a:rPr>
                <a:t>รวมแล้ว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AngsanaUPC"/>
                </a:rPr>
                <a:t>= </a:t>
              </a:r>
              <a:endParaRPr b="0" lang="en-US" sz="40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67080" y="2209680"/>
              <a:ext cx="457200" cy="289584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5240 h 2895840"/>
                <a:gd name="textAreaBottom" fmla="*/ 2820600 h 2895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997E-A82D-4129-969C-B65066BAA83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00"/>
                </a:solidFill>
                <a:latin typeface="Angsana New"/>
              </a:rPr>
              <a:t>วิธีการกำหนดตัวชี้วัดผลสำเร็จ 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390320" y="220968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พิจารณาเป้าหมายที่กำหนดไว้จากยุทธศาสตร์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ตอบคำถาม “สิ่งใดที่ชี้บ่งว่าการดำเนินงานประสบ ผลสำเร็จตามเป้าหมาย”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สิ่งที่บ่งว่าการดำเนินงานประสบผลสำเร็จคือ 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505320" y="441972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ตัวชี้วัด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658F-3E82-4A4A-81C7-A08F0C7FD5F2}" type="slidenum">
              <a:t>45</a:t>
            </a:fld>
          </a:p>
        </p:txBody>
      </p:sp>
    </p:spTree>
  </p:cSld>
  <p:transition>
    <p:cover dir="l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ค่าของตัวชี้วั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ร้อยละ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Percentage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อัตราส่วน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Ratio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สัดส่วน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Proportion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อัตรา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Rate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จำนวน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Number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ค่าเฉลี่ย 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(Average or Mean)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F621-BEB0-47C4-A01B-4491DADCDE79}" type="slidenum">
              <a:t>46</a:t>
            </a:fld>
          </a:p>
        </p:txBody>
      </p:sp>
    </p:spTree>
  </p:cSld>
  <p:transition>
    <p:cover dir="l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1371600" y="6094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ตัวชี้วัดเชิงปริมาณ </a:t>
            </a:r>
            <a:r>
              <a:rPr b="1" lang="en-US" sz="4800" spc="-1" strike="noStrike">
                <a:solidFill>
                  <a:srgbClr val="000000"/>
                </a:solidFill>
                <a:latin typeface="Arial Narrow"/>
                <a:ea typeface="Angsana New"/>
              </a:rPr>
              <a:t>VS </a:t>
            </a:r>
            <a:r>
              <a:rPr b="1" lang="en-US" sz="4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ตัวชี้วัดเชิงคุณ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0" name=""/>
          <p:cNvSpPr/>
          <p:nvPr/>
        </p:nvSpPr>
        <p:spPr>
          <a:xfrm>
            <a:off x="1981080" y="2286000"/>
            <a:ext cx="59436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 Narrow"/>
                <a:cs typeface="Angsana New"/>
              </a:rPr>
              <a:t>เชิงปริมาณ ให้ดูที่ หน่วยนับ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rial Narrow"/>
                <a:cs typeface="Angsana New"/>
              </a:rPr>
              <a:t>เชิงคุณภาพ ให้ดูที่ สรรพคุณ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4C16-C602-4821-A0B2-D4085B8D3C0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มุมมองของการจัดทำดัชนีชี้วัดผลสำเร็จ 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(KPI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ผู้ใช้บริกา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องค์กร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นวัตกรรม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มุมมองด้านการเงิน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5029200" y="1828800"/>
            <a:ext cx="3819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alanced Scorecard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4" name=""/>
          <p:cNvSpPr/>
          <p:nvPr/>
        </p:nvSpPr>
        <p:spPr>
          <a:xfrm>
            <a:off x="6553080" y="2819520"/>
            <a:ext cx="6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 Narrow"/>
                <a:cs typeface="Angsana New"/>
              </a:rPr>
              <a:t>โด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5" name=""/>
          <p:cNvSpPr/>
          <p:nvPr/>
        </p:nvSpPr>
        <p:spPr>
          <a:xfrm>
            <a:off x="5105520" y="36576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Robert Kaplan &amp;David Norton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371600" y="4800600"/>
            <a:ext cx="2685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สำนักงาน ก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.</a:t>
            </a:r>
            <a:r>
              <a:rPr b="0" lang="hi-IN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พ</a:t>
            </a:r>
            <a:r>
              <a:rPr b="0" lang="en-US" sz="2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.</a:t>
            </a:r>
            <a:endParaRPr b="0" lang="en-US" sz="2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7" name=""/>
          <p:cNvSpPr/>
          <p:nvPr/>
        </p:nvSpPr>
        <p:spPr>
          <a:xfrm>
            <a:off x="5105520" y="5105520"/>
            <a:ext cx="3276360" cy="19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Narrow"/>
                <a:ea typeface="Angsana New"/>
              </a:rPr>
              <a:t>   </a:t>
            </a:r>
            <a:r>
              <a:rPr b="1" lang="th-TH" sz="2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มุมมองด้านประชาชนและ   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 Narrow"/>
                <a:ea typeface="Angsana New"/>
              </a:rPr>
              <a:t>    </a:t>
            </a:r>
            <a:r>
              <a:rPr b="1" lang="th-TH" sz="2800" spc="-1" strike="noStrike">
                <a:solidFill>
                  <a:srgbClr val="000000"/>
                </a:solidFill>
                <a:latin typeface="Arial Narrow"/>
                <a:cs typeface="Angsana New"/>
              </a:rPr>
              <a:t>ประเทศชาติ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8" name=""/>
          <p:cNvSpPr/>
          <p:nvPr/>
        </p:nvSpPr>
        <p:spPr>
          <a:xfrm>
            <a:off x="4267080" y="5334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5A63-8BA3-4DEF-97EE-B981A206D60A}" type="slidenum">
              <a:t>48</a:t>
            </a:fld>
          </a:p>
        </p:txBody>
      </p:sp>
    </p:spTree>
  </p:cSld>
  <p:transition>
    <p:cover dir="l"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เกณฑ์เปรียบเทียบเพื่อกำหนดตัวชี้วัด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กฎหมาย ระเบียบปฏิบัติ ข้อบังคับ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เกณฑ์มาตรฐานทางวิทยาศาสตร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-329040">
              <a:spcBef>
                <a:spcPts val="11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ngsana New"/>
              </a:rPr>
              <a:t>สถิติของการดำเนินการที่ผ่านมาทั้งจากภายในและภายนอก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323-DFFE-4096-A1DD-092272DAC5BA}" type="slidenum">
              <a:t>49</a:t>
            </a:fld>
          </a:p>
        </p:txBody>
      </p:sp>
    </p:spTree>
  </p:cSld>
  <p:transition>
    <p:cover dir="l"/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1280" y="1844640"/>
            <a:ext cx="8128080" cy="71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cc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 </a:t>
            </a:r>
            <a:r>
              <a:rPr b="1" lang="hi-IN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การตรวจติดตามงาน การปฏิบัติงาน เพื่อลดปัญหาที่เกิดขึ้นระหว่างการดำเนินงาน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cc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การติดตามเป็นเครื่องมือที่ใช้ควบคุมการดำเนินงานเพื่อปรับปรุง เปลี่ยนแปลงการปฏิบัติงานเมื่อมีปัญหา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ติดตาม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monitoring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42E7-4A7C-4812-916D-42F808563561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ปัจจัยในการกำหนดค่าตัวชี้วัด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ประเภทของค่าตัวชี้วั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ผลผลิต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หน่วยนับผลผลิต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ปริมาณผลผลิต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เกณฑ์เปรียบเทียบ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2514600" cy="252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073A-B425-4D55-9496-41426ED5787E}" type="slidenum">
              <a:t>50</a:t>
            </a:fld>
          </a:p>
        </p:txBody>
      </p:sp>
    </p:spTree>
  </p:cSld>
  <p:transition>
    <p:cover dir="l"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5" name=""/>
          <p:cNvSpPr/>
          <p:nvPr/>
        </p:nvSpPr>
        <p:spPr>
          <a:xfrm>
            <a:off x="5165640" y="5537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5537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ัดส่วนผู้บริหารชายหญิงเท่ากับ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:1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7" name=""/>
          <p:cNvSpPr/>
          <p:nvPr/>
        </p:nvSpPr>
        <p:spPr>
          <a:xfrm>
            <a:off x="5165640" y="501984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8" name=""/>
          <p:cNvSpPr/>
          <p:nvPr/>
        </p:nvSpPr>
        <p:spPr>
          <a:xfrm>
            <a:off x="990720" y="501984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มีผู้ว่างงานนอกฤดูการเกษตรร้อยละ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9" name=""/>
          <p:cNvSpPr/>
          <p:nvPr/>
        </p:nvSpPr>
        <p:spPr>
          <a:xfrm>
            <a:off x="5165640" y="4502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0" name=""/>
          <p:cNvSpPr/>
          <p:nvPr/>
        </p:nvSpPr>
        <p:spPr>
          <a:xfrm>
            <a:off x="990720" y="4502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ชช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มีรายได้ต่อหัวให้ถึ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มื่น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1" name=""/>
          <p:cNvSpPr/>
          <p:nvPr/>
        </p:nvSpPr>
        <p:spPr>
          <a:xfrm>
            <a:off x="5165640" y="398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2" name=""/>
          <p:cNvSpPr/>
          <p:nvPr/>
        </p:nvSpPr>
        <p:spPr>
          <a:xfrm>
            <a:off x="990720" y="398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อัตราผู้ติดยาเสพติด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ั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3" name=""/>
          <p:cNvSpPr/>
          <p:nvPr/>
        </p:nvSpPr>
        <p:spPr>
          <a:xfrm>
            <a:off x="5165640" y="3467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4" name=""/>
          <p:cNvSpPr/>
          <p:nvPr/>
        </p:nvSpPr>
        <p:spPr>
          <a:xfrm>
            <a:off x="990720" y="3467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พิ่มอัตราส่วนครูต่อนักเรียนเป็น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:20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5" name=""/>
          <p:cNvSpPr/>
          <p:nvPr/>
        </p:nvSpPr>
        <p:spPr>
          <a:xfrm>
            <a:off x="5165640" y="2949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2949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ค่าเฉลี่ย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7" name=""/>
          <p:cNvSpPr/>
          <p:nvPr/>
        </p:nvSpPr>
        <p:spPr>
          <a:xfrm>
            <a:off x="5165640" y="2432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8" name=""/>
          <p:cNvSpPr/>
          <p:nvPr/>
        </p:nvSpPr>
        <p:spPr>
          <a:xfrm>
            <a:off x="990720" y="2432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่อสร้างถนนคอนกรีตสิบ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9" name=""/>
          <p:cNvSpPr/>
          <p:nvPr/>
        </p:nvSpPr>
        <p:spPr>
          <a:xfrm>
            <a:off x="5165640" y="191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0" name=""/>
          <p:cNvSpPr/>
          <p:nvPr/>
        </p:nvSpPr>
        <p:spPr>
          <a:xfrm>
            <a:off x="990720" y="191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ฝึกอบรมอาชีพสองพันค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990720" y="1397160"/>
            <a:ext cx="7010280" cy="4657680"/>
            <a:chOff x="990720" y="1397160"/>
            <a:chExt cx="7010280" cy="4657680"/>
          </a:xfrm>
        </p:grpSpPr>
        <p:sp>
          <p:nvSpPr>
            <p:cNvPr id="482" name=""/>
            <p:cNvSpPr/>
            <p:nvPr/>
          </p:nvSpPr>
          <p:spPr>
            <a:xfrm>
              <a:off x="5165640" y="1397160"/>
              <a:ext cx="283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เชิงปริมาณ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0720" y="1397160"/>
              <a:ext cx="4174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เป้าหมาย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90720" y="139716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90720" y="191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90720" y="243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90720" y="2949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90720" y="346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90720" y="398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90720" y="450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90720" y="501984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90720" y="553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90720" y="605484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9072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65640" y="1397160"/>
              <a:ext cx="0" cy="465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00100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54E-486C-446F-86FE-77BA5F9E49C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8" name=""/>
          <p:cNvSpPr/>
          <p:nvPr/>
        </p:nvSpPr>
        <p:spPr>
          <a:xfrm>
            <a:off x="5165640" y="5537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9" name=""/>
          <p:cNvSpPr/>
          <p:nvPr/>
        </p:nvSpPr>
        <p:spPr>
          <a:xfrm>
            <a:off x="990720" y="5537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ผลิตครกให้ได้สามหมื่นใ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0" name=""/>
          <p:cNvSpPr/>
          <p:nvPr/>
        </p:nvSpPr>
        <p:spPr>
          <a:xfrm>
            <a:off x="5165640" y="501984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501984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ร้างงานในชุมชนให้ได้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00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2" name=""/>
          <p:cNvSpPr/>
          <p:nvPr/>
        </p:nvSpPr>
        <p:spPr>
          <a:xfrm>
            <a:off x="5165640" y="450216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3" name=""/>
          <p:cNvSpPr/>
          <p:nvPr/>
        </p:nvSpPr>
        <p:spPr>
          <a:xfrm>
            <a:off x="990720" y="450216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พิ่มรายได้ต่อหัวให้ถึ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มื่น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4" name=""/>
          <p:cNvSpPr/>
          <p:nvPr/>
        </p:nvSpPr>
        <p:spPr>
          <a:xfrm>
            <a:off x="5165640" y="398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5" name=""/>
          <p:cNvSpPr/>
          <p:nvPr/>
        </p:nvSpPr>
        <p:spPr>
          <a:xfrm>
            <a:off x="990720" y="398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อัตราผู้ติดยาเสพติด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ั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6" name=""/>
          <p:cNvSpPr/>
          <p:nvPr/>
        </p:nvSpPr>
        <p:spPr>
          <a:xfrm>
            <a:off x="5165640" y="3467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7" name=""/>
          <p:cNvSpPr/>
          <p:nvPr/>
        </p:nvSpPr>
        <p:spPr>
          <a:xfrm>
            <a:off x="990720" y="3467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พื้นที่น้ำท่วม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ร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8" name=""/>
          <p:cNvSpPr/>
          <p:nvPr/>
        </p:nvSpPr>
        <p:spPr>
          <a:xfrm>
            <a:off x="5165640" y="2949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9" name=""/>
          <p:cNvSpPr/>
          <p:nvPr/>
        </p:nvSpPr>
        <p:spPr>
          <a:xfrm>
            <a:off x="990720" y="2949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ลดค่าเฉลี่ย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0" name=""/>
          <p:cNvSpPr/>
          <p:nvPr/>
        </p:nvSpPr>
        <p:spPr>
          <a:xfrm>
            <a:off x="5165640" y="2432160"/>
            <a:ext cx="2835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432160"/>
            <a:ext cx="4174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่อสร้างถนนคอนกรีตสาม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2" name=""/>
          <p:cNvSpPr/>
          <p:nvPr/>
        </p:nvSpPr>
        <p:spPr>
          <a:xfrm>
            <a:off x="5165640" y="1914480"/>
            <a:ext cx="2835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3" name=""/>
          <p:cNvSpPr/>
          <p:nvPr/>
        </p:nvSpPr>
        <p:spPr>
          <a:xfrm>
            <a:off x="990720" y="1914480"/>
            <a:ext cx="4174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่อสร้างศาลาพักร้อนห้าหลั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990720" y="1397160"/>
            <a:ext cx="7010280" cy="4657680"/>
            <a:chOff x="990720" y="1397160"/>
            <a:chExt cx="7010280" cy="4657680"/>
          </a:xfrm>
        </p:grpSpPr>
        <p:sp>
          <p:nvSpPr>
            <p:cNvPr id="515" name=""/>
            <p:cNvSpPr/>
            <p:nvPr/>
          </p:nvSpPr>
          <p:spPr>
            <a:xfrm>
              <a:off x="5165640" y="1397160"/>
              <a:ext cx="283536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90720" y="1397160"/>
              <a:ext cx="417492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วัตถุประสงค์ 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AngsanaUPC"/>
                </a:rPr>
                <a:t>(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เพื่อ</a:t>
              </a: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ea typeface="AngsanaUPC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90720" y="139716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990720" y="191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90720" y="243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990720" y="2949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346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90720" y="398448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0720" y="4502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990720" y="501984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90720" y="5537160"/>
              <a:ext cx="701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90720" y="6054840"/>
              <a:ext cx="70102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9072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165640" y="1397160"/>
              <a:ext cx="0" cy="465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001000" y="1397160"/>
              <a:ext cx="0" cy="4657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530-BD50-4B55-8FC0-B635111D08A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28600" y="566424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ผลิตครกให้ได้สามหมื่นใ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514656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สร้างงานในชุมชนให้ได้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100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ตำแหน่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62924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เพิ่มรายได้ต่อหัวให้ถึง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หมื่น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411156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ลดอัตราผู้ติดยาเสพติด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1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พั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4" name=""/>
          <p:cNvSpPr/>
          <p:nvPr/>
        </p:nvSpPr>
        <p:spPr>
          <a:xfrm>
            <a:off x="228600" y="359424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ลดพื้นที่น้ำท่วมให้เหลือ 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</a:rPr>
              <a:t>3 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ตร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.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ม</a:t>
            </a:r>
            <a:r>
              <a:rPr b="1" lang="th-TH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" y="307656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ลดค่าเฉลี่ย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6" name=""/>
          <p:cNvSpPr/>
          <p:nvPr/>
        </p:nvSpPr>
        <p:spPr>
          <a:xfrm>
            <a:off x="228600" y="2558880"/>
            <a:ext cx="4116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่อสร้างถนนคอนกรีตสาม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7" name=""/>
          <p:cNvSpPr/>
          <p:nvPr/>
        </p:nvSpPr>
        <p:spPr>
          <a:xfrm>
            <a:off x="228600" y="2041560"/>
            <a:ext cx="41162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</a:rPr>
              <a:t>ก่อสร้างศาลาพักร้อนห้าหลั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8" name=""/>
          <p:cNvSpPr/>
          <p:nvPr/>
        </p:nvSpPr>
        <p:spPr>
          <a:xfrm>
            <a:off x="4344840" y="566424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9" name=""/>
          <p:cNvSpPr/>
          <p:nvPr/>
        </p:nvSpPr>
        <p:spPr>
          <a:xfrm>
            <a:off x="4344840" y="514656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0" name=""/>
          <p:cNvSpPr/>
          <p:nvPr/>
        </p:nvSpPr>
        <p:spPr>
          <a:xfrm>
            <a:off x="4344840" y="462924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1" name=""/>
          <p:cNvSpPr/>
          <p:nvPr/>
        </p:nvSpPr>
        <p:spPr>
          <a:xfrm>
            <a:off x="4344840" y="411156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2" name=""/>
          <p:cNvSpPr/>
          <p:nvPr/>
        </p:nvSpPr>
        <p:spPr>
          <a:xfrm>
            <a:off x="4344840" y="359424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3" name=""/>
          <p:cNvSpPr/>
          <p:nvPr/>
        </p:nvSpPr>
        <p:spPr>
          <a:xfrm>
            <a:off x="4344840" y="307656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4" name=""/>
          <p:cNvSpPr/>
          <p:nvPr/>
        </p:nvSpPr>
        <p:spPr>
          <a:xfrm>
            <a:off x="4344840" y="2558880"/>
            <a:ext cx="2513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5" name=""/>
          <p:cNvSpPr/>
          <p:nvPr/>
        </p:nvSpPr>
        <p:spPr>
          <a:xfrm>
            <a:off x="4344840" y="2041560"/>
            <a:ext cx="25131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566424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0" y="514656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0" y="462924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49" name=""/>
          <p:cNvSpPr/>
          <p:nvPr/>
        </p:nvSpPr>
        <p:spPr>
          <a:xfrm>
            <a:off x="6858000" y="411156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0" name=""/>
          <p:cNvSpPr/>
          <p:nvPr/>
        </p:nvSpPr>
        <p:spPr>
          <a:xfrm>
            <a:off x="6858000" y="359424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1" name=""/>
          <p:cNvSpPr/>
          <p:nvPr/>
        </p:nvSpPr>
        <p:spPr>
          <a:xfrm>
            <a:off x="6858000" y="307656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2" name=""/>
          <p:cNvSpPr/>
          <p:nvPr/>
        </p:nvSpPr>
        <p:spPr>
          <a:xfrm>
            <a:off x="6858000" y="255888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3" name=""/>
          <p:cNvSpPr/>
          <p:nvPr/>
        </p:nvSpPr>
        <p:spPr>
          <a:xfrm>
            <a:off x="6858000" y="204156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28600" y="1523880"/>
            <a:ext cx="8686800" cy="4657680"/>
            <a:chOff x="228600" y="1523880"/>
            <a:chExt cx="8686800" cy="4657680"/>
          </a:xfrm>
        </p:grpSpPr>
        <p:sp>
          <p:nvSpPr>
            <p:cNvPr id="555" name=""/>
            <p:cNvSpPr/>
            <p:nvPr/>
          </p:nvSpPr>
          <p:spPr>
            <a:xfrm>
              <a:off x="228600" y="3594240"/>
              <a:ext cx="0" cy="51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28600" y="4111560"/>
              <a:ext cx="0" cy="207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228600" y="1523880"/>
              <a:ext cx="8686800" cy="4657680"/>
              <a:chOff x="228600" y="1523880"/>
              <a:chExt cx="8686800" cy="4657680"/>
            </a:xfrm>
          </p:grpSpPr>
          <p:sp>
            <p:nvSpPr>
              <p:cNvPr id="558" name=""/>
              <p:cNvSpPr/>
              <p:nvPr/>
            </p:nvSpPr>
            <p:spPr>
              <a:xfrm>
                <a:off x="228600" y="1523880"/>
                <a:ext cx="411624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วัตถุประสงค์ 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(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เพื่อ</a:t>
                </a: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)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344840" y="1523880"/>
                <a:ext cx="251316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ตัวชี้วัด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858000" y="1523880"/>
                <a:ext cx="205740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</a:rPr>
                  <a:t>ผลผลิต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28600" y="1523880"/>
                <a:ext cx="8686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28600" y="2041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28600" y="255888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28600" y="3076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28600" y="359424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28600" y="4111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600" y="462924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28600" y="514656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28600" y="5664240"/>
                <a:ext cx="8686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28600" y="6181560"/>
                <a:ext cx="86868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523880"/>
                <a:ext cx="0" cy="46576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28600" y="1523880"/>
                <a:ext cx="0" cy="2070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85800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4484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879-E726-42EA-961A-7F12AA89CA8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124080" y="5664240"/>
            <a:ext cx="2514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7" name=""/>
          <p:cNvSpPr/>
          <p:nvPr/>
        </p:nvSpPr>
        <p:spPr>
          <a:xfrm>
            <a:off x="3124080" y="514656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8" name=""/>
          <p:cNvSpPr/>
          <p:nvPr/>
        </p:nvSpPr>
        <p:spPr>
          <a:xfrm>
            <a:off x="3124080" y="4629240"/>
            <a:ext cx="2514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411156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3594240"/>
            <a:ext cx="2514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1" name=""/>
          <p:cNvSpPr/>
          <p:nvPr/>
        </p:nvSpPr>
        <p:spPr>
          <a:xfrm>
            <a:off x="3124080" y="307656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2" name=""/>
          <p:cNvSpPr/>
          <p:nvPr/>
        </p:nvSpPr>
        <p:spPr>
          <a:xfrm>
            <a:off x="3124080" y="255888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3" name=""/>
          <p:cNvSpPr/>
          <p:nvPr/>
        </p:nvSpPr>
        <p:spPr>
          <a:xfrm>
            <a:off x="3124080" y="1981080"/>
            <a:ext cx="2514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4" name=""/>
          <p:cNvSpPr/>
          <p:nvPr/>
        </p:nvSpPr>
        <p:spPr>
          <a:xfrm>
            <a:off x="228600" y="566424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ครกที่ผลิตได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5" name=""/>
          <p:cNvSpPr/>
          <p:nvPr/>
        </p:nvSpPr>
        <p:spPr>
          <a:xfrm>
            <a:off x="228600" y="514656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งานที่มีการจ้า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6" name=""/>
          <p:cNvSpPr/>
          <p:nvPr/>
        </p:nvSpPr>
        <p:spPr>
          <a:xfrm>
            <a:off x="228600" y="462924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ายได้ต่อหั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7" name=""/>
          <p:cNvSpPr/>
          <p:nvPr/>
        </p:nvSpPr>
        <p:spPr>
          <a:xfrm>
            <a:off x="228600" y="411156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อัตราผู้ติดย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359424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ื้นที่น้ำท่วมที่เหล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89" name=""/>
          <p:cNvSpPr/>
          <p:nvPr/>
        </p:nvSpPr>
        <p:spPr>
          <a:xfrm>
            <a:off x="228600" y="307656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0" name=""/>
          <p:cNvSpPr/>
          <p:nvPr/>
        </p:nvSpPr>
        <p:spPr>
          <a:xfrm>
            <a:off x="228600" y="2558880"/>
            <a:ext cx="2895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วามยาวถน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1" name=""/>
          <p:cNvSpPr/>
          <p:nvPr/>
        </p:nvSpPr>
        <p:spPr>
          <a:xfrm>
            <a:off x="228600" y="2041560"/>
            <a:ext cx="2895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ศาลาที่สร้างเสร็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2" name=""/>
          <p:cNvSpPr/>
          <p:nvPr/>
        </p:nvSpPr>
        <p:spPr>
          <a:xfrm>
            <a:off x="5638680" y="566424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3" name=""/>
          <p:cNvSpPr/>
          <p:nvPr/>
        </p:nvSpPr>
        <p:spPr>
          <a:xfrm>
            <a:off x="5638680" y="514656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4" name=""/>
          <p:cNvSpPr/>
          <p:nvPr/>
        </p:nvSpPr>
        <p:spPr>
          <a:xfrm>
            <a:off x="5638680" y="462924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5" name=""/>
          <p:cNvSpPr/>
          <p:nvPr/>
        </p:nvSpPr>
        <p:spPr>
          <a:xfrm>
            <a:off x="5638680" y="411156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359424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7" name=""/>
          <p:cNvSpPr/>
          <p:nvPr/>
        </p:nvSpPr>
        <p:spPr>
          <a:xfrm>
            <a:off x="5638680" y="307656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8" name=""/>
          <p:cNvSpPr/>
          <p:nvPr/>
        </p:nvSpPr>
        <p:spPr>
          <a:xfrm>
            <a:off x="5638680" y="2558880"/>
            <a:ext cx="3200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99" name=""/>
          <p:cNvSpPr/>
          <p:nvPr/>
        </p:nvSpPr>
        <p:spPr>
          <a:xfrm>
            <a:off x="5638680" y="2041560"/>
            <a:ext cx="3200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228600" y="1523880"/>
            <a:ext cx="8610480" cy="4657680"/>
            <a:chOff x="228600" y="1523880"/>
            <a:chExt cx="8610480" cy="4657680"/>
          </a:xfrm>
        </p:grpSpPr>
        <p:sp>
          <p:nvSpPr>
            <p:cNvPr id="601" name=""/>
            <p:cNvSpPr/>
            <p:nvPr/>
          </p:nvSpPr>
          <p:spPr>
            <a:xfrm>
              <a:off x="228600" y="6181560"/>
              <a:ext cx="8610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228600" y="1523880"/>
              <a:ext cx="8610480" cy="4657680"/>
              <a:chOff x="228600" y="1523880"/>
              <a:chExt cx="8610480" cy="4657680"/>
            </a:xfrm>
          </p:grpSpPr>
          <p:sp>
            <p:nvSpPr>
              <p:cNvPr id="603" name=""/>
              <p:cNvSpPr/>
              <p:nvPr/>
            </p:nvSpPr>
            <p:spPr>
              <a:xfrm>
                <a:off x="3124080" y="1523880"/>
                <a:ext cx="251460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  <a:cs typeface="AngsanaUPC"/>
                  </a:rPr>
                  <a:t>หน่วยนับ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28600" y="1523880"/>
                <a:ext cx="289548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  <a:cs typeface="AngsanaUPC"/>
                  </a:rPr>
                  <a:t>ตัวชี้วัด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638680" y="1523880"/>
                <a:ext cx="3200400" cy="51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800" spc="-1" strike="noStrike">
                    <a:solidFill>
                      <a:srgbClr val="000000"/>
                    </a:solidFill>
                    <a:latin typeface="Angsana New"/>
                    <a:cs typeface="AngsanaUPC"/>
                  </a:rPr>
                  <a:t>ผลผลิต</a:t>
                </a:r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28600" y="1523880"/>
                <a:ext cx="86104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28600" y="2041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28600" y="255888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28600" y="3076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8600" y="359424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28600" y="4111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28600" y="462924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28600" y="514656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28600" y="5664240"/>
                <a:ext cx="861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839080" y="1523880"/>
                <a:ext cx="0" cy="46576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28600" y="3594240"/>
                <a:ext cx="0" cy="51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28600" y="1523880"/>
                <a:ext cx="0" cy="20703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28600" y="4111560"/>
                <a:ext cx="0" cy="20700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12408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38680" y="1523880"/>
                <a:ext cx="0" cy="465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ngsana New"/>
                </a:endParaRPr>
              </a:p>
            </p:txBody>
          </p:sp>
        </p:grpSp>
      </p:grpSp>
      <p:sp>
        <p:nvSpPr>
          <p:cNvPr id="621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C12B-9320-4BB8-AED3-A29A9692F32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2819520" y="575640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รก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523872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จ้างงา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4" name=""/>
          <p:cNvSpPr/>
          <p:nvPr/>
        </p:nvSpPr>
        <p:spPr>
          <a:xfrm>
            <a:off x="2819520" y="472140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งินรายได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5" name=""/>
          <p:cNvSpPr/>
          <p:nvPr/>
        </p:nvSpPr>
        <p:spPr>
          <a:xfrm>
            <a:off x="2819520" y="420372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ผู้ติดยาฯที่ลดล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6" name=""/>
          <p:cNvSpPr/>
          <p:nvPr/>
        </p:nvSpPr>
        <p:spPr>
          <a:xfrm>
            <a:off x="2819520" y="368604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ื้นที่ที่น้ำไม่ท่ว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7" name=""/>
          <p:cNvSpPr/>
          <p:nvPr/>
        </p:nvSpPr>
        <p:spPr>
          <a:xfrm>
            <a:off x="2819520" y="316872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ิมาณขยะที่ลด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651040"/>
            <a:ext cx="19047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ถนนคอนกรีต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9" name=""/>
          <p:cNvSpPr/>
          <p:nvPr/>
        </p:nvSpPr>
        <p:spPr>
          <a:xfrm>
            <a:off x="2819520" y="2133720"/>
            <a:ext cx="19047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ศาล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0" name=""/>
          <p:cNvSpPr/>
          <p:nvPr/>
        </p:nvSpPr>
        <p:spPr>
          <a:xfrm>
            <a:off x="4724280" y="575640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บ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1" name=""/>
          <p:cNvSpPr/>
          <p:nvPr/>
        </p:nvSpPr>
        <p:spPr>
          <a:xfrm>
            <a:off x="4724280" y="523872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2" name=""/>
          <p:cNvSpPr/>
          <p:nvPr/>
        </p:nvSpPr>
        <p:spPr>
          <a:xfrm>
            <a:off x="4724280" y="472140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บาท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3" name=""/>
          <p:cNvSpPr/>
          <p:nvPr/>
        </p:nvSpPr>
        <p:spPr>
          <a:xfrm>
            <a:off x="4724280" y="420372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นต่อพันค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4" name=""/>
          <p:cNvSpPr/>
          <p:nvPr/>
        </p:nvSpPr>
        <p:spPr>
          <a:xfrm>
            <a:off x="4724280" y="368604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าราง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5" name=""/>
          <p:cNvSpPr/>
          <p:nvPr/>
        </p:nvSpPr>
        <p:spPr>
          <a:xfrm>
            <a:off x="4724280" y="316872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ิโลกรัม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6" name=""/>
          <p:cNvSpPr/>
          <p:nvPr/>
        </p:nvSpPr>
        <p:spPr>
          <a:xfrm>
            <a:off x="4724280" y="2651040"/>
            <a:ext cx="17528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ิโลเมตร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7" name=""/>
          <p:cNvSpPr/>
          <p:nvPr/>
        </p:nvSpPr>
        <p:spPr>
          <a:xfrm>
            <a:off x="4724280" y="2133720"/>
            <a:ext cx="17528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ลั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8" name=""/>
          <p:cNvSpPr/>
          <p:nvPr/>
        </p:nvSpPr>
        <p:spPr>
          <a:xfrm>
            <a:off x="228600" y="575640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ครกที่ผลิตได้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" y="523872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งานที่มีการจ้าง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" y="472140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ายได้ต่อหัว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1" name=""/>
          <p:cNvSpPr/>
          <p:nvPr/>
        </p:nvSpPr>
        <p:spPr>
          <a:xfrm>
            <a:off x="228600" y="420372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อัตราผู้ติดยา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2" name=""/>
          <p:cNvSpPr/>
          <p:nvPr/>
        </p:nvSpPr>
        <p:spPr>
          <a:xfrm>
            <a:off x="228600" y="368604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ื้นที่น้ำท่วมที่เหลือ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3" name=""/>
          <p:cNvSpPr/>
          <p:nvPr/>
        </p:nvSpPr>
        <p:spPr>
          <a:xfrm>
            <a:off x="228600" y="316872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ิมาณขยะต่อครัวเรือ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4" name=""/>
          <p:cNvSpPr/>
          <p:nvPr/>
        </p:nvSpPr>
        <p:spPr>
          <a:xfrm>
            <a:off x="228600" y="2651040"/>
            <a:ext cx="2590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วามยาวถนน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" y="2133720"/>
            <a:ext cx="25909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ำนวนศาลาที่สร้างเสร็จ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472140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7" name=""/>
          <p:cNvSpPr/>
          <p:nvPr/>
        </p:nvSpPr>
        <p:spPr>
          <a:xfrm>
            <a:off x="6477120" y="4203720"/>
            <a:ext cx="20574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8" name=""/>
          <p:cNvSpPr/>
          <p:nvPr/>
        </p:nvSpPr>
        <p:spPr>
          <a:xfrm>
            <a:off x="6477120" y="316872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9" name=""/>
          <p:cNvSpPr/>
          <p:nvPr/>
        </p:nvSpPr>
        <p:spPr>
          <a:xfrm>
            <a:off x="6324480" y="2666880"/>
            <a:ext cx="2362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0" name=""/>
          <p:cNvSpPr/>
          <p:nvPr/>
        </p:nvSpPr>
        <p:spPr>
          <a:xfrm>
            <a:off x="6477120" y="2133720"/>
            <a:ext cx="2057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28600" y="1523880"/>
            <a:ext cx="8305920" cy="4749840"/>
            <a:chOff x="228600" y="1523880"/>
            <a:chExt cx="8305920" cy="4749840"/>
          </a:xfrm>
        </p:grpSpPr>
        <p:sp>
          <p:nvSpPr>
            <p:cNvPr id="652" name=""/>
            <p:cNvSpPr/>
            <p:nvPr/>
          </p:nvSpPr>
          <p:spPr>
            <a:xfrm>
              <a:off x="2819520" y="1523880"/>
              <a:ext cx="1904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ผลผลิต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724280" y="1523880"/>
              <a:ext cx="17528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หน่วยนับ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28600" y="1523880"/>
              <a:ext cx="2590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7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เชิงปริมาณ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477120" y="1523880"/>
              <a:ext cx="20574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800" spc="-1" strike="noStrike">
                  <a:solidFill>
                    <a:srgbClr val="000000"/>
                  </a:solidFill>
                  <a:latin typeface="Angsana New"/>
                  <a:cs typeface="AngsanaUPC"/>
                </a:rPr>
                <a:t>ตัวชี้วัดเชิงคุณภาพ</a:t>
              </a:r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8600" y="1523880"/>
              <a:ext cx="830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28600" y="2133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8600" y="265104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8600" y="3168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368604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28600" y="4203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28600" y="472140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28600" y="523872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28600" y="575640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8600" y="6273720"/>
              <a:ext cx="8305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534520" y="1523880"/>
              <a:ext cx="0" cy="474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8600" y="368604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8600" y="1523880"/>
              <a:ext cx="0" cy="21621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8600" y="4203720"/>
              <a:ext cx="0" cy="2070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19520" y="1523880"/>
              <a:ext cx="0" cy="474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77120" y="1523880"/>
              <a:ext cx="0" cy="474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724280" y="1523880"/>
              <a:ext cx="0" cy="474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ngsana New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905120" y="30492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บบฝึกตัวชี้วัดผลสำเร็จ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KPI)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4" name=""/>
          <p:cNvSpPr/>
          <p:nvPr/>
        </p:nvSpPr>
        <p:spPr>
          <a:xfrm>
            <a:off x="6606000" y="3659040"/>
            <a:ext cx="6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5" name=""/>
          <p:cNvSpPr/>
          <p:nvPr/>
        </p:nvSpPr>
        <p:spPr>
          <a:xfrm>
            <a:off x="6765840" y="5259240"/>
            <a:ext cx="176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6" name=""/>
          <p:cNvSpPr/>
          <p:nvPr/>
        </p:nvSpPr>
        <p:spPr>
          <a:xfrm>
            <a:off x="6477120" y="57927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UPC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719-450D-4BD5-963E-88EE0A52B14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แปลงจุดมุ่งหมายไปสู่เป้าหมาย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95280" y="1676520"/>
          <a:ext cx="8497800" cy="441648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2B1E-2884-4CBF-9947-28EEDB931839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แปลงจุดมุ่งหมายไปสู่เป้าหมาย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395280" y="1676520"/>
          <a:ext cx="8497800" cy="470844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บริการโครงสร้างพื้นฐานครบถ้ว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ระยะทางถนนที่ได้รับการซ่อ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ครัวเรือนที่มีไฟฟ้าใช้เพิ่มขึ้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ถนนชำรุดเสียห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ม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า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ม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ครัวเรือนไม่มีไฟฟ้าใช้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 จาก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ม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รัวเรือ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953-BAB8-42AC-8D8C-036256AF889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ตัวอย่างการแปลงจุดมุ่งหมายไปสู่เป้าหมายการพัฒน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395280" y="1676520"/>
          <a:ext cx="8497800" cy="456228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มีรายได้ต่อหัวต่อปีสูงกว่าเส้นความยากจน หรือ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หมื่น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มีรายได้ต่อหัวทีผ่านเกณฑ์ความยากจนที่เพิ่มขึ้นต่อป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มีรายได้ต่อหัวต่อปีต่ำกว่าเกณฑ์ จำนวน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พันคน จากจำนวนประชากร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หมื่นค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5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F5A-1B74-4423-A78A-0EBBE8335254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ngsana New"/>
              </a:rPr>
              <a:t>ตัวอย่างการแปลงจุดมุ่งหมายไปสู่เป้าหมายการพัฒนา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395280" y="1676520"/>
          <a:ext cx="8497800" cy="4708440"/>
        </p:xfrm>
        <a:graphic>
          <a:graphicData uri="http://schemas.openxmlformats.org/drawingml/2006/table">
            <a:tbl>
              <a:tblPr/>
              <a:tblGrid>
                <a:gridCol w="1440000"/>
                <a:gridCol w="1081080"/>
                <a:gridCol w="1726920"/>
                <a:gridCol w="1008360"/>
                <a:gridCol w="649080"/>
                <a:gridCol w="647640"/>
                <a:gridCol w="648000"/>
                <a:gridCol w="647640"/>
                <a:gridCol w="6490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ุดมุ่งหมายเพื่อการพัฒนาท้องถิ่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Goal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KP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้อมูลพื้นฐาน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Baseline Da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Targe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–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3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.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ผู้ที่มีอายุตั้งแต่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ขึ้นไปรู้หนังสือ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อร์เซนต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ร้อยละของผู้ที่รู้หนังสื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อายุ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ขึ้นไป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.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ที่รู้หนังสือที่เพิ่มขึ้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ระชาชนที่มีอายุ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ขึ้นไปไม่รู้หนังสือ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พันค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ากจำนวนทั้งสิ้น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หมื่นคน หรือคิดเป็น ร้อยละ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 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ของประชาชนทั้งหม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9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"/>
          <p:cNvSpPr/>
          <p:nvPr/>
        </p:nvSpPr>
        <p:spPr>
          <a:xfrm>
            <a:off x="3352680" y="64008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4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B181-FF46-4E66-A0DB-575DB60A2F0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1844640"/>
            <a:ext cx="8128080" cy="83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cc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กิจกรรมภายในโครงการ ถูกออกแบบเพื่อให้ได้ข้อมูลป้อนกลับ </a:t>
            </a: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(feedback) </a:t>
            </a:r>
            <a:r>
              <a:rPr b="1" lang="en-US" sz="6000" spc="-1" strike="noStrike">
                <a:solidFill>
                  <a:srgbClr val="cc99ff"/>
                </a:solidFill>
                <a:latin typeface="Angsana New"/>
                <a:cs typeface="Angsana New"/>
              </a:rPr>
              <a:t>เกี่ยวกับการดำเนินโครงการ เช่น ปัญหาที่กำลังเผชิญ ประสิทธิภาพของวิธีการดำเนินงาน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Angsana New"/>
                <a:cs typeface="Angsana New"/>
              </a:rPr>
              <a:t>เทคนิค </a:t>
            </a: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Gantt Chart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ติดตาม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monitoring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5BD-9920-4572-9EB0-BDD1792EB7A0}" type="slidenum">
              <a:t>6</a:t>
            </a:fld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</a:rPr>
              <a:t>ยุทธศาสตร์และแนวทางการพัฒนา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685800" y="1981080"/>
          <a:ext cx="7772400" cy="405756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ยุทธศาสตร์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แนวทาง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็นภาพรวมของหลายแนวทางการพัฒนาที่เลือกว่าจะนำไปสู่การปฏิบัต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ลับไปภาพรวมของแต่ละประเภทความต้องการการพัฒน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ลับไปดูสาเหตุของปัญหา ความคิดริเริ่มจากศักยภาพ และดูจากตาราง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swo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3048120" y="6095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5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86E0-A0D1-4F09-A609-6D8FE85D005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</a:rPr>
              <a:t>ตัวอย่างยุทธศาสตร์และแนวทางการพัฒน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685800" y="1981080"/>
          <a:ext cx="7772400" cy="405756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ยุทธศาสตร์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แนวทางการพัฒน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พัฒนารายได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พัฒนาฝีมือแรงงา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ส่งเสริมการตลา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ฝึกอบรมช่างยนต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ยกระดับฝีมือแรงงา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อบรมการทำอาห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ร่วมงานแสดงสินค้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สร้างศูนย์จำหน่ายสินค้าท้องถิ่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4" name=""/>
          <p:cNvSpPr/>
          <p:nvPr/>
        </p:nvSpPr>
        <p:spPr>
          <a:xfrm>
            <a:off x="3048120" y="6095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5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E16-1051-4F47-BA81-9ED7223523F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การนำแผนยุทธศาสตร์การพัฒนาท้องถิ่นไปสู่การปฏิบัติและการติดตามประเมินผล</a:t>
            </a:r>
            <a:br>
              <a:rPr sz="28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ยุทธศาสตร์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.........................................</a:t>
            </a:r>
            <a:br>
              <a:rPr sz="24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แนวทาง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 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826920" y="1676520"/>
          <a:ext cx="8137800" cy="4200480"/>
        </p:xfrm>
        <a:graphic>
          <a:graphicData uri="http://schemas.openxmlformats.org/drawingml/2006/table">
            <a:tbl>
              <a:tblPr/>
              <a:tblGrid>
                <a:gridCol w="1103400"/>
                <a:gridCol w="863640"/>
                <a:gridCol w="914400"/>
                <a:gridCol w="792360"/>
                <a:gridCol w="792000"/>
                <a:gridCol w="792000"/>
                <a:gridCol w="863640"/>
                <a:gridCol w="792360"/>
                <a:gridCol w="1224000"/>
              </a:tblGrid>
              <a:tr h="482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2971800" y="63244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6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B6A5-4FFF-4A4F-9589-E72E71E7273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</a:rPr>
              <a:t>การนำแผนยุทธศาสตร์การพัฒนาท้องถิ่นไปสู่การปฏิบัติและการติดตามประเมินผล</a:t>
            </a:r>
            <a:br>
              <a:rPr sz="28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ยุทธศาสตร์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0" lang="hi-IN" sz="2400" spc="-1" strike="noStrike">
                <a:solidFill>
                  <a:srgbClr val="000000"/>
                </a:solidFill>
                <a:latin typeface="Angsana New"/>
                <a:cs typeface="Angsana New"/>
              </a:rPr>
              <a:t>ขจัดความยากจนระดับฐานราก</a:t>
            </a:r>
            <a:br>
              <a:rPr sz="2400"/>
            </a:b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แนวทางที่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0" lang="hi-IN" sz="2400" spc="-1" strike="noStrike">
                <a:solidFill>
                  <a:srgbClr val="000000"/>
                </a:solidFill>
                <a:latin typeface="Angsana New"/>
              </a:rPr>
              <a:t>การพัฒนาฝีมือแรงงาน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699" name=""/>
          <p:cNvGraphicFramePr/>
          <p:nvPr/>
        </p:nvGraphicFramePr>
        <p:xfrm>
          <a:off x="826920" y="1676520"/>
          <a:ext cx="8137800" cy="4200480"/>
        </p:xfrm>
        <a:graphic>
          <a:graphicData uri="http://schemas.openxmlformats.org/drawingml/2006/table">
            <a:tbl>
              <a:tblPr/>
              <a:tblGrid>
                <a:gridCol w="1103400"/>
                <a:gridCol w="863640"/>
                <a:gridCol w="914400"/>
                <a:gridCol w="792360"/>
                <a:gridCol w="792000"/>
                <a:gridCol w="792000"/>
                <a:gridCol w="863640"/>
                <a:gridCol w="79236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ตัวชี้วั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เป้าหมา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ปี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ารฝึกอบรมช่างยนต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จำนวนผู้ผ่านการฝึกอบ 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คน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5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กองช่า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>
            <a:off x="539640" y="61657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อยู่ในบทที่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6 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cs typeface="Angsana New"/>
              </a:rPr>
              <a:t>ของแผนยุทธศาสตร์</a:t>
            </a:r>
            <a:r>
              <a:rPr b="0" lang="th-TH" sz="2400" spc="-1" strike="noStrike">
                <a:solidFill>
                  <a:srgbClr val="000000"/>
                </a:solidFill>
                <a:latin typeface="Arial Narrow"/>
                <a:ea typeface="Angsan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167-32B5-4DC2-9819-A0513D1803B2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59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ทคนิคการควบคุมเพื่อการติดตามและประเมินผลการดำเนินงาน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(Gantt Chart)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539640" y="1268280"/>
          <a:ext cx="8137800" cy="5589720"/>
        </p:xfrm>
        <a:graphic>
          <a:graphicData uri="http://schemas.openxmlformats.org/drawingml/2006/table">
            <a:tbl>
              <a:tblPr/>
              <a:tblGrid>
                <a:gridCol w="2016360"/>
                <a:gridCol w="576000"/>
                <a:gridCol w="576360"/>
                <a:gridCol w="576360"/>
                <a:gridCol w="720720"/>
                <a:gridCol w="718920"/>
                <a:gridCol w="720720"/>
                <a:gridCol w="1008360"/>
                <a:gridCol w="12240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โครงการ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/</a:t>
                      </a: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ะดั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วามสำเร็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ระยะเวลา ปีงบประมาณ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5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ผู้รับผิดชอ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ย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พ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...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ธ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1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ิดตามการการมีส่วนร่วมในแผนชุมชนกับแผนพัฒนาท้องถิ่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2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ิดตาม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OT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3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ิดตามงานสวัสดิการสังค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-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เบี้ยยังชีพคนชร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ngsana New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ช่วยผู้พิการ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,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ผู้ป่วยโรคเอดส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ฯล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   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ngsana Ne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ลุ่ม ก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กลุ่ม ข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 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ea typeface="Angsana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ทุกกลุ่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ngsana Ne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>
            <a:off x="4643280" y="422100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4" name=""/>
          <p:cNvSpPr/>
          <p:nvPr/>
        </p:nvSpPr>
        <p:spPr>
          <a:xfrm>
            <a:off x="5076720" y="5373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5" name=""/>
          <p:cNvSpPr/>
          <p:nvPr/>
        </p:nvSpPr>
        <p:spPr>
          <a:xfrm>
            <a:off x="6443640" y="580536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6" name=""/>
          <p:cNvSpPr/>
          <p:nvPr/>
        </p:nvSpPr>
        <p:spPr>
          <a:xfrm flipH="1" flipV="1">
            <a:off x="2699640" y="2637000"/>
            <a:ext cx="36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7" name=""/>
          <p:cNvSpPr/>
          <p:nvPr/>
        </p:nvSpPr>
        <p:spPr>
          <a:xfrm>
            <a:off x="2771640" y="2565360"/>
            <a:ext cx="287640" cy="287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8" name=""/>
          <p:cNvSpPr/>
          <p:nvPr/>
        </p:nvSpPr>
        <p:spPr>
          <a:xfrm>
            <a:off x="3564000" y="292428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9" name=""/>
          <p:cNvSpPr/>
          <p:nvPr/>
        </p:nvSpPr>
        <p:spPr>
          <a:xfrm>
            <a:off x="2771640" y="5373720"/>
            <a:ext cx="287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0" name=""/>
          <p:cNvSpPr/>
          <p:nvPr/>
        </p:nvSpPr>
        <p:spPr>
          <a:xfrm>
            <a:off x="2771640" y="4076640"/>
            <a:ext cx="287640" cy="287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1" name=""/>
          <p:cNvSpPr/>
          <p:nvPr/>
        </p:nvSpPr>
        <p:spPr>
          <a:xfrm>
            <a:off x="2771640" y="5805360"/>
            <a:ext cx="287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2E0-A20E-402C-8DC7-47470710D1C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ngsana New"/>
              </a:rPr>
              <a:t>การกำหนดแนวทางหรือกลยุทธ์การพัฒนา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หมายถึง ข้อความที่แนะนำวิธีการดำเนินการเพื่อ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ให้บรรลุเป้าหมาย วัตถุประสงค์ จุดมุ่งหมาย และ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วิสัยทัศน์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ได้จากการนำวัตถุประสงค์มาตั้งคำถามขึ้นต้นด้วย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Angsana New"/>
              </a:rPr>
              <a:t>ทำอย่างไรเราถึงจะสามารถ………</a:t>
            </a:r>
            <a:r>
              <a:rPr b="1" i="1" lang="en-US" sz="3600" spc="-1" strike="noStrike">
                <a:solidFill>
                  <a:srgbClr val="000000"/>
                </a:solidFill>
                <a:latin typeface="Angsana New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คำตอบที่ได้จะเป็นแนวทางการพัฒนา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  <a:p>
            <a:pPr marL="305280" indent="-305280"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ในแต่ละวัตถุประสงค์สามารถมีได้หลายแนวทาง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EB9B-5690-4020-B45A-AB51EAB1435D}" type="slidenum">
              <a:t>65</a:t>
            </a:fld>
          </a:p>
        </p:txBody>
      </p:sp>
    </p:spTree>
  </p:cSld>
  <p:transition>
    <p:cover dir="l"/>
  </p:transition>
  <p:timing>
    <p:tnLst>
      <p:par>
        <p:cTn id="1359" dur="indefinite" restart="never" nodeType="tmRoot">
          <p:childTnLst>
            <p:seq>
              <p:cTn id="1360" dur="indefinite" nodeType="mainSeq">
                <p:childTnLst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7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7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7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7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50560" y="380880"/>
            <a:ext cx="8893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500" spc="-1" strike="noStrike">
                <a:solidFill>
                  <a:srgbClr val="ff0066"/>
                </a:solidFill>
                <a:latin typeface="Angsana New"/>
                <a:cs typeface="Angsana New"/>
              </a:rPr>
              <a:t>ทำไมต้องประเมินผลงานและจัดการเชิงกลยุทธ์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5" name=""/>
          <p:cNvSpPr/>
          <p:nvPr/>
        </p:nvSpPr>
        <p:spPr>
          <a:xfrm>
            <a:off x="468360" y="1268280"/>
            <a:ext cx="7647120" cy="1556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1. </a:t>
            </a:r>
            <a:r>
              <a:rPr b="1" lang="hi-IN" sz="4800" spc="-1" strike="noStrike">
                <a:solidFill>
                  <a:srgbClr val="3333cc"/>
                </a:solidFill>
                <a:latin typeface="Angsana New"/>
                <a:cs typeface="Angsana New"/>
              </a:rPr>
              <a:t>ความซับซ้อน การเปลี่ยนแปลงตลอดเวล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6" name=""/>
          <p:cNvSpPr/>
          <p:nvPr/>
        </p:nvSpPr>
        <p:spPr>
          <a:xfrm>
            <a:off x="611280" y="1989000"/>
            <a:ext cx="7315200" cy="82512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ngsana New"/>
              </a:rPr>
              <a:t>2. </a:t>
            </a:r>
            <a:r>
              <a:rPr b="1" lang="hi-IN" sz="4800" spc="-1" strike="noStrike">
                <a:solidFill>
                  <a:srgbClr val="008000"/>
                </a:solidFill>
                <a:latin typeface="Angsana New"/>
                <a:cs typeface="Angsana New"/>
              </a:rPr>
              <a:t>มีการแข่งขันอย่างรุนแร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7" name=""/>
          <p:cNvSpPr/>
          <p:nvPr/>
        </p:nvSpPr>
        <p:spPr>
          <a:xfrm>
            <a:off x="684360" y="2781360"/>
            <a:ext cx="7315200" cy="825120"/>
          </a:xfrm>
          <a:prstGeom prst="rect">
            <a:avLst/>
          </a:prstGeom>
          <a:solidFill>
            <a:srgbClr val="ffcc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ngsana New"/>
              </a:rPr>
              <a:t>3. </a:t>
            </a:r>
            <a:r>
              <a:rPr b="1" lang="hi-IN" sz="4800" spc="-1" strike="noStrike">
                <a:solidFill>
                  <a:srgbClr val="800080"/>
                </a:solidFill>
                <a:latin typeface="Angsana New"/>
                <a:cs typeface="Angsana New"/>
              </a:rPr>
              <a:t>มีการใช้เทคโนโลยีใหม่ ๆ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8" name=""/>
          <p:cNvSpPr/>
          <p:nvPr/>
        </p:nvSpPr>
        <p:spPr>
          <a:xfrm>
            <a:off x="826920" y="3500280"/>
            <a:ext cx="7770960" cy="1556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4. </a:t>
            </a:r>
            <a:r>
              <a:rPr b="1" lang="hi-IN" sz="48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การเปลี่ยนแปลงทางเศรษฐกิจและสังคม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9" name=""/>
          <p:cNvSpPr/>
          <p:nvPr/>
        </p:nvSpPr>
        <p:spPr>
          <a:xfrm>
            <a:off x="971640" y="4221000"/>
            <a:ext cx="7315200" cy="155628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</a:rPr>
              <a:t>5.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ต้องประหยัดทรัพยากรในการทำงา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0" name=""/>
          <p:cNvSpPr/>
          <p:nvPr/>
        </p:nvSpPr>
        <p:spPr>
          <a:xfrm>
            <a:off x="1116000" y="4941720"/>
            <a:ext cx="7315200" cy="1556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Angsana New"/>
              </a:rPr>
              <a:t>6. </a:t>
            </a:r>
            <a:r>
              <a:rPr b="1" lang="hi-IN" sz="4800" spc="-1" strike="noStrike">
                <a:solidFill>
                  <a:srgbClr val="cc0099"/>
                </a:solidFill>
                <a:latin typeface="Angsana New"/>
                <a:cs typeface="Angsana New"/>
              </a:rPr>
              <a:t>การทำงานต้องมุ่งผลสัมฤทธิ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1" name=""/>
          <p:cNvSpPr/>
          <p:nvPr/>
        </p:nvSpPr>
        <p:spPr>
          <a:xfrm>
            <a:off x="1332000" y="5661000"/>
            <a:ext cx="7315200" cy="155628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ngsana New"/>
                <a:ea typeface="Angsana New"/>
              </a:rPr>
              <a:t>7. </a:t>
            </a:r>
            <a:r>
              <a:rPr b="1" lang="hi-IN" sz="4800" spc="-1" strike="noStrike">
                <a:solidFill>
                  <a:srgbClr val="008000"/>
                </a:solidFill>
                <a:latin typeface="Angsana New"/>
                <a:cs typeface="Angsana New"/>
              </a:rPr>
              <a:t>ให้แน่ใจว่าบรรลุเป้าหมายได้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76A7-8542-45D8-8DA4-111C22213FCB}" type="slidenum">
              <a:t>66</a:t>
            </a:fld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826920" y="2362320"/>
            <a:ext cx="7921800" cy="4306680"/>
          </a:xfrm>
          <a:custGeom>
            <a:avLst/>
            <a:gdLst>
              <a:gd name="textAreaLeft" fmla="*/ 507240 w 7921800"/>
              <a:gd name="textAreaRight" fmla="*/ 7414560 w 7921800"/>
              <a:gd name="textAreaTop" fmla="*/ 507240 h 4306680"/>
              <a:gd name="textAreaBottom" fmla="*/ 3799440 h 4306680"/>
            </a:gdLst>
            <a:ahLst/>
            <a:rect l="textAreaLeft" t="textAreaTop" r="textAreaRight" b="textAreaBottom"/>
            <a:pathLst>
              <a:path w="397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6130" y="21600"/>
                </a:lnTo>
                <a:arcTo wR="3600" hR="3600" stAng="10800000" swAng="5400000"/>
                <a:lnTo>
                  <a:pt x="397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3" name=""/>
          <p:cNvSpPr/>
          <p:nvPr/>
        </p:nvSpPr>
        <p:spPr>
          <a:xfrm>
            <a:off x="1403280" y="2565360"/>
            <a:ext cx="6985080" cy="76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ระบวนการกำหนดทิศทางระยะยาว 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กำหนด ดำเนิน ประเมิน บริหารกลยุทธ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มุ่งความสอดคล้อง วัตถุประสงค์เดียวกั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9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990720" y="533520"/>
            <a:ext cx="7162560" cy="11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การจัดการ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/</a:t>
            </a: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บริหารเชิงกลยุทธ์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AF4D-0DB0-4F61-B750-E51919209B37}" type="slidenum">
              <a:t>67</a:t>
            </a:fld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0479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9933ff"/>
                </a:solidFill>
                <a:latin typeface="Angsana New"/>
                <a:cs typeface="Angsana New"/>
              </a:rPr>
              <a:t>เกณฑ์มาตรฐานและตัวชี้วัด</a:t>
            </a:r>
            <a:endParaRPr b="0" lang="en-US" sz="8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143000" y="3066840"/>
            <a:ext cx="77724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marL="195480" indent="-195480">
              <a:spcBef>
                <a:spcPts val="1349"/>
              </a:spcBef>
              <a:buClr>
                <a:srgbClr val="ff99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99cc"/>
                </a:solidFill>
                <a:latin typeface="Angsana New"/>
                <a:cs typeface="Angsana New"/>
              </a:rPr>
              <a:t>เกณฑ์สำหรับประเมินผลหน่วยงา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295280"/>
            <a:ext cx="386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00"/>
                </a:solidFill>
                <a:latin typeface="Angsana New"/>
              </a:rPr>
              <a:t>ประกอบด้วย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3809880"/>
            <a:ext cx="7772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9" name=""/>
          <p:cNvSpPr/>
          <p:nvPr/>
        </p:nvSpPr>
        <p:spPr>
          <a:xfrm>
            <a:off x="1143000" y="4495680"/>
            <a:ext cx="7772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99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0" name=""/>
          <p:cNvSpPr/>
          <p:nvPr/>
        </p:nvSpPr>
        <p:spPr>
          <a:xfrm>
            <a:off x="1116000" y="4437000"/>
            <a:ext cx="77724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>
              <a:spcBef>
                <a:spcPts val="1349"/>
              </a:spcBef>
              <a:buClr>
                <a:srgbClr val="66ff99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66ff99"/>
                </a:solidFill>
                <a:latin typeface="Angsana New"/>
                <a:cs typeface="Angsana New"/>
              </a:rPr>
              <a:t>เกณฑ์สำหรับประเมินผลโครงการ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" y="2514600"/>
            <a:ext cx="8610480" cy="3962520"/>
          </a:xfrm>
          <a:custGeom>
            <a:avLst/>
            <a:gdLst/>
            <a:ahLst/>
            <a:rect l="l" t="t" r="r" b="b"/>
            <a:pathLst>
              <a:path w="2328" h="1072">
                <a:moveTo>
                  <a:pt x="880" y="152"/>
                </a:moveTo>
                <a:cubicBezTo>
                  <a:pt x="792" y="168"/>
                  <a:pt x="760" y="96"/>
                  <a:pt x="688" y="104"/>
                </a:cubicBezTo>
                <a:cubicBezTo>
                  <a:pt x="616" y="112"/>
                  <a:pt x="520" y="184"/>
                  <a:pt x="448" y="200"/>
                </a:cubicBezTo>
                <a:cubicBezTo>
                  <a:pt x="376" y="216"/>
                  <a:pt x="320" y="184"/>
                  <a:pt x="256" y="200"/>
                </a:cubicBezTo>
                <a:cubicBezTo>
                  <a:pt x="192" y="216"/>
                  <a:pt x="88" y="240"/>
                  <a:pt x="64" y="296"/>
                </a:cubicBezTo>
                <a:cubicBezTo>
                  <a:pt x="40" y="352"/>
                  <a:pt x="120" y="464"/>
                  <a:pt x="112" y="536"/>
                </a:cubicBezTo>
                <a:cubicBezTo>
                  <a:pt x="104" y="608"/>
                  <a:pt x="0" y="656"/>
                  <a:pt x="16" y="728"/>
                </a:cubicBezTo>
                <a:cubicBezTo>
                  <a:pt x="32" y="800"/>
                  <a:pt x="128" y="928"/>
                  <a:pt x="208" y="968"/>
                </a:cubicBezTo>
                <a:cubicBezTo>
                  <a:pt x="288" y="1008"/>
                  <a:pt x="408" y="952"/>
                  <a:pt x="496" y="968"/>
                </a:cubicBezTo>
                <a:cubicBezTo>
                  <a:pt x="584" y="984"/>
                  <a:pt x="656" y="1056"/>
                  <a:pt x="736" y="1064"/>
                </a:cubicBezTo>
                <a:cubicBezTo>
                  <a:pt x="816" y="1072"/>
                  <a:pt x="880" y="1032"/>
                  <a:pt x="976" y="1016"/>
                </a:cubicBezTo>
                <a:cubicBezTo>
                  <a:pt x="1072" y="1000"/>
                  <a:pt x="1200" y="968"/>
                  <a:pt x="1312" y="968"/>
                </a:cubicBezTo>
                <a:cubicBezTo>
                  <a:pt x="1424" y="968"/>
                  <a:pt x="1536" y="1024"/>
                  <a:pt x="1648" y="1016"/>
                </a:cubicBezTo>
                <a:cubicBezTo>
                  <a:pt x="1760" y="1008"/>
                  <a:pt x="1880" y="936"/>
                  <a:pt x="1984" y="920"/>
                </a:cubicBezTo>
                <a:cubicBezTo>
                  <a:pt x="2088" y="904"/>
                  <a:pt x="2216" y="968"/>
                  <a:pt x="2272" y="920"/>
                </a:cubicBezTo>
                <a:cubicBezTo>
                  <a:pt x="2328" y="872"/>
                  <a:pt x="2328" y="712"/>
                  <a:pt x="2320" y="632"/>
                </a:cubicBezTo>
                <a:cubicBezTo>
                  <a:pt x="2312" y="552"/>
                  <a:pt x="2256" y="512"/>
                  <a:pt x="2224" y="440"/>
                </a:cubicBezTo>
                <a:cubicBezTo>
                  <a:pt x="2192" y="368"/>
                  <a:pt x="2192" y="248"/>
                  <a:pt x="2128" y="200"/>
                </a:cubicBezTo>
                <a:cubicBezTo>
                  <a:pt x="2064" y="152"/>
                  <a:pt x="1944" y="168"/>
                  <a:pt x="1840" y="152"/>
                </a:cubicBezTo>
                <a:cubicBezTo>
                  <a:pt x="1736" y="136"/>
                  <a:pt x="1608" y="128"/>
                  <a:pt x="1504" y="104"/>
                </a:cubicBezTo>
                <a:cubicBezTo>
                  <a:pt x="1400" y="80"/>
                  <a:pt x="1312" y="0"/>
                  <a:pt x="1216" y="8"/>
                </a:cubicBezTo>
                <a:cubicBezTo>
                  <a:pt x="1120" y="16"/>
                  <a:pt x="968" y="136"/>
                  <a:pt x="880" y="15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0CD-0720-42F3-8BA1-5CE7B80D7F5A}" type="slidenum">
              <a:t>68</a:t>
            </a:fld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7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22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ตัวชี้วัด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0C6-A7D6-4525-A368-A151B32C2A3E}" type="slidenum">
              <a:t>69</a:t>
            </a:fld>
          </a:p>
        </p:txBody>
      </p:sp>
    </p:spTree>
  </p:cSld>
  <p:transition>
    <p:random/>
  </p:transition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1844640"/>
            <a:ext cx="8128080" cy="78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ตรวจสอบผลการดำเนินงานใน  ระหว่างกำลังดำเนินการ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(On-going)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การดำเนินการเสร็จสิ้นแล้ว </a:t>
            </a:r>
            <a:r>
              <a:rPr b="1" lang="en-US" sz="6000" spc="-1" strike="noStrike">
                <a:solidFill>
                  <a:srgbClr val="ff99ff"/>
                </a:solidFill>
                <a:latin typeface="Angsana New"/>
                <a:ea typeface="Angsana New"/>
              </a:rPr>
              <a:t>(Ex-Post)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เป็นสิ่งที่บ่งชี้ได้ว่ามีการปฏิบัติตามแผนหรือไม่ อย่างไร ดูความสอดคล้องในการใช้ทรัพยากร เตือนล่วงหน้า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ประเมินผล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evaluation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FEB-56B2-4BE2-8676-E498A75A2A92}" type="slidenum">
              <a:t>7</a:t>
            </a:fld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1.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สัมฤทธิ์ผล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ผลิตภาพรวม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ผลิตระดับปฏิบัติการ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13C-B89C-4E81-BD67-C1A391CB17D1}" type="slidenum">
              <a:t>70</a:t>
            </a:fld>
          </a:p>
        </p:txBody>
      </p:sp>
    </p:spTree>
  </p:cSld>
  <p:transition>
    <p:random/>
  </p:transition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2.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เสมอภาค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เข้าถึง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จัดสรรทรัพยากร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กระจายผลประโยชน์</a:t>
            </a: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สมอภาค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A0A-368F-4716-AE4B-D08622CE2283}" type="slidenum">
              <a:t>71</a:t>
            </a:fld>
          </a:p>
        </p:txBody>
      </p:sp>
    </p:spTree>
  </p:cSld>
  <p:transition>
    <p:random/>
  </p:transition>
  <p:timing>
    <p:tnLst>
      <p:par>
        <p:cTn id="1439" dur="indefinite" restart="never" nodeType="tmRoot">
          <p:childTnLst>
            <p:seq>
              <p:cTn id="1440" dur="indefinite" nodeType="mainSeq">
                <p:childTnLst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604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3.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สามารถและคุณภาพ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ในการให้บริการ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มรรถนะของหน่วยงาน       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ทั่วถึงและเพียงพอ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ถี่ในการให้บริการ</a:t>
            </a:r>
            <a:br>
              <a:rPr sz="6000"/>
            </a:b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 </a:t>
            </a:r>
            <a:r>
              <a:rPr b="1" lang="en-US" sz="60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สิทธิภาพการให้บริการ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EBF-2F8D-49C5-8C56-AA4157EA60E6}" type="slidenum">
              <a:t>72</a:t>
            </a:fld>
          </a:p>
        </p:txBody>
      </p:sp>
    </p:spTree>
  </p:cSld>
  <p:transition>
    <p:random/>
  </p:transition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4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รับผิดชอบต่อ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พันธกิจต่อสังคม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รับผิดชอบต่อสาธารณะ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ให้หลักประกันความเสี่ยง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ยอมรับข้อผิดพลาด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8D1-E005-4E7B-BF85-AC44A5E977F9}" type="slidenum">
              <a:t>73</a:t>
            </a:fld>
          </a:p>
        </p:txBody>
      </p:sp>
    </p:spTree>
  </p:cSld>
  <p:transition>
    <p:random/>
  </p:transition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5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การตอบสนองความต้องการของ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ประชาช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กำหนดประเด็นปัญห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รับฟังความคิดเห็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มาตรการเชิงยุทธศาสตร์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           ในการแก้ไขปัญหา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รวดเร็วในการแก้ปัญหา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0C3-43E4-4100-A8F6-55C4222730D5}" type="slidenum">
              <a:t>74</a:t>
            </a:fld>
          </a:p>
        </p:txBody>
      </p:sp>
    </p:spTree>
  </p:cSld>
  <p:transition>
    <p:random/>
  </p:transition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6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พึงพอใจของลูกค้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ความพึงพอใ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ยอมรับหรือคัดค้าน</a:t>
            </a: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BCC-E007-408C-BD52-B5DB3753DE73}" type="slidenum">
              <a:t>75</a:t>
            </a:fld>
          </a:p>
        </p:txBody>
      </p:sp>
    </p:spTree>
  </p:cSld>
  <p:transition>
    <p:random/>
  </p:transition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หน่วยงา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7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ผลเสียหายต่อสังคม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ภายนอก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ต้นทุนทางสังคม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F04-ECFC-47A2-8700-B0E726DB4B77}" type="slidenum">
              <a:t>76</a:t>
            </a:fld>
          </a:p>
        </p:txBody>
      </p:sp>
    </p:spTree>
  </p:cSld>
  <p:transition>
    <p:random/>
  </p:transition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8136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</a:t>
            </a:r>
            <a:br>
              <a:rPr sz="6600"/>
            </a:br>
            <a:br>
              <a:rPr sz="6600"/>
            </a:b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8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 </a:t>
            </a:r>
            <a:r>
              <a:rPr b="1" lang="en-US" sz="6600" spc="-1" strike="noStrike">
                <a:solidFill>
                  <a:srgbClr val="66ffff"/>
                </a:solidFill>
                <a:latin typeface="Angsana New"/>
                <a:ea typeface="Angsana New"/>
              </a:rPr>
              <a:t>27 </a:t>
            </a:r>
            <a:r>
              <a:rPr b="1" lang="hi-IN" sz="6600" spc="-1" strike="noStrike">
                <a:solidFill>
                  <a:srgbClr val="66ffff"/>
                </a:solidFill>
                <a:latin typeface="Angsana New"/>
                <a:cs typeface="Angsana New"/>
              </a:rPr>
              <a:t>ตัวชี้วัด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FE63-8DA4-4BB8-86C2-50DD091EC3F9}" type="slidenum">
              <a:t>77</a:t>
            </a:fld>
          </a:p>
        </p:txBody>
      </p:sp>
    </p:spTree>
  </p:cSld>
  <p:transition>
    <p:random/>
  </p:transition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1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ก้าวหน้า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Progres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ผลิตเทียบเป้าหมายรวมใน  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           ช่วงเวล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จำนวนกิจกรรมที่แล้วเสร็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ทรัพยากรที่ใช้ไปในช่วงเวล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ยะเวลาที่ใช้ไป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962C-1E38-4B14-A1BD-D280108C8BB1}" type="slidenum">
              <a:t>78</a:t>
            </a:fld>
          </a:p>
        </p:txBody>
      </p:sp>
    </p:spTree>
  </p:cSld>
  <p:transition>
    <p:random/>
  </p:transition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2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ประสิทธิภาพ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fficiency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ัดส่วนผลผลิตต่อค่าใช้จ่าย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ิตภาพต่อกำลังค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ิตภาพต่อหน่วยเวลา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ประหยัดทรัพยากรการจัดการ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DDF-9C4C-4AFF-8386-BD1C178F0301}" type="slidenum">
              <a:t>79</a:t>
            </a:fld>
          </a:p>
        </p:txBody>
      </p:sp>
    </p:spTree>
  </p:cSld>
  <p:transition>
    <p:random/>
  </p:transition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1341360"/>
            <a:ext cx="8128080" cy="76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เป็นข้อมูลย้อนกลับเพื่อการตัดสินใจวางแผนในอนาคต 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lnSpc>
                <a:spcPct val="80000"/>
              </a:lnSpc>
              <a:spcBef>
                <a:spcPts val="3750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Angsana New"/>
                <a:cs typeface="Angsana New"/>
              </a:rPr>
              <a:t>ตัดสินคุณค่าโดยใช้ข้อมูลที่รวบรวมอย่างเป็นระบบ เที่ยงตรง ปรนัย  เชื่อถือได้  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ngsana New"/>
                <a:ea typeface="Angsana New"/>
              </a:rPr>
              <a:t>Standard criteria, Benmarking, KPI</a:t>
            </a:r>
            <a:endParaRPr b="0" lang="en-US" sz="6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120" y="228600"/>
            <a:ext cx="7696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การประเมินผล 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ngsanaUPC"/>
              </a:rPr>
              <a:t>(evaluation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ngsanaUPC"/>
              <a:ea typeface="AngsanaUP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10C5-EA23-4315-B250-0029BEFB4FE8}" type="slidenum">
              <a:t>8</a:t>
            </a:fld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3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ประสิทธิผล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ffectivenes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การบรรลุเป้าหมาย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การมีส่วนร่วม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ระดับความพึงพอใจ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4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สี่ยงของโครงการ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FD0F-719A-4959-AFA9-E359BB182504}" type="slidenum">
              <a:t>80</a:t>
            </a:fld>
          </a:p>
        </p:txBody>
      </p:sp>
    </p:spTree>
  </p:cSld>
  <p:transition>
    <p:random/>
  </p:transition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4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ผลกระทบ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Impact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ุณภาพชีวิต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ทัศนคติและความเข้าใ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ารเปลี่ยนแปลงพฤติกรรม </a:t>
            </a: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D24-3592-4B26-B94F-E7C1C7127A20}" type="slidenum">
              <a:t>81</a:t>
            </a:fld>
          </a:p>
        </p:txBody>
      </p:sp>
    </p:spTree>
  </p:cSld>
  <p:transition>
    <p:random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5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สอดคล้อง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Relevance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ด็นปัญหาหลัก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มาตรการ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/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กลยุทธ์ในการแก้ไขปัญหา   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ต้องการ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/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ข้อเรียกร้องของ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               กลุ่มเป้าหมาย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9CBC-8CCE-4F5D-90FB-AA6136BA673B}" type="slidenum">
              <a:t>82</a:t>
            </a:fld>
          </a:p>
        </p:txBody>
      </p:sp>
    </p:spTree>
  </p:cSld>
  <p:transition>
    <p:random/>
  </p:transition>
  <p:timing>
    <p:tnLst>
      <p:par>
        <p:cTn id="1604" dur="indefinite" restart="never" nodeType="tmRoot">
          <p:childTnLst>
            <p:seq>
              <p:cTn id="1605" dur="indefinite" nodeType="mainSeq">
                <p:childTnLst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0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6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ยั่งยืน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Sustainability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อยู่รอดด้านเศรษฐกิจ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สมรรถนะด้านสถาบัน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ไปได้ในการขยายผล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72C-9DF7-4EDC-A4E5-893BFF3D84DA}" type="slidenum">
              <a:t>83</a:t>
            </a:fld>
          </a:p>
        </p:txBody>
      </p:sp>
    </p:spTree>
  </p:cSld>
  <p:transition>
    <p:random/>
  </p:transition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7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เป็นธรรม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quity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ธรรมระหว่างกลุ่มอาชีพ   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ธรรมระหว่างเพศ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ความเป็นธรรมระหว่างชนรุ่น</a:t>
            </a: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AE1-251A-4B5B-9E68-3E2F1B7D8849}" type="slidenum">
              <a:t>84</a:t>
            </a:fld>
          </a:p>
        </p:txBody>
      </p:sp>
    </p:spTree>
  </p:cSld>
  <p:transition>
    <p:random/>
  </p:transition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1844640"/>
            <a:ext cx="8893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ประเมินโครงการ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8.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เกณฑ์ความเสียหายของโครงการ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(Externalities)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KPI 1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ด้านสิ่งแวดล้อม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2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ด้านเศรษฐกิจ </a:t>
            </a:r>
            <a:br>
              <a:rPr sz="5500"/>
            </a:b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  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ea typeface="Angsana New"/>
              </a:rPr>
              <a:t>KPI 3 : </a:t>
            </a:r>
            <a:r>
              <a:rPr b="1" lang="en-US" sz="5500" spc="-1" strike="noStrike">
                <a:solidFill>
                  <a:srgbClr val="66ffff"/>
                </a:solidFill>
                <a:latin typeface="Angsana New"/>
                <a:cs typeface="Angsana New"/>
              </a:rPr>
              <a:t>ผลกระทบด้านสังคมและวัฒนธรรม </a:t>
            </a: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61E-AEEF-441C-8C7B-EB7996BDF812}" type="slidenum">
              <a:t>85</a:t>
            </a:fld>
          </a:p>
        </p:txBody>
      </p:sp>
    </p:spTree>
  </p:cSld>
  <p:transition>
    <p:random/>
  </p:transition>
  <p:timing>
    <p:tnLst>
      <p:par>
        <p:cTn id="1649" dur="indefinite" restart="never" nodeType="tmRoot">
          <p:childTnLst>
            <p:seq>
              <p:cTn id="1650" dur="indefinite" nodeType="mainSeq">
                <p:childTnLst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533520" y="380880"/>
            <a:ext cx="8001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066680" y="1066680"/>
            <a:ext cx="70106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a800"/>
                    </a:gs>
                    <a:gs pos="100000">
                      <a:srgbClr val="8256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000000"/>
                  </a:outerShdw>
                </a:effectLst>
                <a:latin typeface="Browallia New"/>
              </a:rPr>
              <a:t>รูปแบบการติดตามประเมินผล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effectLst>
                <a:outerShdw dist="53966" dir="2700000" blurRad="0" rotWithShape="0">
                  <a:srgbClr val="00000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768" name=""/>
          <p:cNvSpPr/>
          <p:nvPr/>
        </p:nvSpPr>
        <p:spPr>
          <a:xfrm>
            <a:off x="971640" y="2994120"/>
            <a:ext cx="75596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spcBef>
                <a:spcPts val="2812"/>
              </a:spcBef>
              <a:buClr>
                <a:srgbClr val="ffff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ารใช้กระบวนการวิธีวิจัย  เช่น ทำโพลสำรวจความพึงพอใจของประชาชน</a:t>
            </a:r>
            <a:endParaRPr b="0" lang="en-US" sz="4500" spc="-1" strike="noStrike">
              <a:solidFill>
                <a:srgbClr val="000000"/>
              </a:solidFill>
              <a:latin typeface="Angsana New"/>
            </a:endParaRPr>
          </a:p>
          <a:p>
            <a:pPr marL="533520" indent="-533520">
              <a:spcBef>
                <a:spcPts val="2812"/>
              </a:spcBef>
              <a:buClr>
                <a:srgbClr val="ffff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Angsana New"/>
                <a:cs typeface="Angsana New"/>
              </a:rPr>
              <a:t>การใช้การวิเคราะห์ระบบ  เช่น การทำ </a:t>
            </a:r>
            <a:r>
              <a:rPr b="1" lang="en-US" sz="4500" spc="-1" strike="noStrike">
                <a:solidFill>
                  <a:srgbClr val="ffff00"/>
                </a:solidFill>
                <a:latin typeface="Angsana New"/>
                <a:ea typeface="Angsana New"/>
              </a:rPr>
              <a:t>SAR                                             (Self Assessment Report)</a:t>
            </a:r>
            <a:endParaRPr b="0" lang="en-US" sz="45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1261-77EF-4BC5-84D4-417FF02399A2}" type="slidenum">
              <a:t>86</a:t>
            </a:fld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295280" y="609480"/>
            <a:ext cx="7086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66"/>
                </a:solidFill>
                <a:latin typeface="Browallia New"/>
              </a:rPr>
              <a:t>ระบบติดตามและประเมินผล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66"/>
              </a:solidFill>
              <a:latin typeface="Browallia New"/>
              <a:ea typeface="Browallia New"/>
            </a:endParaRPr>
          </a:p>
        </p:txBody>
      </p:sp>
      <p:sp>
        <p:nvSpPr>
          <p:cNvPr id="770" name=""/>
          <p:cNvSpPr/>
          <p:nvPr/>
        </p:nvSpPr>
        <p:spPr>
          <a:xfrm>
            <a:off x="684360" y="249228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1" name=""/>
          <p:cNvSpPr/>
          <p:nvPr/>
        </p:nvSpPr>
        <p:spPr>
          <a:xfrm>
            <a:off x="1258920" y="2205000"/>
            <a:ext cx="7273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2" name=""/>
          <p:cNvSpPr/>
          <p:nvPr/>
        </p:nvSpPr>
        <p:spPr>
          <a:xfrm>
            <a:off x="755640" y="2781360"/>
            <a:ext cx="1152360" cy="2196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3" name=""/>
          <p:cNvSpPr/>
          <p:nvPr/>
        </p:nvSpPr>
        <p:spPr>
          <a:xfrm>
            <a:off x="212400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4" name=""/>
          <p:cNvSpPr/>
          <p:nvPr/>
        </p:nvSpPr>
        <p:spPr>
          <a:xfrm>
            <a:off x="2771640" y="2852640"/>
            <a:ext cx="1152720" cy="289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PRO CESS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5" name=""/>
          <p:cNvSpPr/>
          <p:nvPr/>
        </p:nvSpPr>
        <p:spPr>
          <a:xfrm>
            <a:off x="4861080" y="2852640"/>
            <a:ext cx="1223640" cy="2196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6" name=""/>
          <p:cNvSpPr/>
          <p:nvPr/>
        </p:nvSpPr>
        <p:spPr>
          <a:xfrm>
            <a:off x="4140360" y="3213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7" name=""/>
          <p:cNvSpPr/>
          <p:nvPr/>
        </p:nvSpPr>
        <p:spPr>
          <a:xfrm>
            <a:off x="7164360" y="2852640"/>
            <a:ext cx="1584360" cy="2196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 COME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8" name=""/>
          <p:cNvSpPr/>
          <p:nvPr/>
        </p:nvSpPr>
        <p:spPr>
          <a:xfrm>
            <a:off x="644508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9" name=""/>
          <p:cNvSpPr/>
          <p:nvPr/>
        </p:nvSpPr>
        <p:spPr>
          <a:xfrm>
            <a:off x="1547640" y="4437000"/>
            <a:ext cx="3024360" cy="720720"/>
          </a:xfrm>
          <a:prstGeom prst="upArrowCallout">
            <a:avLst>
              <a:gd name="adj1" fmla="val 104917"/>
              <a:gd name="adj2" fmla="val 104908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MONITORING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0" name=""/>
          <p:cNvSpPr/>
          <p:nvPr/>
        </p:nvSpPr>
        <p:spPr>
          <a:xfrm>
            <a:off x="4788000" y="4365720"/>
            <a:ext cx="2736720" cy="718920"/>
          </a:xfrm>
          <a:prstGeom prst="upArrowCallout">
            <a:avLst>
              <a:gd name="adj1" fmla="val 95177"/>
              <a:gd name="adj2" fmla="val 95168"/>
              <a:gd name="adj3" fmla="val 16667"/>
              <a:gd name="adj4" fmla="val 6666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EVALUATION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1" name=""/>
          <p:cNvSpPr/>
          <p:nvPr/>
        </p:nvSpPr>
        <p:spPr>
          <a:xfrm>
            <a:off x="971640" y="1628640"/>
            <a:ext cx="748800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2" name=""/>
          <p:cNvSpPr/>
          <p:nvPr/>
        </p:nvSpPr>
        <p:spPr>
          <a:xfrm>
            <a:off x="161928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3" name=""/>
          <p:cNvSpPr/>
          <p:nvPr/>
        </p:nvSpPr>
        <p:spPr>
          <a:xfrm>
            <a:off x="971640" y="2349360"/>
            <a:ext cx="3585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4" name=""/>
          <p:cNvSpPr/>
          <p:nvPr/>
        </p:nvSpPr>
        <p:spPr>
          <a:xfrm>
            <a:off x="6804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5" name=""/>
          <p:cNvSpPr/>
          <p:nvPr/>
        </p:nvSpPr>
        <p:spPr>
          <a:xfrm>
            <a:off x="3132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6" name=""/>
          <p:cNvSpPr/>
          <p:nvPr/>
        </p:nvSpPr>
        <p:spPr>
          <a:xfrm>
            <a:off x="3995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7" name=""/>
          <p:cNvSpPr/>
          <p:nvPr/>
        </p:nvSpPr>
        <p:spPr>
          <a:xfrm>
            <a:off x="5003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8" name=""/>
          <p:cNvSpPr/>
          <p:nvPr/>
        </p:nvSpPr>
        <p:spPr>
          <a:xfrm>
            <a:off x="7667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9" name=""/>
          <p:cNvSpPr/>
          <p:nvPr/>
        </p:nvSpPr>
        <p:spPr>
          <a:xfrm>
            <a:off x="594036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0" name=""/>
          <p:cNvSpPr/>
          <p:nvPr/>
        </p:nvSpPr>
        <p:spPr>
          <a:xfrm>
            <a:off x="226836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1" name=""/>
          <p:cNvSpPr/>
          <p:nvPr/>
        </p:nvSpPr>
        <p:spPr>
          <a:xfrm rot="10471800">
            <a:off x="969480" y="4436640"/>
            <a:ext cx="8174160" cy="1871640"/>
          </a:xfrm>
          <a:custGeom>
            <a:avLst/>
            <a:gdLst>
              <a:gd name="textAreaLeft" fmla="*/ 0 w 8174160"/>
              <a:gd name="textAreaRight" fmla="*/ 8174520 w 81741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2" name=""/>
          <p:cNvSpPr/>
          <p:nvPr/>
        </p:nvSpPr>
        <p:spPr>
          <a:xfrm>
            <a:off x="900000" y="5589720"/>
            <a:ext cx="27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FEEDBACK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29B-77DF-4A74-82B4-E5B8E4C65027}" type="slidenum">
              <a:t>87</a:t>
            </a:fld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52280" y="28548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33"/>
                </a:solidFill>
                <a:latin typeface="Angsana New"/>
                <a:cs typeface="Angsana New"/>
              </a:rPr>
              <a:t>ประเด็นการติดตามประเมินผล </a:t>
            </a:r>
            <a:r>
              <a:rPr b="1" lang="en-US" sz="5400" spc="-1" strike="noStrike">
                <a:solidFill>
                  <a:srgbClr val="990033"/>
                </a:solidFill>
                <a:latin typeface="Angsana New"/>
                <a:ea typeface="Angsana New"/>
              </a:rPr>
              <a:t>(IOEEI)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4" name=""/>
          <p:cNvSpPr/>
          <p:nvPr/>
        </p:nvSpPr>
        <p:spPr>
          <a:xfrm>
            <a:off x="1015920" y="1523880"/>
            <a:ext cx="7616880" cy="1143000"/>
          </a:xfrm>
          <a:custGeom>
            <a:avLst/>
            <a:gdLst>
              <a:gd name="textAreaLeft" fmla="*/ 0 w 7616880"/>
              <a:gd name="textAreaRight" fmla="*/ 7617240 w 7616880"/>
              <a:gd name="textAreaTop" fmla="*/ 147960 h 1143000"/>
              <a:gd name="textAreaBottom" fmla="*/ 9950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5" name=""/>
          <p:cNvSpPr/>
          <p:nvPr/>
        </p:nvSpPr>
        <p:spPr>
          <a:xfrm>
            <a:off x="1015920" y="2495520"/>
            <a:ext cx="7616880" cy="1162080"/>
          </a:xfrm>
          <a:custGeom>
            <a:avLst/>
            <a:gdLst>
              <a:gd name="textAreaLeft" fmla="*/ 0 w 7616880"/>
              <a:gd name="textAreaRight" fmla="*/ 7617240 w 7616880"/>
              <a:gd name="textAreaTop" fmla="*/ 150480 h 1162080"/>
              <a:gd name="textAreaBottom" fmla="*/ 1011600 h 1162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6" name=""/>
          <p:cNvSpPr/>
          <p:nvPr/>
        </p:nvSpPr>
        <p:spPr>
          <a:xfrm>
            <a:off x="914400" y="3467160"/>
            <a:ext cx="7616880" cy="1257120"/>
          </a:xfrm>
          <a:custGeom>
            <a:avLst/>
            <a:gdLst>
              <a:gd name="textAreaLeft" fmla="*/ 0 w 7616880"/>
              <a:gd name="textAreaRight" fmla="*/ 7617240 w 7616880"/>
              <a:gd name="textAreaTop" fmla="*/ 162720 h 1257120"/>
              <a:gd name="textAreaBottom" fmla="*/ 1094400 h 1257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ngsana New"/>
              </a:rPr>
              <a:t>Effectiveness </a:t>
            </a:r>
            <a:r>
              <a:rPr b="1" lang="en-US" sz="4800" spc="-1" strike="noStrike">
                <a:solidFill>
                  <a:srgbClr val="ffff99"/>
                </a:solidFill>
                <a:latin typeface="Angsana New"/>
              </a:rPr>
              <a:t>การประเมินประสิทธิผลสำเร็จ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7" name=""/>
          <p:cNvSpPr/>
          <p:nvPr/>
        </p:nvSpPr>
        <p:spPr>
          <a:xfrm>
            <a:off x="914400" y="4495680"/>
            <a:ext cx="7643880" cy="1219320"/>
          </a:xfrm>
          <a:custGeom>
            <a:avLst/>
            <a:gdLst>
              <a:gd name="textAreaLeft" fmla="*/ 0 w 7643880"/>
              <a:gd name="textAreaRight" fmla="*/ 7644240 w 764388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8" name=""/>
          <p:cNvSpPr/>
          <p:nvPr/>
        </p:nvSpPr>
        <p:spPr>
          <a:xfrm>
            <a:off x="941400" y="5562720"/>
            <a:ext cx="7559640" cy="1181160"/>
          </a:xfrm>
          <a:custGeom>
            <a:avLst/>
            <a:gdLst>
              <a:gd name="textAreaLeft" fmla="*/ 0 w 7559640"/>
              <a:gd name="textAreaRight" fmla="*/ 7560000 w 7559640"/>
              <a:gd name="textAreaTop" fmla="*/ 153000 h 1181160"/>
              <a:gd name="textAreaBottom" fmla="*/ 102816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9" name=""/>
          <p:cNvSpPr/>
          <p:nvPr/>
        </p:nvSpPr>
        <p:spPr>
          <a:xfrm>
            <a:off x="990720" y="1523880"/>
            <a:ext cx="66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cc"/>
                </a:solidFill>
                <a:latin typeface="Angsana New"/>
                <a:ea typeface="Angsana New"/>
              </a:rPr>
              <a:t>Input  </a:t>
            </a:r>
            <a:r>
              <a:rPr b="1" lang="en-US" sz="5400" spc="-1" strike="noStrike">
                <a:solidFill>
                  <a:srgbClr val="ccffcc"/>
                </a:solidFill>
                <a:latin typeface="Angsana New"/>
                <a:cs typeface="Angsana New"/>
              </a:rPr>
              <a:t>ประเมินปัจจัยนำเข้า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0" name=""/>
          <p:cNvSpPr/>
          <p:nvPr/>
        </p:nvSpPr>
        <p:spPr>
          <a:xfrm>
            <a:off x="1219320" y="2514600"/>
            <a:ext cx="66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Angsana New"/>
                <a:ea typeface="Angsana New"/>
              </a:rPr>
              <a:t>Output  </a:t>
            </a:r>
            <a:r>
              <a:rPr b="1" lang="en-US" sz="54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ารประเมินผลงา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1" name=""/>
          <p:cNvSpPr/>
          <p:nvPr/>
        </p:nvSpPr>
        <p:spPr>
          <a:xfrm rot="15000">
            <a:off x="1185840" y="4868640"/>
            <a:ext cx="72392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Efficiency  </a:t>
            </a:r>
            <a:r>
              <a:rPr b="1" lang="en-US" sz="4800" spc="-1" strike="noStrike">
                <a:solidFill>
                  <a:srgbClr val="3333cc"/>
                </a:solidFill>
                <a:latin typeface="Angsana New"/>
              </a:rPr>
              <a:t>การประเมินประสิทธิภาพ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2" name=""/>
          <p:cNvSpPr/>
          <p:nvPr/>
        </p:nvSpPr>
        <p:spPr>
          <a:xfrm rot="145800">
            <a:off x="1243080" y="5660640"/>
            <a:ext cx="688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cc"/>
                </a:solidFill>
                <a:latin typeface="Angsana New"/>
                <a:ea typeface="Angsana New"/>
              </a:rPr>
              <a:t>      </a:t>
            </a:r>
            <a:r>
              <a:rPr b="1" lang="en-US" sz="4800" spc="-1" strike="noStrike">
                <a:solidFill>
                  <a:srgbClr val="ccffcc"/>
                </a:solidFill>
                <a:latin typeface="Angsana New"/>
                <a:ea typeface="Angsana New"/>
              </a:rPr>
              <a:t>Impacts  </a:t>
            </a:r>
            <a:r>
              <a:rPr b="1" lang="en-US" sz="4800" spc="-1" strike="noStrike">
                <a:solidFill>
                  <a:srgbClr val="ccffcc"/>
                </a:solidFill>
                <a:latin typeface="Angsana New"/>
                <a:cs typeface="Angsana New"/>
              </a:rPr>
              <a:t>การประเมินถึงผลกระทบ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4C2-6BD2-4E23-B499-782489D9C512}" type="slidenum">
              <a:t>88</a:t>
            </a:fld>
          </a:p>
        </p:txBody>
      </p:sp>
    </p:spTree>
  </p:cSld>
  <p:transition>
    <p:random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0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1042920" y="304920"/>
            <a:ext cx="67294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กระบวนการติดตามและประเมินผล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804" name=""/>
          <p:cNvSpPr/>
          <p:nvPr/>
        </p:nvSpPr>
        <p:spPr>
          <a:xfrm>
            <a:off x="1371600" y="2133720"/>
            <a:ext cx="6477120" cy="411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99"/>
                </a:solidFill>
                <a:latin typeface="Angsana New"/>
                <a:cs typeface="Angsana New"/>
              </a:rPr>
              <a:t>การวางแผนพัฒนาท้องถิ่น</a:t>
            </a:r>
            <a:endParaRPr b="0" lang="en-US" sz="8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086-847A-4D21-AD1F-5FF4EB56928F}" type="slidenum">
              <a:t>89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295280" y="609480"/>
            <a:ext cx="7086600" cy="73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66"/>
                </a:solidFill>
                <a:latin typeface="Browallia New"/>
              </a:rPr>
              <a:t>ระบบติดตามและประเมินผล</a:t>
            </a:r>
            <a:endParaRPr b="1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66"/>
              </a:solidFill>
              <a:latin typeface="Browallia New"/>
              <a:ea typeface="Browallia New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92280"/>
            <a:ext cx="741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1258920" y="2205000"/>
            <a:ext cx="7273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781360"/>
            <a:ext cx="1152360" cy="2561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IN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2771640" y="2852640"/>
            <a:ext cx="1152720" cy="28976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PRO CESS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4861080" y="2852640"/>
            <a:ext cx="1223640" cy="2196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PUT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3213000"/>
            <a:ext cx="431640" cy="360360"/>
          </a:xfrm>
          <a:prstGeom prst="rightArrow">
            <a:avLst>
              <a:gd name="adj1" fmla="val 50000"/>
              <a:gd name="adj2" fmla="val 299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"/>
          <p:cNvSpPr/>
          <p:nvPr/>
        </p:nvSpPr>
        <p:spPr>
          <a:xfrm>
            <a:off x="7164360" y="2852640"/>
            <a:ext cx="1584360" cy="2196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OUT COME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7" name=""/>
          <p:cNvSpPr/>
          <p:nvPr/>
        </p:nvSpPr>
        <p:spPr>
          <a:xfrm>
            <a:off x="6445080" y="3213000"/>
            <a:ext cx="432000" cy="360360"/>
          </a:xfrm>
          <a:prstGeom prst="rightArrow">
            <a:avLst>
              <a:gd name="adj1" fmla="val 50000"/>
              <a:gd name="adj2" fmla="val 2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4437000"/>
            <a:ext cx="3024360" cy="720720"/>
          </a:xfrm>
          <a:prstGeom prst="upArrowCallout">
            <a:avLst>
              <a:gd name="adj1" fmla="val 104917"/>
              <a:gd name="adj2" fmla="val 104908"/>
              <a:gd name="adj3" fmla="val 16667"/>
              <a:gd name="adj4" fmla="val 66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  <a:ea typeface="Angsana New"/>
              </a:rPr>
              <a:t>MONITORING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9" name=""/>
          <p:cNvSpPr/>
          <p:nvPr/>
        </p:nvSpPr>
        <p:spPr>
          <a:xfrm>
            <a:off x="4788000" y="4365720"/>
            <a:ext cx="2736720" cy="718920"/>
          </a:xfrm>
          <a:prstGeom prst="upArrowCallout">
            <a:avLst>
              <a:gd name="adj1" fmla="val 95177"/>
              <a:gd name="adj2" fmla="val 95168"/>
              <a:gd name="adj3" fmla="val 16667"/>
              <a:gd name="adj4" fmla="val 6666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ngsana New"/>
              </a:rPr>
              <a:t>EVALUATION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628640"/>
            <a:ext cx="7488000" cy="6426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ENVIRONMENT</a:t>
            </a:r>
            <a:endParaRPr b="0" lang="en-US" sz="3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2349360"/>
            <a:ext cx="35856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3" name=""/>
          <p:cNvSpPr/>
          <p:nvPr/>
        </p:nvSpPr>
        <p:spPr>
          <a:xfrm>
            <a:off x="6804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" name=""/>
          <p:cNvSpPr/>
          <p:nvPr/>
        </p:nvSpPr>
        <p:spPr>
          <a:xfrm>
            <a:off x="313200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" name=""/>
          <p:cNvSpPr/>
          <p:nvPr/>
        </p:nvSpPr>
        <p:spPr>
          <a:xfrm>
            <a:off x="5003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2421000"/>
            <a:ext cx="3589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9" name=""/>
          <p:cNvSpPr/>
          <p:nvPr/>
        </p:nvSpPr>
        <p:spPr>
          <a:xfrm>
            <a:off x="2268360" y="2349360"/>
            <a:ext cx="358920" cy="28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"/>
          <p:cNvSpPr/>
          <p:nvPr/>
        </p:nvSpPr>
        <p:spPr>
          <a:xfrm rot="10471800">
            <a:off x="969480" y="4436640"/>
            <a:ext cx="8174160" cy="1871640"/>
          </a:xfrm>
          <a:custGeom>
            <a:avLst/>
            <a:gdLst>
              <a:gd name="textAreaLeft" fmla="*/ 0 w 8174160"/>
              <a:gd name="textAreaRight" fmla="*/ 8174520 w 81741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5589720"/>
            <a:ext cx="27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FEEDBACKS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76BE-D909-411E-AC9A-EA565A6131E2}" type="slidenum">
              <a:t>9</a:t>
            </a:fld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99ff66"/>
                </a:solidFill>
                <a:latin typeface="Angsana New"/>
              </a:rPr>
              <a:t>4</a:t>
            </a:r>
            <a:r>
              <a:rPr b="1" lang="en-US" sz="6400" spc="-1" strike="noStrike">
                <a:solidFill>
                  <a:srgbClr val="99ff66"/>
                </a:solidFill>
                <a:latin typeface="Angsana New"/>
                <a:ea typeface="Angsana New"/>
              </a:rPr>
              <a:t> </a:t>
            </a:r>
            <a:r>
              <a:rPr b="1" lang="hi-IN" sz="6400" spc="-1" strike="noStrike">
                <a:solidFill>
                  <a:srgbClr val="99ff66"/>
                </a:solidFill>
                <a:latin typeface="Angsana New"/>
                <a:cs typeface="Angsana New"/>
              </a:rPr>
              <a:t>ขั้นตอนง่าย ๆ </a:t>
            </a:r>
            <a:endParaRPr b="0" lang="en-US" sz="6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6" name=""/>
          <p:cNvSpPr/>
          <p:nvPr/>
        </p:nvSpPr>
        <p:spPr>
          <a:xfrm>
            <a:off x="228600" y="1600200"/>
            <a:ext cx="3454560" cy="3382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ccff"/>
                </a:solidFill>
                <a:latin typeface="Angsana New"/>
                <a:cs typeface="Angsana New"/>
              </a:rPr>
              <a:t>กำหนดรายละเอียดกลยุทธ์  แนวทาง ตัวชี้วั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7" name=""/>
          <p:cNvSpPr/>
          <p:nvPr/>
        </p:nvSpPr>
        <p:spPr>
          <a:xfrm>
            <a:off x="4788000" y="1447920"/>
            <a:ext cx="4076640" cy="3017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ก็บ</a:t>
            </a:r>
            <a:r>
              <a:rPr b="1" lang="en-US" sz="48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1" lang="hi-IN" sz="4800" spc="-1" strike="noStrike">
                <a:solidFill>
                  <a:srgbClr val="000000"/>
                </a:solidFill>
                <a:latin typeface="Angsana New"/>
                <a:cs typeface="Angsana New"/>
              </a:rPr>
              <a:t>คัดเลือกข้อมูล โดย บันทึก สังเกต แบบสอบถาม สัมภาษณ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8" name=""/>
          <p:cNvSpPr/>
          <p:nvPr/>
        </p:nvSpPr>
        <p:spPr>
          <a:xfrm>
            <a:off x="304920" y="4724280"/>
            <a:ext cx="3555720" cy="214020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cccc"/>
                </a:solidFill>
                <a:latin typeface="Angsana New"/>
                <a:cs typeface="Angsana New"/>
              </a:rPr>
              <a:t>วิเคราะห์ข้อมูลเปรียบเทียบกับเป้าหมา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9" name=""/>
          <p:cNvSpPr/>
          <p:nvPr/>
        </p:nvSpPr>
        <p:spPr>
          <a:xfrm>
            <a:off x="4724280" y="4800600"/>
            <a:ext cx="3657600" cy="214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9900cc"/>
                </a:solidFill>
                <a:latin typeface="Angsana New"/>
                <a:cs typeface="Angsana New"/>
              </a:rPr>
              <a:t>การรายงานเพื่อนำไปสู่การปรับปรุง ใช้ประโยชน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5FFC-56B8-4A04-8015-EBB00F1A3610}" type="slidenum">
              <a:t>90</a:t>
            </a:fld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826920" y="1700280"/>
            <a:ext cx="7162920" cy="1218960"/>
          </a:xfrm>
          <a:prstGeom prst="flowChartMultidocumen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1" name=""/>
          <p:cNvSpPr/>
          <p:nvPr/>
        </p:nvSpPr>
        <p:spPr>
          <a:xfrm>
            <a:off x="1332000" y="1628640"/>
            <a:ext cx="601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ccffff"/>
                </a:solidFill>
                <a:latin typeface="Angsana New"/>
                <a:cs typeface="Angsana New"/>
              </a:rPr>
              <a:t>มีเป้าหมายชัดเจ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914400" y="304920"/>
            <a:ext cx="7162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การติดตามงานอย่างมีประสิทธิภาพ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813" name=""/>
          <p:cNvSpPr/>
          <p:nvPr/>
        </p:nvSpPr>
        <p:spPr>
          <a:xfrm>
            <a:off x="900000" y="2997360"/>
            <a:ext cx="7162920" cy="1218960"/>
          </a:xfrm>
          <a:prstGeom prst="flowChartMultidocumen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4" name=""/>
          <p:cNvSpPr/>
          <p:nvPr/>
        </p:nvSpPr>
        <p:spPr>
          <a:xfrm>
            <a:off x="1187280" y="314172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6699"/>
                </a:solidFill>
                <a:latin typeface="Angsana New"/>
                <a:cs typeface="Angsana New"/>
              </a:rPr>
              <a:t>มีมาตรฐาน</a:t>
            </a:r>
            <a:r>
              <a:rPr b="1" lang="en-US" sz="5400" spc="-1" strike="noStrike">
                <a:solidFill>
                  <a:srgbClr val="ff6699"/>
                </a:solidFill>
                <a:latin typeface="Angsana New"/>
                <a:ea typeface="Angsana New"/>
              </a:rPr>
              <a:t>/</a:t>
            </a:r>
            <a:r>
              <a:rPr b="1" lang="hi-IN" sz="5400" spc="-1" strike="noStrike">
                <a:solidFill>
                  <a:srgbClr val="ff6699"/>
                </a:solidFill>
                <a:latin typeface="Angsana New"/>
                <a:cs typeface="Angsana New"/>
              </a:rPr>
              <a:t>ตัวชี้วัดที่แน่นอน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5" name=""/>
          <p:cNvSpPr/>
          <p:nvPr/>
        </p:nvSpPr>
        <p:spPr>
          <a:xfrm>
            <a:off x="900000" y="4076640"/>
            <a:ext cx="7162920" cy="1219320"/>
          </a:xfrm>
          <a:prstGeom prst="flowChartMultidocumen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6" name=""/>
          <p:cNvSpPr/>
          <p:nvPr/>
        </p:nvSpPr>
        <p:spPr>
          <a:xfrm>
            <a:off x="1187280" y="4221000"/>
            <a:ext cx="6666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การทบทวนความต้องการเสมอ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7" name=""/>
          <p:cNvSpPr/>
          <p:nvPr/>
        </p:nvSpPr>
        <p:spPr>
          <a:xfrm>
            <a:off x="1042920" y="5300640"/>
            <a:ext cx="7162920" cy="1219320"/>
          </a:xfrm>
          <a:prstGeom prst="flowChartMultidocumen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18" name=""/>
          <p:cNvSpPr/>
          <p:nvPr/>
        </p:nvSpPr>
        <p:spPr>
          <a:xfrm>
            <a:off x="1476360" y="558972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ngsana New"/>
                <a:cs typeface="Angsana New"/>
              </a:rPr>
              <a:t>นำผลการติดตามมาประเมินและปรับปรุ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52D-FBAF-45AD-9D7E-F45ACECE73CD}" type="slidenum">
              <a:t>91</a:t>
            </a:fld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 txBox="1"/>
          <p:nvPr/>
        </p:nvSpPr>
        <p:spPr>
          <a:xfrm>
            <a:off x="457200" y="1523880"/>
            <a:ext cx="822960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Browallia New"/>
              </a:rPr>
              <a:t>การรายงานผล</a:t>
            </a:r>
            <a:endParaRPr b="1" lang="en-US" sz="2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6EE-71F0-4BDE-873B-A393ACEEAC5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250920" y="1628640"/>
            <a:ext cx="921996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99cc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cc00"/>
                </a:solidFill>
                <a:latin typeface="Angsana New"/>
                <a:cs typeface="Angsana New"/>
              </a:rPr>
              <a:t>ประมวลผลโดยการสังเคราะห์ตามระเบียบวิธีวิจัย อาจใช้ </a:t>
            </a:r>
            <a:r>
              <a:rPr b="1" lang="en-US" sz="5400" spc="-1" strike="noStrike">
                <a:solidFill>
                  <a:srgbClr val="99cc00"/>
                </a:solidFill>
                <a:latin typeface="Angsana New"/>
                <a:ea typeface="Angsana New"/>
              </a:rPr>
              <a:t>SPSS </a:t>
            </a:r>
            <a:r>
              <a:rPr b="1" lang="en-US" sz="5400" spc="-1" strike="noStrike">
                <a:solidFill>
                  <a:srgbClr val="99cc00"/>
                </a:solidFill>
                <a:latin typeface="Angsana New"/>
                <a:cs typeface="Angsana New"/>
              </a:rPr>
              <a:t>การประเมินแบบง่ายทีบอกความสัมพันธ์ระหว่างตัวแปรได้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ใช้งบประมาณ เวลา มาก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00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ngsana New"/>
                <a:cs typeface="Angsana New"/>
              </a:rPr>
              <a:t>ให้ผลเชื่อถือได้ เป็นสถิติ ปรนัย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304920"/>
            <a:ext cx="80773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 </a:t>
            </a: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1. </a:t>
            </a: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การใช้กระบวนการวิธีวิจัย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7BD0-D43B-470F-A7AE-4301B3BC3DD2}" type="slidenum">
              <a:t>93</a:t>
            </a:fld>
          </a:p>
        </p:txBody>
      </p:sp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250920" y="1628640"/>
            <a:ext cx="9219960" cy="75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66ff33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Angsana New"/>
                <a:cs typeface="Angsana New"/>
              </a:rPr>
              <a:t>วิเคราะห์ทรัพยากร ปัจจัยนำเข้า กระบวนการ ผลผลิต ผลลัพธ์ ผลกระทบ ผลสะท้อน แวดล้อม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99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ff"/>
                </a:solidFill>
                <a:latin typeface="Angsana New"/>
                <a:cs typeface="Angsana New"/>
              </a:rPr>
              <a:t>ดัดแปลงจากวิธีวิจัย มาปรับใช้ให้เหมาะสม ประหยัดงบประมาณและเวลา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buClr>
                <a:srgbClr val="ffff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ควรมีเทคนิคควบคุม หรือเตือนล่วงหน้า เช่น การให้สี การใช้ 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  <a:ea typeface="Angsana New"/>
              </a:rPr>
              <a:t>Gantt Chart </a:t>
            </a:r>
            <a:r>
              <a:rPr b="1" lang="en-US" sz="5400" spc="-1" strike="noStrike">
                <a:solidFill>
                  <a:srgbClr val="ffff00"/>
                </a:solidFill>
                <a:latin typeface="Angsana New"/>
                <a:cs typeface="Angsana New"/>
              </a:rPr>
              <a:t>ควบคุม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  <a:p>
            <a:pPr>
              <a:lnSpc>
                <a:spcPct val="6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304920"/>
            <a:ext cx="807732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 </a:t>
            </a: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2. </a:t>
            </a: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ngsana New"/>
              </a:rPr>
              <a:t>การใช้การวิเคราะห์ระบบ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ngsana New"/>
              <a:ea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E768-7D2F-4F16-A649-8A44649FDDDC}" type="slidenum">
              <a:t>94</a:t>
            </a:fld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12880" y="685800"/>
            <a:ext cx="7772400" cy="99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0000ff"/>
                </a:solidFill>
                <a:latin typeface="Angsana New"/>
                <a:cs typeface="Angsana New"/>
              </a:rPr>
              <a:t>องค์ประกอบของนักประเมินที่ดี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5" name=""/>
          <p:cNvSpPr/>
          <p:nvPr/>
        </p:nvSpPr>
        <p:spPr>
          <a:xfrm>
            <a:off x="279360" y="3657600"/>
            <a:ext cx="2641680" cy="2068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ัศนคติ           เชิงบวก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6" name=""/>
          <p:cNvSpPr/>
          <p:nvPr/>
        </p:nvSpPr>
        <p:spPr>
          <a:xfrm>
            <a:off x="3124080" y="3657600"/>
            <a:ext cx="2641680" cy="206820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นักวางแผนที่ดี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7" name=""/>
          <p:cNvSpPr/>
          <p:nvPr/>
        </p:nvSpPr>
        <p:spPr>
          <a:xfrm>
            <a:off x="5969160" y="3657600"/>
            <a:ext cx="2844720" cy="177552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99cc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6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ลือกแนวทางที่เหมาะสม</a:t>
            </a:r>
            <a:endParaRPr b="0" lang="en-US" sz="4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8" name=""/>
          <p:cNvSpPr/>
          <p:nvPr/>
        </p:nvSpPr>
        <p:spPr>
          <a:xfrm>
            <a:off x="965160" y="2400480"/>
            <a:ext cx="1015920" cy="6667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9" name=""/>
          <p:cNvSpPr/>
          <p:nvPr/>
        </p:nvSpPr>
        <p:spPr>
          <a:xfrm>
            <a:off x="3809880" y="2457360"/>
            <a:ext cx="1016280" cy="6667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0" y="2514600"/>
            <a:ext cx="1015920" cy="66672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C1D-7948-4F1C-9DF1-2DC9BC5FE090}" type="slidenum">
              <a:t>95</a:t>
            </a:fld>
          </a:p>
        </p:txBody>
      </p: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"/>
          <p:cNvSpPr txBox="1"/>
          <p:nvPr/>
        </p:nvSpPr>
        <p:spPr>
          <a:xfrm>
            <a:off x="1219320" y="1523880"/>
            <a:ext cx="73134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rowallia New"/>
              </a:rPr>
              <a:t>การติดตามจะสำเร็จได้ถ้า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84F1-8C3E-4BE9-9EA5-E3C39038BD35}" type="slidenum">
              <a:t>96</a:t>
            </a:fld>
          </a:p>
        </p:txBody>
      </p: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85800" y="1600200"/>
            <a:ext cx="7772400" cy="1434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กำหนดสิ่งที่คาดหวังชัดเจน 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(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มีกลยุทธ์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3" name=""/>
          <p:cNvSpPr/>
          <p:nvPr/>
        </p:nvSpPr>
        <p:spPr>
          <a:xfrm>
            <a:off x="684360" y="2637000"/>
            <a:ext cx="7772400" cy="1434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00"/>
                </a:solidFill>
                <a:latin typeface="Angsana New"/>
                <a:cs typeface="Angsana New"/>
              </a:rPr>
              <a:t>สร้างบรรยากาศช่วยให้มีกำลังใจดำเนินงา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4" name=""/>
          <p:cNvSpPr/>
          <p:nvPr/>
        </p:nvSpPr>
        <p:spPr>
          <a:xfrm>
            <a:off x="611280" y="3573360"/>
            <a:ext cx="7772400" cy="76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3300"/>
                </a:solidFill>
                <a:latin typeface="Angsana New"/>
                <a:cs typeface="Angsana New"/>
              </a:rPr>
              <a:t>กำหนดเป้าหมายร่วมกั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5" name=""/>
          <p:cNvSpPr/>
          <p:nvPr/>
        </p:nvSpPr>
        <p:spPr>
          <a:xfrm>
            <a:off x="611280" y="4581360"/>
            <a:ext cx="7772400" cy="1434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ถาม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/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รับฟังผู้อื่นอย่างตั้งใจ และชื่นชม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B0C-CEEC-481C-9F5F-71F81216A7F2}" type="slidenum">
              <a:t>97</a:t>
            </a:fld>
          </a:p>
        </p:txBody>
      </p:sp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685800" y="609480"/>
            <a:ext cx="7772400" cy="3124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รับทราบ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+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ชื่นชมความเห็นผู้อื่นในที่สาธารณะ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และ แก้ไข</a:t>
            </a:r>
            <a:r>
              <a:rPr b="1" lang="en-US" sz="4400" spc="-1" strike="noStrike">
                <a:solidFill>
                  <a:srgbClr val="3333cc"/>
                </a:solidFill>
                <a:latin typeface="Angsana New"/>
                <a:ea typeface="Angsana New"/>
              </a:rPr>
              <a:t>+</a:t>
            </a:r>
            <a:r>
              <a:rPr b="1" lang="hi-IN" sz="4400" spc="-1" strike="noStrike">
                <a:solidFill>
                  <a:srgbClr val="3333cc"/>
                </a:solidFill>
                <a:latin typeface="Angsana New"/>
                <a:cs typeface="Angsana New"/>
              </a:rPr>
              <a:t>เตือนให้ปรับปรุงเป็นการส่วนตัว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7" name=""/>
          <p:cNvSpPr/>
          <p:nvPr/>
        </p:nvSpPr>
        <p:spPr>
          <a:xfrm>
            <a:off x="684360" y="2781360"/>
            <a:ext cx="7991280" cy="1434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cc"/>
                </a:solidFill>
                <a:latin typeface="Angsana New"/>
                <a:cs typeface="Angsana New"/>
              </a:rPr>
              <a:t>มองหาสิ่งดี ๆ ทุกสถานการณ์ ค้นหาอย่างสร้างสรรค์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38" name=""/>
          <p:cNvSpPr/>
          <p:nvPr/>
        </p:nvSpPr>
        <p:spPr>
          <a:xfrm>
            <a:off x="611280" y="4508640"/>
            <a:ext cx="7772400" cy="1526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ffff"/>
                </a:solidFill>
                <a:latin typeface="Angsana New"/>
                <a:cs typeface="Angsana New"/>
              </a:rPr>
              <a:t>เฝ้าติดตามผลให้มั่นใจว่าเป็นไปตามที่</a:t>
            </a:r>
            <a:r>
              <a:rPr b="1" lang="hi-IN" sz="5000" spc="-1" strike="noStrike">
                <a:solidFill>
                  <a:srgbClr val="66ff33"/>
                </a:solidFill>
                <a:latin typeface="Angsana New"/>
                <a:cs typeface="Angsana New"/>
              </a:rPr>
              <a:t>ตกลงกัน</a:t>
            </a:r>
            <a:r>
              <a:rPr b="1" lang="hi-IN" sz="4400" spc="-1" strike="noStrike">
                <a:solidFill>
                  <a:srgbClr val="ccffff"/>
                </a:solidFill>
                <a:latin typeface="Angsana New"/>
                <a:cs typeface="Angsana New"/>
              </a:rPr>
              <a:t>ไว้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3C9-BF44-401C-A85B-C2E513E7AA14}" type="slidenum">
              <a:t>98</a:t>
            </a:fld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684360" y="3179880"/>
            <a:ext cx="7561080" cy="37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44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Browallia New"/>
              </a:rPr>
              <a:t>การติดตามประเมินผลจะล้มเหลวถ้า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Browallia New"/>
              <a:ea typeface="Browalli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&amp;e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AD33-4917-48B8-AED4-21D2356680EA}" type="slidenum">
              <a:t>9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3:42:20Z</dcterms:created>
  <dc:creator>unknown</dc:creator>
  <dc:description/>
  <dc:language>en-US</dc:language>
  <cp:lastModifiedBy>iLLuSioN</cp:lastModifiedBy>
  <cp:lastPrinted>2000-03-27T09:05:04Z</cp:lastPrinted>
  <dcterms:modified xsi:type="dcterms:W3CDTF">2006-05-22T07:20:28Z</dcterms:modified>
  <cp:revision>74</cp:revision>
  <dc:subject/>
  <dc:title>ไม่มีชื่อเรื่องภาพนิ่ง</dc:title>
</cp:coreProperties>
</file>