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5960" y="6505920"/>
            <a:ext cx="483372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สัมมนา สงวนลิขสิทธิ์โดยสำนักงาน ก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 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ผลการศึกษายังไม่สมบูรณ์อาจมีการเปลี่ยนแปลงได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14F3-B9EB-431F-8A4C-F16FC14354EE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04880"/>
            <a:ext cx="914400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280" y="735120"/>
            <a:ext cx="8589960" cy="0"/>
          </a:xfrm>
          <a:prstGeom prst="line">
            <a:avLst/>
          </a:prstGeom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AFB7-DA3D-433F-9A5D-828DBC32E0CD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5960" y="6558480"/>
            <a:ext cx="483372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ร่วมกับผู้ทรงคุณวุฒิ วันที่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8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มีนาคม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5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6.png"/><Relationship Id="rId24" Type="http://schemas.openxmlformats.org/officeDocument/2006/relationships/image" Target="../media/image9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88920"/>
            <a:ext cx="9144000" cy="6858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274400" y="2569320"/>
            <a:ext cx="116503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ระบบจำแนกตำแหน่งและค่าตอบแทนใหม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760" y="17622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20680" y="1486080"/>
            <a:ext cx="2095560" cy="3041280"/>
            <a:chOff x="220680" y="1486080"/>
            <a:chExt cx="2095560" cy="3041280"/>
          </a:xfrm>
        </p:grpSpPr>
        <p:sp>
          <p:nvSpPr>
            <p:cNvPr id="412" name=""/>
            <p:cNvSpPr/>
            <p:nvPr/>
          </p:nvSpPr>
          <p:spPr>
            <a:xfrm>
              <a:off x="1899360" y="3556800"/>
              <a:ext cx="416880" cy="9547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840" y="3572640"/>
              <a:ext cx="1626840" cy="3258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680" y="3897000"/>
              <a:ext cx="1894320" cy="6303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34840" y="3037680"/>
              <a:ext cx="313920" cy="80136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7680" y="3037680"/>
              <a:ext cx="1245600" cy="282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0000" y="3318840"/>
              <a:ext cx="1445400" cy="5205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621360" y="2644920"/>
              <a:ext cx="1206720" cy="617760"/>
              <a:chOff x="621360" y="2644920"/>
              <a:chExt cx="1206720" cy="617760"/>
            </a:xfrm>
          </p:grpSpPr>
          <p:sp>
            <p:nvSpPr>
              <p:cNvPr id="419" name=""/>
              <p:cNvSpPr/>
              <p:nvPr/>
            </p:nvSpPr>
            <p:spPr>
              <a:xfrm>
                <a:off x="1591560" y="2644920"/>
                <a:ext cx="236520" cy="617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0520" y="2644920"/>
                <a:ext cx="940320" cy="21744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1360" y="2861640"/>
                <a:ext cx="1091520" cy="40104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61040" y="2261880"/>
              <a:ext cx="896400" cy="537840"/>
              <a:chOff x="761040" y="2261880"/>
              <a:chExt cx="896400" cy="537840"/>
            </a:xfrm>
          </p:grpSpPr>
          <p:sp>
            <p:nvSpPr>
              <p:cNvPr id="423" name=""/>
              <p:cNvSpPr/>
              <p:nvPr/>
            </p:nvSpPr>
            <p:spPr>
              <a:xfrm>
                <a:off x="1450440" y="2261880"/>
                <a:ext cx="207000" cy="53640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82000" y="2261880"/>
                <a:ext cx="627120" cy="14436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1040" y="2406240"/>
                <a:ext cx="811440" cy="393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902880" y="1872360"/>
              <a:ext cx="584280" cy="469080"/>
              <a:chOff x="902880" y="1872360"/>
              <a:chExt cx="584280" cy="469080"/>
            </a:xfrm>
          </p:grpSpPr>
          <p:sp>
            <p:nvSpPr>
              <p:cNvPr id="427" name=""/>
              <p:cNvSpPr/>
              <p:nvPr/>
            </p:nvSpPr>
            <p:spPr>
              <a:xfrm>
                <a:off x="1308960" y="1872720"/>
                <a:ext cx="178200" cy="46836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25640" y="1872360"/>
                <a:ext cx="312840" cy="7056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2880" y="1942920"/>
                <a:ext cx="528120" cy="39852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043640" y="1486080"/>
              <a:ext cx="273240" cy="395640"/>
              <a:chOff x="1043640" y="1486080"/>
              <a:chExt cx="273240" cy="39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1166400" y="1486080"/>
                <a:ext cx="150480" cy="395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43640" y="1486080"/>
                <a:ext cx="245160" cy="395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1342440" y="15325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83560" y="1955520"/>
            <a:ext cx="1022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08920" y="2393640"/>
            <a:ext cx="894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50040" y="279144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75400" y="321516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71800" y="3693960"/>
            <a:ext cx="178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0840" y="2324160"/>
            <a:ext cx="1116000" cy="1295280"/>
          </a:xfrm>
          <a:custGeom>
            <a:avLst/>
            <a:gdLst>
              <a:gd name="textAreaLeft" fmla="*/ 174240 w 1116000"/>
              <a:gd name="textAreaRight" fmla="*/ 976680 w 11160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40280" y="4383000"/>
            <a:ext cx="5450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กลุ่มตำแหน่ง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4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เภท อิสระจาก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ต่ละกลุ่มมี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2-5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แตกต่างกันตามค่า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 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โครงสร้างการทำงานในองค์ก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พื้นฐานแยกแต่ละกลุ่ม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กำหนดชื่อเรียกระดับตำแหน่งแทนตัวเล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216000" y="4805280"/>
            <a:ext cx="460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11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สำหรับทุก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เดีย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76920" y="2023920"/>
            <a:ext cx="801720" cy="605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64320" y="1702080"/>
            <a:ext cx="80784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89520" y="3194640"/>
            <a:ext cx="808200" cy="5626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05480" y="3651120"/>
            <a:ext cx="1392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วิชา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89520" y="2870640"/>
            <a:ext cx="808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76920" y="2471040"/>
            <a:ext cx="808200" cy="5410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21320" y="3664080"/>
            <a:ext cx="1247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ทั่วไ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43440" y="2090880"/>
            <a:ext cx="80172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ักษะ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36960" y="3194640"/>
            <a:ext cx="808200" cy="56268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6960" y="2502000"/>
            <a:ext cx="808200" cy="52020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อาวุโ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19680" y="2811960"/>
            <a:ext cx="83484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26240" y="3192840"/>
            <a:ext cx="714240" cy="56268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23000" y="2856240"/>
            <a:ext cx="723960" cy="520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15280" y="3652920"/>
            <a:ext cx="1249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อำนวย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35880" y="3189960"/>
            <a:ext cx="712800" cy="562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24720" y="2853000"/>
            <a:ext cx="72396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7280" y="3662280"/>
            <a:ext cx="1246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บริห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679680" y="157320"/>
            <a:ext cx="835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เปรียบเทียบโครงสร้างชั้นงานและประเภทตำแหน่ง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520" y="87624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เดิ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23880" y="928800"/>
            <a:ext cx="79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ใหม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04560" y="110664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78804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1360" y="1700280"/>
            <a:ext cx="802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และรองหัวหน้าส่วนราชการระดับกระทรวง ทบวง 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เป็นตำแหน่งประเภทบริหาร จำแนกระดับตามลำดับความสำคัญของตำแหน่ง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ปลัดกระทรวง รองปลัดกระทรวง อธิบดีหรือเทียบเท่า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รองอธิบดีหรือเทียบเท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0640" y="379080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" y="4335480"/>
            <a:ext cx="749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ที่ต่ำกว่าระดับ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 จำแนกระดับตำแหน่งตามความรับผิดชอบ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สำนัก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ส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กอง 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06520" y="1239840"/>
            <a:ext cx="8129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จำเป็นต้องใช้ผู้สำเร็จปริญญาทางวิชาการ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ปฏิบัติงานในหน้าที่  ของตำแหน่งนั้น มี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รงคุณวุฒิ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0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เชี่ยวชาญ 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พิเศษ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6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การ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600" y="71424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90252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3120" y="4041720"/>
            <a:ext cx="80452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ไม่จำเป็นต้องใช้ผู้สำเร็จการศึกษาระดับปริญญา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ให้ปฏิบัติงานในหน้าที่ของตำแหน่งนั้น และไม่ใช่ตำแหน่งประเภทอำนวยการและประเภทบริหาร เป็นตำแหน่งสำหรับผู้ปฏิบัติงานสนับสนุน งานปฏิบัติการของส่วนราชการ งานที่ต้องใช้ทักษะเฉพา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ักษะพิเศษ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ขึ้นไ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อาวุโส     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งาน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งาน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400" y="355608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ทั่วไ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718320" y="1131840"/>
            <a:ext cx="2170080" cy="982800"/>
          </a:xfrm>
          <a:prstGeom prst="wedgeRoundRectCallout">
            <a:avLst>
              <a:gd name="adj1" fmla="val -125129"/>
              <a:gd name="adj2" fmla="val 23828"/>
              <a:gd name="adj3" fmla="val 16667"/>
            </a:avLst>
          </a:prstGeom>
          <a:solidFill>
            <a:srgbClr val="ffeb9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บรรล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KPIs 3 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ปีติดต่อกั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47880" y="1263600"/>
            <a:ext cx="1909800" cy="982800"/>
          </a:xfrm>
          <a:prstGeom prst="wedgeRoundRectCallout">
            <a:avLst>
              <a:gd name="adj1" fmla="val 107606"/>
              <a:gd name="adj2" fmla="val 146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วุฒิการศึกษาปริญญาตร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7720" y="3102120"/>
            <a:ext cx="1753920" cy="544320"/>
          </a:xfrm>
          <a:custGeom>
            <a:avLst/>
            <a:gdLst>
              <a:gd name="textAreaLeft" fmla="*/ 273960 w 1753920"/>
              <a:gd name="textAreaRight" fmla="*/ 1582560 w 1753920"/>
              <a:gd name="textAreaTop" fmla="*/ 136080 h 544320"/>
              <a:gd name="textAreaBottom" fmla="*/ 40824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7377" y="5400"/>
                </a:lnTo>
                <a:lnTo>
                  <a:pt x="17377" y="0"/>
                </a:lnTo>
                <a:lnTo>
                  <a:pt x="21600" y="10800"/>
                </a:lnTo>
                <a:lnTo>
                  <a:pt x="17377" y="21600"/>
                </a:lnTo>
                <a:lnTo>
                  <a:pt x="17377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6449760" y="3154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187560" y="32886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ทั่วไ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13080" y="5970600"/>
            <a:ext cx="19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อำนวย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92480" y="79704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บริห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246240" y="157320"/>
            <a:ext cx="552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บบแผนความก้าวหน้าในอาชีพ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339920" y="2505240"/>
            <a:ext cx="1665000" cy="1838880"/>
            <a:chOff x="1339920" y="2505240"/>
            <a:chExt cx="1665000" cy="1838880"/>
          </a:xfrm>
        </p:grpSpPr>
        <p:grpSp>
          <p:nvGrpSpPr>
            <p:cNvPr id="481" name=""/>
            <p:cNvGrpSpPr/>
            <p:nvPr/>
          </p:nvGrpSpPr>
          <p:grpSpPr>
            <a:xfrm>
              <a:off x="1343160" y="3914640"/>
              <a:ext cx="1661760" cy="429480"/>
              <a:chOff x="1343160" y="3914640"/>
              <a:chExt cx="1661760" cy="42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1343160" y="39146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81280" y="39160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341720" y="3444840"/>
              <a:ext cx="1661760" cy="429480"/>
              <a:chOff x="1341720" y="3444840"/>
              <a:chExt cx="1661760" cy="429480"/>
            </a:xfrm>
          </p:grpSpPr>
          <p:sp>
            <p:nvSpPr>
              <p:cNvPr id="485" name=""/>
              <p:cNvSpPr/>
              <p:nvPr/>
            </p:nvSpPr>
            <p:spPr>
              <a:xfrm>
                <a:off x="1341720" y="34448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79840" y="34462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339920" y="2975040"/>
              <a:ext cx="1661760" cy="429480"/>
              <a:chOff x="1339920" y="2975040"/>
              <a:chExt cx="1661760" cy="429480"/>
            </a:xfrm>
          </p:grpSpPr>
          <p:sp>
            <p:nvSpPr>
              <p:cNvPr id="488" name=""/>
              <p:cNvSpPr/>
              <p:nvPr/>
            </p:nvSpPr>
            <p:spPr>
              <a:xfrm>
                <a:off x="1339920" y="29750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อาวุโส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78040" y="29764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339920" y="2505240"/>
              <a:ext cx="1661760" cy="429480"/>
              <a:chOff x="1339920" y="2505240"/>
              <a:chExt cx="1661760" cy="429480"/>
            </a:xfrm>
          </p:grpSpPr>
          <p:sp>
            <p:nvSpPr>
              <p:cNvPr id="491" name=""/>
              <p:cNvSpPr/>
              <p:nvPr/>
            </p:nvSpPr>
            <p:spPr>
              <a:xfrm>
                <a:off x="1339920" y="25052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ักษะ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678040" y="25066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427720" y="2332080"/>
            <a:ext cx="1666080" cy="2310480"/>
            <a:chOff x="5427720" y="2332080"/>
            <a:chExt cx="1666080" cy="2310480"/>
          </a:xfrm>
        </p:grpSpPr>
        <p:grpSp>
          <p:nvGrpSpPr>
            <p:cNvPr id="494" name=""/>
            <p:cNvGrpSpPr/>
            <p:nvPr/>
          </p:nvGrpSpPr>
          <p:grpSpPr>
            <a:xfrm>
              <a:off x="5430960" y="4213080"/>
              <a:ext cx="1662840" cy="429480"/>
              <a:chOff x="5430960" y="4213080"/>
              <a:chExt cx="1662840" cy="42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30960" y="421308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70160" y="421452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429160" y="3743280"/>
              <a:ext cx="1663560" cy="429480"/>
              <a:chOff x="5429160" y="3743280"/>
              <a:chExt cx="1663560" cy="42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5429160" y="37432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68720" y="37447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5427720" y="3273120"/>
              <a:ext cx="1662840" cy="429480"/>
              <a:chOff x="5427720" y="3273120"/>
              <a:chExt cx="1662840" cy="429480"/>
            </a:xfrm>
          </p:grpSpPr>
          <p:sp>
            <p:nvSpPr>
              <p:cNvPr id="501" name=""/>
              <p:cNvSpPr/>
              <p:nvPr/>
            </p:nvSpPr>
            <p:spPr>
              <a:xfrm>
                <a:off x="5427720" y="32731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ชำนาญการ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66920" y="32745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427720" y="2803320"/>
              <a:ext cx="1662840" cy="429480"/>
              <a:chOff x="5427720" y="2803320"/>
              <a:chExt cx="1662840" cy="429480"/>
            </a:xfrm>
          </p:grpSpPr>
          <p:sp>
            <p:nvSpPr>
              <p:cNvPr id="504" name=""/>
              <p:cNvSpPr/>
              <p:nvPr/>
            </p:nvSpPr>
            <p:spPr>
              <a:xfrm>
                <a:off x="5427720" y="28033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เชี่ยวชาญ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6920" y="28047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429160" y="2332080"/>
              <a:ext cx="1663560" cy="429480"/>
              <a:chOff x="5429160" y="2332080"/>
              <a:chExt cx="1663560" cy="429480"/>
            </a:xfrm>
          </p:grpSpPr>
          <p:sp>
            <p:nvSpPr>
              <p:cNvPr id="507" name=""/>
              <p:cNvSpPr/>
              <p:nvPr/>
            </p:nvSpPr>
            <p:spPr>
              <a:xfrm>
                <a:off x="5429160" y="23320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รงคุณวุฒ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8720" y="23335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3405240" y="4910040"/>
            <a:ext cx="1664640" cy="900000"/>
            <a:chOff x="3405240" y="4910040"/>
            <a:chExt cx="1664640" cy="900000"/>
          </a:xfrm>
        </p:grpSpPr>
        <p:grpSp>
          <p:nvGrpSpPr>
            <p:cNvPr id="510" name=""/>
            <p:cNvGrpSpPr/>
            <p:nvPr/>
          </p:nvGrpSpPr>
          <p:grpSpPr>
            <a:xfrm>
              <a:off x="3405240" y="5379840"/>
              <a:ext cx="1664640" cy="430200"/>
              <a:chOff x="3405240" y="5379840"/>
              <a:chExt cx="1664640" cy="43020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5240" y="53798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45880" y="53816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405240" y="4910040"/>
              <a:ext cx="1664640" cy="430200"/>
              <a:chOff x="3405240" y="4910040"/>
              <a:chExt cx="1664640" cy="430200"/>
            </a:xfrm>
          </p:grpSpPr>
          <p:sp>
            <p:nvSpPr>
              <p:cNvPr id="514" name=""/>
              <p:cNvSpPr/>
              <p:nvPr/>
            </p:nvSpPr>
            <p:spPr>
              <a:xfrm>
                <a:off x="3405240" y="49100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745880" y="49118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3390840" y="1101600"/>
            <a:ext cx="1664640" cy="900000"/>
            <a:chOff x="3390840" y="1101600"/>
            <a:chExt cx="1664640" cy="900000"/>
          </a:xfrm>
        </p:grpSpPr>
        <p:grpSp>
          <p:nvGrpSpPr>
            <p:cNvPr id="517" name=""/>
            <p:cNvGrpSpPr/>
            <p:nvPr/>
          </p:nvGrpSpPr>
          <p:grpSpPr>
            <a:xfrm>
              <a:off x="3390840" y="1571400"/>
              <a:ext cx="1664640" cy="430200"/>
              <a:chOff x="3390840" y="1571400"/>
              <a:chExt cx="1664640" cy="430200"/>
            </a:xfrm>
          </p:grpSpPr>
          <p:sp>
            <p:nvSpPr>
              <p:cNvPr id="518" name=""/>
              <p:cNvSpPr/>
              <p:nvPr/>
            </p:nvSpPr>
            <p:spPr>
              <a:xfrm>
                <a:off x="3390840" y="15714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31480" y="15732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3390840" y="1101600"/>
              <a:ext cx="1664640" cy="430200"/>
              <a:chOff x="3390840" y="1101600"/>
              <a:chExt cx="1664640" cy="430200"/>
            </a:xfrm>
          </p:grpSpPr>
          <p:sp>
            <p:nvSpPr>
              <p:cNvPr id="521" name=""/>
              <p:cNvSpPr/>
              <p:nvPr/>
            </p:nvSpPr>
            <p:spPr>
              <a:xfrm>
                <a:off x="3390840" y="11016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31480" y="11034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 rot="16200000">
            <a:off x="3095280" y="3150720"/>
            <a:ext cx="2310120" cy="544320"/>
          </a:xfrm>
          <a:custGeom>
            <a:avLst/>
            <a:gdLst>
              <a:gd name="textAreaLeft" fmla="*/ 360720 w 2310120"/>
              <a:gd name="textAreaRight" fmla="*/ 2135160 w 2310120"/>
              <a:gd name="textAreaTop" fmla="*/ 122040 h 544320"/>
              <a:gd name="textAreaBottom" fmla="*/ 42228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4848"/>
                </a:moveTo>
                <a:lnTo>
                  <a:pt x="18629" y="4848"/>
                </a:lnTo>
                <a:lnTo>
                  <a:pt x="18629" y="0"/>
                </a:lnTo>
                <a:lnTo>
                  <a:pt x="21600" y="10800"/>
                </a:lnTo>
                <a:lnTo>
                  <a:pt x="18629" y="21600"/>
                </a:lnTo>
                <a:lnTo>
                  <a:pt x="18629" y="16752"/>
                </a:lnTo>
                <a:lnTo>
                  <a:pt x="3375" y="16752"/>
                </a:lnTo>
                <a:close/>
              </a:path>
              <a:path w="21600" h="21600">
                <a:moveTo>
                  <a:pt x="0" y="4848"/>
                </a:moveTo>
                <a:lnTo>
                  <a:pt x="675" y="4848"/>
                </a:lnTo>
                <a:lnTo>
                  <a:pt x="675" y="16752"/>
                </a:lnTo>
                <a:lnTo>
                  <a:pt x="0" y="16752"/>
                </a:lnTo>
                <a:close/>
              </a:path>
              <a:path w="21600" h="21600">
                <a:moveTo>
                  <a:pt x="1350" y="4848"/>
                </a:moveTo>
                <a:lnTo>
                  <a:pt x="2700" y="4848"/>
                </a:lnTo>
                <a:lnTo>
                  <a:pt x="2700" y="16752"/>
                </a:lnTo>
                <a:lnTo>
                  <a:pt x="1350" y="1675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3259200">
            <a:off x="5306040" y="1276920"/>
            <a:ext cx="1417680" cy="514440"/>
          </a:xfrm>
          <a:custGeom>
            <a:avLst/>
            <a:gdLst>
              <a:gd name="textAreaLeft" fmla="*/ 258480 w 1417680"/>
              <a:gd name="textAreaRight" fmla="*/ 1017360 w 1417680"/>
              <a:gd name="textAreaTop" fmla="*/ 68760 h 514440"/>
              <a:gd name="textAreaBottom" fmla="*/ 4456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82" hR="21600" stAng="10800000" swAng="5400000"/>
                <a:lnTo>
                  <a:pt x="11558" y="0"/>
                </a:lnTo>
                <a:arcTo wR="7882" hR="21600" stAng="-5400000" swAng="2754323"/>
                <a:lnTo>
                  <a:pt x="21149" y="14400"/>
                </a:lnTo>
                <a:lnTo>
                  <a:pt x="17602" y="21600"/>
                </a:lnTo>
                <a:lnTo>
                  <a:pt x="13153" y="14400"/>
                </a:lnTo>
                <a:lnTo>
                  <a:pt x="15313" y="14400"/>
                </a:lnTo>
                <a:arcTo wR="7882" hR="21600" stAng="-2645677" swAng="-2454267"/>
                <a:lnTo>
                  <a:pt x="9720" y="595"/>
                </a:lnTo>
                <a:arcTo wR="7882" hR="21600" stAng="-5700056" swAng="-5099944"/>
                <a:close/>
              </a:path>
              <a:path fill="darkenLess" w="21600" h="21600">
                <a:moveTo>
                  <a:pt x="0" y="21600"/>
                </a:moveTo>
                <a:arcTo wR="7882" hR="21600" stAng="10800000" swAng="5400000"/>
                <a:lnTo>
                  <a:pt x="7882" y="0"/>
                </a:lnTo>
                <a:arcTo wR="7882" hR="21600" stAng="-5400000" swAng="300056"/>
                <a:lnTo>
                  <a:pt x="9720" y="595"/>
                </a:lnTo>
                <a:arcTo wR="7882" hR="21600" stAng="-5700056" swAng="-5099944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3560000">
            <a:off x="5194800" y="1135440"/>
            <a:ext cx="1455840" cy="517320"/>
          </a:xfrm>
          <a:custGeom>
            <a:avLst/>
            <a:gdLst>
              <a:gd name="textAreaLeft" fmla="*/ 254520 w 1455840"/>
              <a:gd name="textAreaRight" fmla="*/ 1055520 w 1455840"/>
              <a:gd name="textAreaTop" fmla="*/ 69120 h 517320"/>
              <a:gd name="textAreaBottom" fmla="*/ 44820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8835200">
            <a:off x="2282760" y="4538520"/>
            <a:ext cx="544680" cy="1331640"/>
          </a:xfrm>
          <a:custGeom>
            <a:avLst/>
            <a:gdLst>
              <a:gd name="textAreaLeft" fmla="*/ 72720 w 544680"/>
              <a:gd name="textAreaRight" fmla="*/ 471960 w 544680"/>
              <a:gd name="textAreaTop" fmla="*/ 232920 h 1331640"/>
              <a:gd name="textAreaBottom" fmla="*/ 965520 h 13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78680" y="4588560"/>
            <a:ext cx="1612440" cy="1330560"/>
            <a:chOff x="5278680" y="4588560"/>
            <a:chExt cx="1612440" cy="1330560"/>
          </a:xfrm>
        </p:grpSpPr>
        <p:sp>
          <p:nvSpPr>
            <p:cNvPr id="528" name=""/>
            <p:cNvSpPr/>
            <p:nvPr/>
          </p:nvSpPr>
          <p:spPr>
            <a:xfrm rot="8929200">
              <a:off x="5309280" y="5074560"/>
              <a:ext cx="1417680" cy="514440"/>
            </a:xfrm>
            <a:custGeom>
              <a:avLst/>
              <a:gdLst>
                <a:gd name="textAreaLeft" fmla="*/ 258480 w 1417680"/>
                <a:gd name="textAreaRight" fmla="*/ 1017360 w 1417680"/>
                <a:gd name="textAreaTop" fmla="*/ 68760 h 514440"/>
                <a:gd name="textAreaBottom" fmla="*/ 44568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882" hR="21600" stAng="10800000" swAng="5400000"/>
                  <a:lnTo>
                    <a:pt x="11558" y="0"/>
                  </a:lnTo>
                  <a:arcTo wR="7882" hR="21600" stAng="-5400000" swAng="2754323"/>
                  <a:lnTo>
                    <a:pt x="21149" y="14400"/>
                  </a:lnTo>
                  <a:lnTo>
                    <a:pt x="17602" y="21600"/>
                  </a:lnTo>
                  <a:lnTo>
                    <a:pt x="13153" y="14400"/>
                  </a:lnTo>
                  <a:lnTo>
                    <a:pt x="15313" y="14400"/>
                  </a:lnTo>
                  <a:arcTo wR="7882" hR="21600" stAng="-2645677" swAng="-2454267"/>
                  <a:lnTo>
                    <a:pt x="9720" y="595"/>
                  </a:lnTo>
                  <a:arcTo wR="7882" hR="21600" stAng="-5700056" swAng="-5099944"/>
                  <a:close/>
                </a:path>
                <a:path fill="darkenLess" w="21600" h="21600">
                  <a:moveTo>
                    <a:pt x="0" y="21600"/>
                  </a:moveTo>
                  <a:arcTo wR="7882" hR="21600" stAng="10800000" swAng="5400000"/>
                  <a:lnTo>
                    <a:pt x="7882" y="0"/>
                  </a:lnTo>
                  <a:arcTo wR="7882" hR="21600" stAng="-5400000" swAng="300056"/>
                  <a:lnTo>
                    <a:pt x="9720" y="595"/>
                  </a:lnTo>
                  <a:arcTo wR="7882" hR="21600" stAng="-5700056" swAng="-5099944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9230000">
              <a:off x="5436720" y="4992120"/>
              <a:ext cx="1455840" cy="517680"/>
            </a:xfrm>
            <a:custGeom>
              <a:avLst/>
              <a:gdLst>
                <a:gd name="textAreaLeft" fmla="*/ 254520 w 1455840"/>
                <a:gd name="textAreaRight" fmla="*/ 1055520 w 14558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919080" y="5599080"/>
            <a:ext cx="1909800" cy="878040"/>
          </a:xfrm>
          <a:prstGeom prst="wedgeRoundRectCallout">
            <a:avLst>
              <a:gd name="adj1" fmla="val 76768"/>
              <a:gd name="adj2" fmla="val -49097"/>
              <a:gd name="adj3" fmla="val 16667"/>
            </a:avLst>
          </a:pr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90440"/>
            <a:ext cx="44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การเลื่อนระดับตำแหน่ง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396360" y="957240"/>
            <a:ext cx="91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</a:rPr>
              <a:t>เลื่อนระดับภายในกลุ่มประเภทตำแหน่งเดียวกัน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ตัวอย่าง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84720" y="179532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99"/>
                </a:solidFill>
                <a:uFillTx/>
                <a:latin typeface="Times New Roman"/>
              </a:rPr>
              <a:t>เกณฑ์การเลื่อนระดั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0454400">
            <a:off x="2311200" y="4317840"/>
            <a:ext cx="380880" cy="60984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5880" y="2888640"/>
            <a:ext cx="14875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3280" y="2341080"/>
            <a:ext cx="14983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8480" y="43552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ดับปฏิบัติ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4280" y="504036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98480" y="4007880"/>
            <a:ext cx="149868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5880" y="32806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454400">
            <a:off x="2285640" y="30794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454400">
            <a:off x="2309400" y="242388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0454400">
            <a:off x="2296800" y="37112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33880" y="2232000"/>
            <a:ext cx="580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หน้าที่ความรับผิดชอบหลักของผู้ปฏิบัติงานถึงเกณฑ์ที่กำหนดไว้สำหร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ความรู้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ทักษะที่จำเป็นในงานของตำแหน่งเป้าหมาย ได้แก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คอมพิวเตอร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ภาษาอังกฤ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คำนว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บริหารจัดการฐานข้อมู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สมรรถนะ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(Competency)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ประสบการณ์ในงานที่เกี่ยวข้องก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000" y="1092240"/>
            <a:ext cx="473040" cy="344520"/>
          </a:xfrm>
          <a:prstGeom prst="rightArrow">
            <a:avLst>
              <a:gd name="adj1" fmla="val 50000"/>
              <a:gd name="adj2" fmla="val 34326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3360" y="210816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20760" y="229536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57560" y="1552680"/>
            <a:ext cx="263520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30640" y="5591160"/>
            <a:ext cx="1620720" cy="28440"/>
          </a:xfrm>
          <a:custGeom>
            <a:avLst/>
            <a:gdLst/>
            <a:ahLst/>
            <a:rect l="l" t="t" r="r" b="b"/>
            <a:pathLst>
              <a:path w="1108" h="18">
                <a:moveTo>
                  <a:pt x="0" y="0"/>
                </a:moveTo>
                <a:lnTo>
                  <a:pt x="32" y="3"/>
                </a:lnTo>
                <a:lnTo>
                  <a:pt x="65" y="5"/>
                </a:lnTo>
                <a:lnTo>
                  <a:pt x="98" y="7"/>
                </a:lnTo>
                <a:lnTo>
                  <a:pt x="131" y="9"/>
                </a:lnTo>
                <a:lnTo>
                  <a:pt x="164" y="11"/>
                </a:lnTo>
                <a:lnTo>
                  <a:pt x="196" y="12"/>
                </a:lnTo>
                <a:lnTo>
                  <a:pt x="231" y="13"/>
                </a:lnTo>
                <a:lnTo>
                  <a:pt x="266" y="14"/>
                </a:lnTo>
                <a:lnTo>
                  <a:pt x="300" y="15"/>
                </a:lnTo>
                <a:lnTo>
                  <a:pt x="334" y="16"/>
                </a:lnTo>
                <a:lnTo>
                  <a:pt x="368" y="16"/>
                </a:lnTo>
                <a:lnTo>
                  <a:pt x="403" y="17"/>
                </a:lnTo>
                <a:lnTo>
                  <a:pt x="439" y="17"/>
                </a:lnTo>
                <a:lnTo>
                  <a:pt x="472" y="17"/>
                </a:lnTo>
                <a:lnTo>
                  <a:pt x="508" y="17"/>
                </a:lnTo>
                <a:lnTo>
                  <a:pt x="543" y="17"/>
                </a:lnTo>
                <a:lnTo>
                  <a:pt x="579" y="16"/>
                </a:lnTo>
                <a:lnTo>
                  <a:pt x="615" y="16"/>
                </a:lnTo>
                <a:lnTo>
                  <a:pt x="649" y="16"/>
                </a:lnTo>
                <a:lnTo>
                  <a:pt x="685" y="15"/>
                </a:lnTo>
                <a:lnTo>
                  <a:pt x="721" y="14"/>
                </a:lnTo>
                <a:lnTo>
                  <a:pt x="756" y="13"/>
                </a:lnTo>
                <a:lnTo>
                  <a:pt x="792" y="12"/>
                </a:lnTo>
                <a:lnTo>
                  <a:pt x="827" y="11"/>
                </a:lnTo>
                <a:lnTo>
                  <a:pt x="863" y="10"/>
                </a:lnTo>
                <a:lnTo>
                  <a:pt x="897" y="9"/>
                </a:lnTo>
                <a:lnTo>
                  <a:pt x="933" y="8"/>
                </a:lnTo>
                <a:lnTo>
                  <a:pt x="968" y="7"/>
                </a:lnTo>
                <a:lnTo>
                  <a:pt x="1003" y="5"/>
                </a:lnTo>
                <a:lnTo>
                  <a:pt x="1037" y="3"/>
                </a:lnTo>
                <a:lnTo>
                  <a:pt x="1073" y="2"/>
                </a:lnTo>
                <a:lnTo>
                  <a:pt x="1107" y="0"/>
                </a:lnTo>
                <a:lnTo>
                  <a:pt x="0" y="0"/>
                </a:lnTo>
              </a:path>
            </a:pathLst>
          </a:custGeom>
          <a:solidFill>
            <a:srgbClr val="002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03520" y="5443560"/>
            <a:ext cx="3881520" cy="176040"/>
          </a:xfrm>
          <a:custGeom>
            <a:avLst/>
            <a:gdLst/>
            <a:ahLst/>
            <a:rect l="l" t="t" r="r" b="b"/>
            <a:pathLst>
              <a:path w="2648" h="111">
                <a:moveTo>
                  <a:pt x="2647" y="0"/>
                </a:moveTo>
                <a:lnTo>
                  <a:pt x="2588" y="45"/>
                </a:lnTo>
                <a:lnTo>
                  <a:pt x="2561" y="39"/>
                </a:lnTo>
                <a:lnTo>
                  <a:pt x="2529" y="35"/>
                </a:lnTo>
                <a:lnTo>
                  <a:pt x="2487" y="31"/>
                </a:lnTo>
                <a:lnTo>
                  <a:pt x="2440" y="31"/>
                </a:lnTo>
                <a:lnTo>
                  <a:pt x="2384" y="31"/>
                </a:lnTo>
                <a:lnTo>
                  <a:pt x="2325" y="34"/>
                </a:lnTo>
                <a:lnTo>
                  <a:pt x="2259" y="37"/>
                </a:lnTo>
                <a:lnTo>
                  <a:pt x="2188" y="42"/>
                </a:lnTo>
                <a:lnTo>
                  <a:pt x="2111" y="46"/>
                </a:lnTo>
                <a:lnTo>
                  <a:pt x="2032" y="51"/>
                </a:lnTo>
                <a:lnTo>
                  <a:pt x="1950" y="59"/>
                </a:lnTo>
                <a:lnTo>
                  <a:pt x="1862" y="65"/>
                </a:lnTo>
                <a:lnTo>
                  <a:pt x="1771" y="72"/>
                </a:lnTo>
                <a:lnTo>
                  <a:pt x="1676" y="77"/>
                </a:lnTo>
                <a:lnTo>
                  <a:pt x="1579" y="84"/>
                </a:lnTo>
                <a:lnTo>
                  <a:pt x="1483" y="91"/>
                </a:lnTo>
                <a:lnTo>
                  <a:pt x="1385" y="97"/>
                </a:lnTo>
                <a:lnTo>
                  <a:pt x="1284" y="102"/>
                </a:lnTo>
                <a:lnTo>
                  <a:pt x="1182" y="105"/>
                </a:lnTo>
                <a:lnTo>
                  <a:pt x="1081" y="107"/>
                </a:lnTo>
                <a:lnTo>
                  <a:pt x="981" y="109"/>
                </a:lnTo>
                <a:lnTo>
                  <a:pt x="880" y="110"/>
                </a:lnTo>
                <a:lnTo>
                  <a:pt x="780" y="109"/>
                </a:lnTo>
                <a:lnTo>
                  <a:pt x="681" y="105"/>
                </a:lnTo>
                <a:lnTo>
                  <a:pt x="586" y="101"/>
                </a:lnTo>
                <a:lnTo>
                  <a:pt x="493" y="94"/>
                </a:lnTo>
                <a:lnTo>
                  <a:pt x="403" y="84"/>
                </a:lnTo>
                <a:lnTo>
                  <a:pt x="313" y="73"/>
                </a:lnTo>
                <a:lnTo>
                  <a:pt x="229" y="59"/>
                </a:lnTo>
                <a:lnTo>
                  <a:pt x="149" y="42"/>
                </a:lnTo>
                <a:lnTo>
                  <a:pt x="72" y="22"/>
                </a:lnTo>
                <a:lnTo>
                  <a:pt x="0" y="0"/>
                </a:lnTo>
                <a:lnTo>
                  <a:pt x="2647" y="0"/>
                </a:lnTo>
              </a:path>
            </a:pathLst>
          </a:custGeom>
          <a:solidFill>
            <a:srgbClr val="003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5297400"/>
            <a:ext cx="4313520" cy="284400"/>
          </a:xfrm>
          <a:custGeom>
            <a:avLst/>
            <a:gdLst/>
            <a:ahLst/>
            <a:rect l="l" t="t" r="r" b="b"/>
            <a:pathLst>
              <a:path w="2942" h="179">
                <a:moveTo>
                  <a:pt x="2941" y="0"/>
                </a:moveTo>
                <a:lnTo>
                  <a:pt x="2769" y="135"/>
                </a:lnTo>
                <a:lnTo>
                  <a:pt x="2758" y="132"/>
                </a:lnTo>
                <a:lnTo>
                  <a:pt x="2744" y="129"/>
                </a:lnTo>
                <a:lnTo>
                  <a:pt x="2730" y="127"/>
                </a:lnTo>
                <a:lnTo>
                  <a:pt x="2712" y="125"/>
                </a:lnTo>
                <a:lnTo>
                  <a:pt x="2693" y="123"/>
                </a:lnTo>
                <a:lnTo>
                  <a:pt x="2673" y="120"/>
                </a:lnTo>
                <a:lnTo>
                  <a:pt x="2651" y="120"/>
                </a:lnTo>
                <a:lnTo>
                  <a:pt x="2628" y="120"/>
                </a:lnTo>
                <a:lnTo>
                  <a:pt x="2603" y="120"/>
                </a:lnTo>
                <a:lnTo>
                  <a:pt x="2576" y="120"/>
                </a:lnTo>
                <a:lnTo>
                  <a:pt x="2547" y="123"/>
                </a:lnTo>
                <a:lnTo>
                  <a:pt x="2517" y="123"/>
                </a:lnTo>
                <a:lnTo>
                  <a:pt x="2488" y="125"/>
                </a:lnTo>
                <a:lnTo>
                  <a:pt x="2455" y="127"/>
                </a:lnTo>
                <a:lnTo>
                  <a:pt x="2423" y="128"/>
                </a:lnTo>
                <a:lnTo>
                  <a:pt x="2388" y="131"/>
                </a:lnTo>
                <a:lnTo>
                  <a:pt x="2353" y="132"/>
                </a:lnTo>
                <a:lnTo>
                  <a:pt x="2316" y="135"/>
                </a:lnTo>
                <a:lnTo>
                  <a:pt x="2278" y="137"/>
                </a:lnTo>
                <a:lnTo>
                  <a:pt x="2238" y="140"/>
                </a:lnTo>
                <a:lnTo>
                  <a:pt x="2200" y="143"/>
                </a:lnTo>
                <a:lnTo>
                  <a:pt x="2160" y="146"/>
                </a:lnTo>
                <a:lnTo>
                  <a:pt x="2119" y="149"/>
                </a:lnTo>
                <a:lnTo>
                  <a:pt x="2076" y="153"/>
                </a:lnTo>
                <a:lnTo>
                  <a:pt x="2032" y="155"/>
                </a:lnTo>
                <a:lnTo>
                  <a:pt x="1988" y="158"/>
                </a:lnTo>
                <a:lnTo>
                  <a:pt x="1944" y="162"/>
                </a:lnTo>
                <a:lnTo>
                  <a:pt x="1899" y="165"/>
                </a:lnTo>
                <a:lnTo>
                  <a:pt x="1854" y="168"/>
                </a:lnTo>
                <a:lnTo>
                  <a:pt x="1807" y="172"/>
                </a:lnTo>
                <a:lnTo>
                  <a:pt x="1760" y="175"/>
                </a:lnTo>
                <a:lnTo>
                  <a:pt x="1714" y="178"/>
                </a:lnTo>
                <a:lnTo>
                  <a:pt x="605" y="178"/>
                </a:lnTo>
                <a:lnTo>
                  <a:pt x="583" y="175"/>
                </a:lnTo>
                <a:lnTo>
                  <a:pt x="560" y="172"/>
                </a:lnTo>
                <a:lnTo>
                  <a:pt x="537" y="170"/>
                </a:lnTo>
                <a:lnTo>
                  <a:pt x="515" y="166"/>
                </a:lnTo>
                <a:lnTo>
                  <a:pt x="492" y="163"/>
                </a:lnTo>
                <a:lnTo>
                  <a:pt x="471" y="161"/>
                </a:lnTo>
                <a:lnTo>
                  <a:pt x="448" y="157"/>
                </a:lnTo>
                <a:lnTo>
                  <a:pt x="427" y="153"/>
                </a:lnTo>
                <a:lnTo>
                  <a:pt x="405" y="149"/>
                </a:lnTo>
                <a:lnTo>
                  <a:pt x="384" y="144"/>
                </a:lnTo>
                <a:lnTo>
                  <a:pt x="363" y="140"/>
                </a:lnTo>
                <a:lnTo>
                  <a:pt x="343" y="136"/>
                </a:lnTo>
                <a:lnTo>
                  <a:pt x="324" y="131"/>
                </a:lnTo>
                <a:lnTo>
                  <a:pt x="303" y="127"/>
                </a:lnTo>
                <a:lnTo>
                  <a:pt x="283" y="120"/>
                </a:lnTo>
                <a:lnTo>
                  <a:pt x="264" y="115"/>
                </a:lnTo>
                <a:lnTo>
                  <a:pt x="244" y="110"/>
                </a:lnTo>
                <a:lnTo>
                  <a:pt x="226" y="105"/>
                </a:lnTo>
                <a:lnTo>
                  <a:pt x="207" y="98"/>
                </a:lnTo>
                <a:lnTo>
                  <a:pt x="191" y="92"/>
                </a:lnTo>
                <a:lnTo>
                  <a:pt x="172" y="85"/>
                </a:lnTo>
                <a:lnTo>
                  <a:pt x="154" y="80"/>
                </a:lnTo>
                <a:lnTo>
                  <a:pt x="136" y="72"/>
                </a:lnTo>
                <a:lnTo>
                  <a:pt x="120" y="66"/>
                </a:lnTo>
                <a:lnTo>
                  <a:pt x="104" y="59"/>
                </a:lnTo>
                <a:lnTo>
                  <a:pt x="88" y="50"/>
                </a:lnTo>
                <a:lnTo>
                  <a:pt x="72" y="42"/>
                </a:lnTo>
                <a:lnTo>
                  <a:pt x="58" y="35"/>
                </a:lnTo>
                <a:lnTo>
                  <a:pt x="43" y="27"/>
                </a:lnTo>
                <a:lnTo>
                  <a:pt x="28" y="17"/>
                </a:lnTo>
                <a:lnTo>
                  <a:pt x="15" y="8"/>
                </a:lnTo>
                <a:lnTo>
                  <a:pt x="0" y="0"/>
                </a:lnTo>
                <a:lnTo>
                  <a:pt x="2941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2400" y="5148360"/>
            <a:ext cx="4627440" cy="287280"/>
          </a:xfrm>
          <a:custGeom>
            <a:avLst/>
            <a:gdLst/>
            <a:ahLst/>
            <a:rect l="l" t="t" r="r" b="b"/>
            <a:pathLst>
              <a:path w="3157" h="181">
                <a:moveTo>
                  <a:pt x="2928" y="180"/>
                </a:moveTo>
                <a:lnTo>
                  <a:pt x="3156" y="0"/>
                </a:lnTo>
                <a:lnTo>
                  <a:pt x="0" y="0"/>
                </a:lnTo>
                <a:lnTo>
                  <a:pt x="14" y="16"/>
                </a:lnTo>
                <a:lnTo>
                  <a:pt x="26" y="28"/>
                </a:lnTo>
                <a:lnTo>
                  <a:pt x="40" y="42"/>
                </a:lnTo>
                <a:lnTo>
                  <a:pt x="54" y="55"/>
                </a:lnTo>
                <a:lnTo>
                  <a:pt x="70" y="68"/>
                </a:lnTo>
                <a:lnTo>
                  <a:pt x="86" y="80"/>
                </a:lnTo>
                <a:lnTo>
                  <a:pt x="103" y="93"/>
                </a:lnTo>
                <a:lnTo>
                  <a:pt x="119" y="103"/>
                </a:lnTo>
                <a:lnTo>
                  <a:pt x="138" y="115"/>
                </a:lnTo>
                <a:lnTo>
                  <a:pt x="156" y="124"/>
                </a:lnTo>
                <a:lnTo>
                  <a:pt x="176" y="134"/>
                </a:lnTo>
                <a:lnTo>
                  <a:pt x="196" y="144"/>
                </a:lnTo>
                <a:lnTo>
                  <a:pt x="216" y="154"/>
                </a:lnTo>
                <a:lnTo>
                  <a:pt x="237" y="163"/>
                </a:lnTo>
                <a:lnTo>
                  <a:pt x="260" y="172"/>
                </a:lnTo>
                <a:lnTo>
                  <a:pt x="281" y="180"/>
                </a:lnTo>
                <a:lnTo>
                  <a:pt x="2928" y="18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12840" y="5003640"/>
            <a:ext cx="4870440" cy="284400"/>
          </a:xfrm>
          <a:custGeom>
            <a:avLst/>
            <a:gdLst/>
            <a:ahLst/>
            <a:rect l="l" t="t" r="r" b="b"/>
            <a:pathLst>
              <a:path w="3323" h="179">
                <a:moveTo>
                  <a:pt x="3319" y="0"/>
                </a:moveTo>
                <a:lnTo>
                  <a:pt x="3322" y="4"/>
                </a:lnTo>
                <a:lnTo>
                  <a:pt x="3097" y="178"/>
                </a:lnTo>
                <a:lnTo>
                  <a:pt x="154" y="178"/>
                </a:lnTo>
                <a:lnTo>
                  <a:pt x="141" y="169"/>
                </a:lnTo>
                <a:lnTo>
                  <a:pt x="129" y="160"/>
                </a:lnTo>
                <a:lnTo>
                  <a:pt x="116" y="151"/>
                </a:lnTo>
                <a:lnTo>
                  <a:pt x="105" y="139"/>
                </a:lnTo>
                <a:lnTo>
                  <a:pt x="93" y="130"/>
                </a:lnTo>
                <a:lnTo>
                  <a:pt x="82" y="120"/>
                </a:lnTo>
                <a:lnTo>
                  <a:pt x="72" y="109"/>
                </a:lnTo>
                <a:lnTo>
                  <a:pt x="62" y="98"/>
                </a:lnTo>
                <a:lnTo>
                  <a:pt x="52" y="87"/>
                </a:lnTo>
                <a:lnTo>
                  <a:pt x="44" y="76"/>
                </a:lnTo>
                <a:lnTo>
                  <a:pt x="34" y="64"/>
                </a:lnTo>
                <a:lnTo>
                  <a:pt x="27" y="51"/>
                </a:lnTo>
                <a:lnTo>
                  <a:pt x="18" y="40"/>
                </a:lnTo>
                <a:lnTo>
                  <a:pt x="13" y="26"/>
                </a:lnTo>
                <a:lnTo>
                  <a:pt x="5" y="14"/>
                </a:lnTo>
                <a:lnTo>
                  <a:pt x="0" y="0"/>
                </a:lnTo>
                <a:lnTo>
                  <a:pt x="331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87640" y="4857840"/>
            <a:ext cx="4895640" cy="282600"/>
          </a:xfrm>
          <a:custGeom>
            <a:avLst/>
            <a:gdLst/>
            <a:ahLst/>
            <a:rect l="l" t="t" r="r" b="b"/>
            <a:pathLst>
              <a:path w="3339" h="178">
                <a:moveTo>
                  <a:pt x="3217" y="0"/>
                </a:moveTo>
                <a:lnTo>
                  <a:pt x="3338" y="93"/>
                </a:lnTo>
                <a:lnTo>
                  <a:pt x="3228" y="177"/>
                </a:lnTo>
                <a:lnTo>
                  <a:pt x="70" y="177"/>
                </a:lnTo>
                <a:lnTo>
                  <a:pt x="65" y="171"/>
                </a:lnTo>
                <a:lnTo>
                  <a:pt x="59" y="162"/>
                </a:lnTo>
                <a:lnTo>
                  <a:pt x="53" y="155"/>
                </a:lnTo>
                <a:lnTo>
                  <a:pt x="48" y="147"/>
                </a:lnTo>
                <a:lnTo>
                  <a:pt x="44" y="140"/>
                </a:lnTo>
                <a:lnTo>
                  <a:pt x="38" y="132"/>
                </a:lnTo>
                <a:lnTo>
                  <a:pt x="34" y="124"/>
                </a:lnTo>
                <a:lnTo>
                  <a:pt x="28" y="115"/>
                </a:lnTo>
                <a:lnTo>
                  <a:pt x="24" y="108"/>
                </a:lnTo>
                <a:lnTo>
                  <a:pt x="21" y="98"/>
                </a:lnTo>
                <a:lnTo>
                  <a:pt x="17" y="90"/>
                </a:lnTo>
                <a:lnTo>
                  <a:pt x="13" y="82"/>
                </a:lnTo>
                <a:lnTo>
                  <a:pt x="8" y="73"/>
                </a:lnTo>
                <a:lnTo>
                  <a:pt x="5" y="65"/>
                </a:lnTo>
                <a:lnTo>
                  <a:pt x="2" y="56"/>
                </a:lnTo>
                <a:lnTo>
                  <a:pt x="0" y="46"/>
                </a:lnTo>
                <a:lnTo>
                  <a:pt x="49" y="0"/>
                </a:lnTo>
                <a:lnTo>
                  <a:pt x="321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87640" y="4711680"/>
            <a:ext cx="4892760" cy="28404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63600" y="4565520"/>
            <a:ext cx="464364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20840" y="4417920"/>
            <a:ext cx="4567320" cy="28584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35240" y="4273560"/>
            <a:ext cx="4552920" cy="28260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13000" y="4125960"/>
            <a:ext cx="4390920" cy="28404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89320" y="3978360"/>
            <a:ext cx="414468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70320" y="3833640"/>
            <a:ext cx="4027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03520" y="3686040"/>
            <a:ext cx="3855960" cy="284400"/>
          </a:xfrm>
          <a:custGeom>
            <a:avLst/>
            <a:gdLst/>
            <a:ahLst/>
            <a:rect l="l" t="t" r="r" b="b"/>
            <a:pathLst>
              <a:path w="2631" h="179">
                <a:moveTo>
                  <a:pt x="2475" y="0"/>
                </a:moveTo>
                <a:lnTo>
                  <a:pt x="2620" y="141"/>
                </a:lnTo>
                <a:lnTo>
                  <a:pt x="2630" y="178"/>
                </a:lnTo>
                <a:lnTo>
                  <a:pt x="0" y="178"/>
                </a:lnTo>
                <a:lnTo>
                  <a:pt x="67" y="112"/>
                </a:lnTo>
                <a:lnTo>
                  <a:pt x="118" y="0"/>
                </a:lnTo>
                <a:lnTo>
                  <a:pt x="2475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17640" y="3540240"/>
            <a:ext cx="3651480" cy="28404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76680" y="3395520"/>
            <a:ext cx="3454200" cy="28260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36800" y="3260880"/>
            <a:ext cx="3259080" cy="26964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28960" y="3284640"/>
            <a:ext cx="2074680" cy="101520"/>
          </a:xfrm>
          <a:custGeom>
            <a:avLst/>
            <a:gdLst/>
            <a:ahLst/>
            <a:rect l="l" t="t" r="r" b="b"/>
            <a:pathLst>
              <a:path w="1415" h="64">
                <a:moveTo>
                  <a:pt x="0" y="63"/>
                </a:moveTo>
                <a:lnTo>
                  <a:pt x="47" y="10"/>
                </a:lnTo>
                <a:lnTo>
                  <a:pt x="223" y="20"/>
                </a:lnTo>
                <a:lnTo>
                  <a:pt x="464" y="0"/>
                </a:lnTo>
                <a:lnTo>
                  <a:pt x="956" y="29"/>
                </a:lnTo>
                <a:lnTo>
                  <a:pt x="1414" y="63"/>
                </a:lnTo>
                <a:lnTo>
                  <a:pt x="0" y="63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00640" y="3260880"/>
            <a:ext cx="654120" cy="125280"/>
          </a:xfrm>
          <a:custGeom>
            <a:avLst/>
            <a:gdLst/>
            <a:ahLst/>
            <a:rect l="l" t="t" r="r" b="b"/>
            <a:pathLst>
              <a:path w="447" h="79">
                <a:moveTo>
                  <a:pt x="0" y="78"/>
                </a:moveTo>
                <a:lnTo>
                  <a:pt x="172" y="51"/>
                </a:lnTo>
                <a:lnTo>
                  <a:pt x="246" y="38"/>
                </a:lnTo>
                <a:lnTo>
                  <a:pt x="356" y="0"/>
                </a:lnTo>
                <a:lnTo>
                  <a:pt x="446" y="78"/>
                </a:lnTo>
                <a:lnTo>
                  <a:pt x="0" y="7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87640" y="3260880"/>
            <a:ext cx="4903560" cy="2369880"/>
          </a:xfrm>
          <a:custGeom>
            <a:avLst/>
            <a:gdLst/>
            <a:ahLst/>
            <a:rect l="l" t="t" r="r" b="b"/>
            <a:pathLst>
              <a:path w="3344" h="1493">
                <a:moveTo>
                  <a:pt x="524" y="144"/>
                </a:moveTo>
                <a:lnTo>
                  <a:pt x="619" y="27"/>
                </a:lnTo>
                <a:lnTo>
                  <a:pt x="794" y="37"/>
                </a:lnTo>
                <a:lnTo>
                  <a:pt x="1036" y="17"/>
                </a:lnTo>
                <a:lnTo>
                  <a:pt x="1531" y="49"/>
                </a:lnTo>
                <a:lnTo>
                  <a:pt x="2122" y="96"/>
                </a:lnTo>
                <a:lnTo>
                  <a:pt x="2363" y="58"/>
                </a:lnTo>
                <a:lnTo>
                  <a:pt x="2440" y="41"/>
                </a:lnTo>
                <a:lnTo>
                  <a:pt x="2552" y="0"/>
                </a:lnTo>
                <a:lnTo>
                  <a:pt x="2672" y="113"/>
                </a:lnTo>
                <a:lnTo>
                  <a:pt x="2976" y="414"/>
                </a:lnTo>
                <a:lnTo>
                  <a:pt x="3038" y="643"/>
                </a:lnTo>
                <a:lnTo>
                  <a:pt x="3210" y="776"/>
                </a:lnTo>
                <a:lnTo>
                  <a:pt x="3133" y="938"/>
                </a:lnTo>
                <a:lnTo>
                  <a:pt x="3343" y="1103"/>
                </a:lnTo>
                <a:lnTo>
                  <a:pt x="2945" y="1425"/>
                </a:lnTo>
                <a:lnTo>
                  <a:pt x="2912" y="1416"/>
                </a:lnTo>
                <a:lnTo>
                  <a:pt x="2866" y="1412"/>
                </a:lnTo>
                <a:lnTo>
                  <a:pt x="2809" y="1410"/>
                </a:lnTo>
                <a:lnTo>
                  <a:pt x="2743" y="1410"/>
                </a:lnTo>
                <a:lnTo>
                  <a:pt x="2666" y="1413"/>
                </a:lnTo>
                <a:lnTo>
                  <a:pt x="2583" y="1419"/>
                </a:lnTo>
                <a:lnTo>
                  <a:pt x="2491" y="1425"/>
                </a:lnTo>
                <a:lnTo>
                  <a:pt x="2392" y="1432"/>
                </a:lnTo>
                <a:lnTo>
                  <a:pt x="2286" y="1441"/>
                </a:lnTo>
                <a:lnTo>
                  <a:pt x="2176" y="1449"/>
                </a:lnTo>
                <a:lnTo>
                  <a:pt x="2059" y="1457"/>
                </a:lnTo>
                <a:lnTo>
                  <a:pt x="1941" y="1466"/>
                </a:lnTo>
                <a:lnTo>
                  <a:pt x="1818" y="1474"/>
                </a:lnTo>
                <a:lnTo>
                  <a:pt x="1695" y="1481"/>
                </a:lnTo>
                <a:lnTo>
                  <a:pt x="1568" y="1487"/>
                </a:lnTo>
                <a:lnTo>
                  <a:pt x="1442" y="1491"/>
                </a:lnTo>
                <a:lnTo>
                  <a:pt x="1315" y="1492"/>
                </a:lnTo>
                <a:lnTo>
                  <a:pt x="1191" y="1492"/>
                </a:lnTo>
                <a:lnTo>
                  <a:pt x="1068" y="1491"/>
                </a:lnTo>
                <a:lnTo>
                  <a:pt x="947" y="1484"/>
                </a:lnTo>
                <a:lnTo>
                  <a:pt x="832" y="1475"/>
                </a:lnTo>
                <a:lnTo>
                  <a:pt x="717" y="1462"/>
                </a:lnTo>
                <a:lnTo>
                  <a:pt x="610" y="1446"/>
                </a:lnTo>
                <a:lnTo>
                  <a:pt x="509" y="1425"/>
                </a:lnTo>
                <a:lnTo>
                  <a:pt x="414" y="1397"/>
                </a:lnTo>
                <a:lnTo>
                  <a:pt x="325" y="1367"/>
                </a:lnTo>
                <a:lnTo>
                  <a:pt x="245" y="1331"/>
                </a:lnTo>
                <a:lnTo>
                  <a:pt x="174" y="1288"/>
                </a:lnTo>
                <a:lnTo>
                  <a:pt x="114" y="1239"/>
                </a:lnTo>
                <a:lnTo>
                  <a:pt x="65" y="1184"/>
                </a:lnTo>
                <a:lnTo>
                  <a:pt x="25" y="1122"/>
                </a:lnTo>
                <a:lnTo>
                  <a:pt x="0" y="1054"/>
                </a:lnTo>
                <a:lnTo>
                  <a:pt x="150" y="910"/>
                </a:lnTo>
                <a:lnTo>
                  <a:pt x="89" y="838"/>
                </a:lnTo>
                <a:lnTo>
                  <a:pt x="243" y="560"/>
                </a:lnTo>
                <a:lnTo>
                  <a:pt x="415" y="385"/>
                </a:lnTo>
                <a:lnTo>
                  <a:pt x="524" y="144"/>
                </a:lnTo>
              </a:path>
            </a:pathLst>
          </a:custGeom>
          <a:noFill/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0200" y="3135240"/>
            <a:ext cx="687240" cy="125640"/>
          </a:xfrm>
          <a:custGeom>
            <a:avLst/>
            <a:gdLst/>
            <a:ahLst/>
            <a:rect l="l" t="t" r="r" b="b"/>
            <a:pathLst>
              <a:path w="468" h="79">
                <a:moveTo>
                  <a:pt x="467" y="0"/>
                </a:moveTo>
                <a:lnTo>
                  <a:pt x="461" y="0"/>
                </a:lnTo>
                <a:lnTo>
                  <a:pt x="0" y="16"/>
                </a:lnTo>
                <a:lnTo>
                  <a:pt x="1" y="78"/>
                </a:lnTo>
                <a:lnTo>
                  <a:pt x="462" y="62"/>
                </a:lnTo>
                <a:lnTo>
                  <a:pt x="455" y="61"/>
                </a:lnTo>
                <a:lnTo>
                  <a:pt x="467" y="0"/>
                </a:lnTo>
                <a:lnTo>
                  <a:pt x="463" y="0"/>
                </a:lnTo>
                <a:lnTo>
                  <a:pt x="461" y="0"/>
                </a:lnTo>
                <a:lnTo>
                  <a:pt x="467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46240" y="3135240"/>
            <a:ext cx="384120" cy="187560"/>
          </a:xfrm>
          <a:custGeom>
            <a:avLst/>
            <a:gdLst/>
            <a:ahLst/>
            <a:rect l="l" t="t" r="r" b="b"/>
            <a:pathLst>
              <a:path w="260" h="118">
                <a:moveTo>
                  <a:pt x="245" y="54"/>
                </a:moveTo>
                <a:lnTo>
                  <a:pt x="259" y="54"/>
                </a:lnTo>
                <a:lnTo>
                  <a:pt x="12" y="0"/>
                </a:lnTo>
                <a:lnTo>
                  <a:pt x="0" y="62"/>
                </a:lnTo>
                <a:lnTo>
                  <a:pt x="247" y="115"/>
                </a:lnTo>
                <a:lnTo>
                  <a:pt x="259" y="115"/>
                </a:lnTo>
                <a:lnTo>
                  <a:pt x="247" y="115"/>
                </a:lnTo>
                <a:lnTo>
                  <a:pt x="252" y="117"/>
                </a:lnTo>
                <a:lnTo>
                  <a:pt x="259" y="115"/>
                </a:lnTo>
                <a:lnTo>
                  <a:pt x="245" y="54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3080" y="3133800"/>
            <a:ext cx="36036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57600" y="31338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22480" y="3154320"/>
            <a:ext cx="270000" cy="106560"/>
          </a:xfrm>
          <a:custGeom>
            <a:avLst/>
            <a:gdLst/>
            <a:ahLst/>
            <a:rect l="l" t="t" r="r" b="b"/>
            <a:pathLst>
              <a:path w="183" h="67">
                <a:moveTo>
                  <a:pt x="176" y="5"/>
                </a:moveTo>
                <a:lnTo>
                  <a:pt x="181" y="5"/>
                </a:lnTo>
                <a:lnTo>
                  <a:pt x="1" y="0"/>
                </a:lnTo>
                <a:lnTo>
                  <a:pt x="0" y="61"/>
                </a:lnTo>
                <a:lnTo>
                  <a:pt x="179" y="66"/>
                </a:lnTo>
                <a:lnTo>
                  <a:pt x="182" y="66"/>
                </a:lnTo>
                <a:lnTo>
                  <a:pt x="179" y="66"/>
                </a:lnTo>
                <a:lnTo>
                  <a:pt x="181" y="66"/>
                </a:lnTo>
                <a:lnTo>
                  <a:pt x="182" y="66"/>
                </a:lnTo>
                <a:lnTo>
                  <a:pt x="176" y="5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89240" y="3119400"/>
            <a:ext cx="412920" cy="141480"/>
          </a:xfrm>
          <a:custGeom>
            <a:avLst/>
            <a:gdLst/>
            <a:ahLst/>
            <a:rect l="l" t="t" r="r" b="b"/>
            <a:pathLst>
              <a:path w="283" h="89">
                <a:moveTo>
                  <a:pt x="281" y="0"/>
                </a:moveTo>
                <a:lnTo>
                  <a:pt x="275" y="0"/>
                </a:lnTo>
                <a:lnTo>
                  <a:pt x="0" y="26"/>
                </a:lnTo>
                <a:lnTo>
                  <a:pt x="6" y="88"/>
                </a:lnTo>
                <a:lnTo>
                  <a:pt x="282" y="62"/>
                </a:lnTo>
                <a:lnTo>
                  <a:pt x="275" y="62"/>
                </a:lnTo>
                <a:lnTo>
                  <a:pt x="281" y="0"/>
                </a:lnTo>
                <a:lnTo>
                  <a:pt x="278" y="0"/>
                </a:lnTo>
                <a:lnTo>
                  <a:pt x="275" y="0"/>
                </a:lnTo>
                <a:lnTo>
                  <a:pt x="28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3120" y="3203640"/>
            <a:ext cx="276120" cy="14904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13400" y="311940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53240" y="3063960"/>
            <a:ext cx="204840" cy="147600"/>
          </a:xfrm>
          <a:custGeom>
            <a:avLst/>
            <a:gdLst/>
            <a:ahLst/>
            <a:rect l="l" t="t" r="r" b="b"/>
            <a:pathLst>
              <a:path w="140" h="93">
                <a:moveTo>
                  <a:pt x="135" y="0"/>
                </a:moveTo>
                <a:lnTo>
                  <a:pt x="123" y="1"/>
                </a:lnTo>
                <a:lnTo>
                  <a:pt x="0" y="32"/>
                </a:lnTo>
                <a:lnTo>
                  <a:pt x="16" y="92"/>
                </a:lnTo>
                <a:lnTo>
                  <a:pt x="139" y="62"/>
                </a:lnTo>
                <a:lnTo>
                  <a:pt x="127" y="62"/>
                </a:lnTo>
                <a:lnTo>
                  <a:pt x="135" y="0"/>
                </a:lnTo>
                <a:lnTo>
                  <a:pt x="130" y="0"/>
                </a:lnTo>
                <a:lnTo>
                  <a:pt x="123" y="1"/>
                </a:lnTo>
                <a:lnTo>
                  <a:pt x="13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49800" y="3063960"/>
            <a:ext cx="324000" cy="141120"/>
          </a:xfrm>
          <a:custGeom>
            <a:avLst/>
            <a:gdLst/>
            <a:ahLst/>
            <a:rect l="l" t="t" r="r" b="b"/>
            <a:pathLst>
              <a:path w="223" h="89">
                <a:moveTo>
                  <a:pt x="217" y="27"/>
                </a:moveTo>
                <a:lnTo>
                  <a:pt x="222" y="27"/>
                </a:lnTo>
                <a:lnTo>
                  <a:pt x="8" y="0"/>
                </a:lnTo>
                <a:lnTo>
                  <a:pt x="0" y="62"/>
                </a:lnTo>
                <a:lnTo>
                  <a:pt x="214" y="88"/>
                </a:lnTo>
                <a:lnTo>
                  <a:pt x="220" y="88"/>
                </a:lnTo>
                <a:lnTo>
                  <a:pt x="214" y="88"/>
                </a:lnTo>
                <a:lnTo>
                  <a:pt x="217" y="88"/>
                </a:lnTo>
                <a:lnTo>
                  <a:pt x="220" y="88"/>
                </a:lnTo>
                <a:lnTo>
                  <a:pt x="217" y="27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73800" y="3086280"/>
            <a:ext cx="390600" cy="118800"/>
          </a:xfrm>
          <a:custGeom>
            <a:avLst/>
            <a:gdLst/>
            <a:ahLst/>
            <a:rect l="l" t="t" r="r" b="b"/>
            <a:pathLst>
              <a:path w="265" h="75">
                <a:moveTo>
                  <a:pt x="263" y="0"/>
                </a:moveTo>
                <a:lnTo>
                  <a:pt x="262" y="0"/>
                </a:lnTo>
                <a:lnTo>
                  <a:pt x="0" y="14"/>
                </a:lnTo>
                <a:lnTo>
                  <a:pt x="3" y="74"/>
                </a:lnTo>
                <a:lnTo>
                  <a:pt x="264" y="62"/>
                </a:lnTo>
                <a:lnTo>
                  <a:pt x="263" y="62"/>
                </a:lnTo>
                <a:lnTo>
                  <a:pt x="263" y="0"/>
                </a:lnTo>
                <a:lnTo>
                  <a:pt x="262" y="0"/>
                </a:lnTo>
                <a:lnTo>
                  <a:pt x="263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45160" y="3089160"/>
            <a:ext cx="636840" cy="98640"/>
          </a:xfrm>
          <a:custGeom>
            <a:avLst/>
            <a:gdLst/>
            <a:ahLst/>
            <a:rect l="l" t="t" r="r" b="b"/>
            <a:pathLst>
              <a:path w="435" h="62">
                <a:moveTo>
                  <a:pt x="434" y="31"/>
                </a:moveTo>
                <a:lnTo>
                  <a:pt x="434" y="0"/>
                </a:lnTo>
                <a:lnTo>
                  <a:pt x="0" y="0"/>
                </a:lnTo>
                <a:lnTo>
                  <a:pt x="0" y="61"/>
                </a:lnTo>
                <a:lnTo>
                  <a:pt x="434" y="61"/>
                </a:lnTo>
                <a:lnTo>
                  <a:pt x="434" y="3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8040" y="3641760"/>
            <a:ext cx="530280" cy="689040"/>
          </a:xfrm>
          <a:custGeom>
            <a:avLst/>
            <a:gdLst/>
            <a:ahLst/>
            <a:rect l="l" t="t" r="r" b="b"/>
            <a:pathLst>
              <a:path w="362" h="434">
                <a:moveTo>
                  <a:pt x="0" y="348"/>
                </a:moveTo>
                <a:lnTo>
                  <a:pt x="361" y="0"/>
                </a:lnTo>
                <a:lnTo>
                  <a:pt x="42" y="433"/>
                </a:lnTo>
                <a:lnTo>
                  <a:pt x="0" y="348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30640" y="4694400"/>
            <a:ext cx="285840" cy="690480"/>
          </a:xfrm>
          <a:custGeom>
            <a:avLst/>
            <a:gdLst/>
            <a:ahLst/>
            <a:rect l="l" t="t" r="r" b="b"/>
            <a:pathLst>
              <a:path w="194" h="435">
                <a:moveTo>
                  <a:pt x="193" y="400"/>
                </a:moveTo>
                <a:lnTo>
                  <a:pt x="0" y="0"/>
                </a:lnTo>
                <a:lnTo>
                  <a:pt x="170" y="434"/>
                </a:lnTo>
                <a:lnTo>
                  <a:pt x="193" y="400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29240" y="1773360"/>
            <a:ext cx="39600" cy="88920"/>
          </a:xfrm>
          <a:custGeom>
            <a:avLst/>
            <a:gdLst/>
            <a:ahLst/>
            <a:rect l="l" t="t" r="r" b="b"/>
            <a:pathLst>
              <a:path w="28" h="58">
                <a:moveTo>
                  <a:pt x="27" y="0"/>
                </a:moveTo>
                <a:lnTo>
                  <a:pt x="0" y="22"/>
                </a:lnTo>
                <a:lnTo>
                  <a:pt x="0" y="57"/>
                </a:lnTo>
                <a:lnTo>
                  <a:pt x="27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82920" y="4522680"/>
            <a:ext cx="314280" cy="517680"/>
          </a:xfrm>
          <a:custGeom>
            <a:avLst/>
            <a:gdLst/>
            <a:ahLst/>
            <a:rect l="l" t="t" r="r" b="b"/>
            <a:pathLst>
              <a:path w="215" h="325">
                <a:moveTo>
                  <a:pt x="0" y="131"/>
                </a:moveTo>
                <a:lnTo>
                  <a:pt x="69" y="0"/>
                </a:lnTo>
                <a:lnTo>
                  <a:pt x="214" y="324"/>
                </a:lnTo>
                <a:lnTo>
                  <a:pt x="0" y="131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49400" y="4468680"/>
            <a:ext cx="168480" cy="45108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46840" y="1952640"/>
            <a:ext cx="3430440" cy="839880"/>
          </a:xfrm>
          <a:custGeom>
            <a:avLst/>
            <a:gdLst/>
            <a:ahLst/>
            <a:rect l="l" t="t" r="r" b="b"/>
            <a:pathLst>
              <a:path w="2341" h="529">
                <a:moveTo>
                  <a:pt x="505" y="0"/>
                </a:moveTo>
                <a:lnTo>
                  <a:pt x="505" y="308"/>
                </a:lnTo>
                <a:lnTo>
                  <a:pt x="0" y="490"/>
                </a:lnTo>
                <a:lnTo>
                  <a:pt x="505" y="440"/>
                </a:lnTo>
                <a:lnTo>
                  <a:pt x="505" y="528"/>
                </a:lnTo>
                <a:lnTo>
                  <a:pt x="811" y="528"/>
                </a:lnTo>
                <a:lnTo>
                  <a:pt x="1269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9" y="0"/>
                </a:lnTo>
                <a:lnTo>
                  <a:pt x="811" y="0"/>
                </a:lnTo>
                <a:lnTo>
                  <a:pt x="505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88160" y="201780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62680" y="3133800"/>
            <a:ext cx="3431880" cy="1122120"/>
          </a:xfrm>
          <a:custGeom>
            <a:avLst/>
            <a:gdLst/>
            <a:ahLst/>
            <a:rect l="l" t="t" r="r" b="b"/>
            <a:pathLst>
              <a:path w="2341" h="707">
                <a:moveTo>
                  <a:pt x="493" y="0"/>
                </a:moveTo>
                <a:lnTo>
                  <a:pt x="493" y="308"/>
                </a:lnTo>
                <a:lnTo>
                  <a:pt x="493" y="440"/>
                </a:lnTo>
                <a:lnTo>
                  <a:pt x="493" y="528"/>
                </a:lnTo>
                <a:lnTo>
                  <a:pt x="801" y="528"/>
                </a:lnTo>
                <a:lnTo>
                  <a:pt x="0" y="706"/>
                </a:lnTo>
                <a:lnTo>
                  <a:pt x="1262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2" y="0"/>
                </a:lnTo>
                <a:lnTo>
                  <a:pt x="801" y="0"/>
                </a:lnTo>
                <a:lnTo>
                  <a:pt x="493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88160" y="3198960"/>
            <a:ext cx="2504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32360" y="4462560"/>
            <a:ext cx="3619440" cy="893520"/>
          </a:xfrm>
          <a:custGeom>
            <a:avLst/>
            <a:gdLst/>
            <a:ahLst/>
            <a:rect l="l" t="t" r="r" b="b"/>
            <a:pathLst>
              <a:path w="2469" h="563">
                <a:moveTo>
                  <a:pt x="491" y="0"/>
                </a:moveTo>
                <a:lnTo>
                  <a:pt x="485" y="308"/>
                </a:lnTo>
                <a:lnTo>
                  <a:pt x="0" y="474"/>
                </a:lnTo>
                <a:lnTo>
                  <a:pt x="483" y="440"/>
                </a:lnTo>
                <a:lnTo>
                  <a:pt x="482" y="528"/>
                </a:lnTo>
                <a:lnTo>
                  <a:pt x="811" y="533"/>
                </a:lnTo>
                <a:lnTo>
                  <a:pt x="1305" y="542"/>
                </a:lnTo>
                <a:lnTo>
                  <a:pt x="2459" y="562"/>
                </a:lnTo>
                <a:lnTo>
                  <a:pt x="2461" y="474"/>
                </a:lnTo>
                <a:lnTo>
                  <a:pt x="2463" y="342"/>
                </a:lnTo>
                <a:lnTo>
                  <a:pt x="2468" y="34"/>
                </a:lnTo>
                <a:lnTo>
                  <a:pt x="1314" y="14"/>
                </a:lnTo>
                <a:lnTo>
                  <a:pt x="821" y="6"/>
                </a:lnTo>
                <a:lnTo>
                  <a:pt x="491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60000">
            <a:off x="5745240" y="4554360"/>
            <a:ext cx="2695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2089080"/>
            <a:ext cx="23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ชี่ยวชาญ ชำนาญพิเศษในด้าน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83280" y="3193920"/>
            <a:ext cx="232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รู้สึกนึกคิดเกี่ยวกับเอกลักษณ์และคุณค่า          ของต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45240" y="4537080"/>
            <a:ext cx="2415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จินตนาการ แนวโน้มวิธีคิด วิธีปฏิบัติตนอันเป็นไปโดยธรรมชาติของบุคค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840" y="1585800"/>
            <a:ext cx="3314520" cy="716040"/>
          </a:xfrm>
          <a:custGeom>
            <a:avLst/>
            <a:gdLst/>
            <a:ahLst/>
            <a:rect l="l" t="t" r="r" b="b"/>
            <a:pathLst>
              <a:path w="2262" h="451">
                <a:moveTo>
                  <a:pt x="8" y="0"/>
                </a:moveTo>
                <a:lnTo>
                  <a:pt x="4" y="245"/>
                </a:lnTo>
                <a:lnTo>
                  <a:pt x="2" y="350"/>
                </a:lnTo>
                <a:lnTo>
                  <a:pt x="0" y="420"/>
                </a:lnTo>
                <a:lnTo>
                  <a:pt x="973" y="437"/>
                </a:lnTo>
                <a:lnTo>
                  <a:pt x="1389" y="445"/>
                </a:lnTo>
                <a:lnTo>
                  <a:pt x="1667" y="450"/>
                </a:lnTo>
                <a:lnTo>
                  <a:pt x="1668" y="380"/>
                </a:lnTo>
                <a:lnTo>
                  <a:pt x="2261" y="426"/>
                </a:lnTo>
                <a:lnTo>
                  <a:pt x="1670" y="275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60000">
            <a:off x="366480" y="1674720"/>
            <a:ext cx="22381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7280" y="4592520"/>
            <a:ext cx="3470400" cy="828720"/>
          </a:xfrm>
          <a:custGeom>
            <a:avLst/>
            <a:gdLst/>
            <a:ahLst/>
            <a:rect l="l" t="t" r="r" b="b"/>
            <a:pathLst>
              <a:path w="2367" h="522">
                <a:moveTo>
                  <a:pt x="8" y="0"/>
                </a:moveTo>
                <a:lnTo>
                  <a:pt x="7" y="82"/>
                </a:lnTo>
                <a:lnTo>
                  <a:pt x="5" y="205"/>
                </a:lnTo>
                <a:lnTo>
                  <a:pt x="0" y="491"/>
                </a:lnTo>
                <a:lnTo>
                  <a:pt x="973" y="508"/>
                </a:lnTo>
                <a:lnTo>
                  <a:pt x="1389" y="516"/>
                </a:lnTo>
                <a:lnTo>
                  <a:pt x="1667" y="521"/>
                </a:lnTo>
                <a:lnTo>
                  <a:pt x="1672" y="234"/>
                </a:lnTo>
                <a:lnTo>
                  <a:pt x="2366" y="147"/>
                </a:lnTo>
                <a:lnTo>
                  <a:pt x="1674" y="111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60000">
            <a:off x="304560" y="4676760"/>
            <a:ext cx="2239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9760" y="3219480"/>
            <a:ext cx="3419280" cy="755640"/>
          </a:xfrm>
          <a:custGeom>
            <a:avLst/>
            <a:gdLst/>
            <a:ahLst/>
            <a:rect l="l" t="t" r="r" b="b"/>
            <a:pathLst>
              <a:path w="2334" h="476">
                <a:moveTo>
                  <a:pt x="8" y="0"/>
                </a:moveTo>
                <a:lnTo>
                  <a:pt x="3" y="260"/>
                </a:lnTo>
                <a:lnTo>
                  <a:pt x="2" y="371"/>
                </a:lnTo>
                <a:lnTo>
                  <a:pt x="0" y="445"/>
                </a:lnTo>
                <a:lnTo>
                  <a:pt x="986" y="462"/>
                </a:lnTo>
                <a:lnTo>
                  <a:pt x="1407" y="470"/>
                </a:lnTo>
                <a:lnTo>
                  <a:pt x="1689" y="475"/>
                </a:lnTo>
                <a:lnTo>
                  <a:pt x="1690" y="401"/>
                </a:lnTo>
                <a:lnTo>
                  <a:pt x="2333" y="273"/>
                </a:lnTo>
                <a:lnTo>
                  <a:pt x="1692" y="289"/>
                </a:lnTo>
                <a:lnTo>
                  <a:pt x="1697" y="30"/>
                </a:lnTo>
                <a:lnTo>
                  <a:pt x="1415" y="25"/>
                </a:lnTo>
                <a:lnTo>
                  <a:pt x="994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60000">
            <a:off x="347400" y="3308040"/>
            <a:ext cx="227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8440" y="1650960"/>
            <a:ext cx="2293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ข้อมูลความรู้ที่บุคคลมีในสาขา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6760" y="3297240"/>
            <a:ext cx="2386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บุคคลแสดงออกต่อผู้อื่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3880" y="4648320"/>
            <a:ext cx="228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คยชิน พฤติกรรมซ้ำๆในรูปแบบใด            รูปแบบหนึ่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8680" y="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ที่มาของสมรรถนะ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94200" y="2602080"/>
            <a:ext cx="331920" cy="384120"/>
          </a:xfrm>
          <a:custGeom>
            <a:avLst/>
            <a:gdLst/>
            <a:ahLst/>
            <a:rect l="l" t="t" r="r" b="b"/>
            <a:pathLst>
              <a:path w="227" h="251">
                <a:moveTo>
                  <a:pt x="226" y="0"/>
                </a:moveTo>
                <a:lnTo>
                  <a:pt x="118" y="160"/>
                </a:lnTo>
                <a:lnTo>
                  <a:pt x="0" y="250"/>
                </a:lnTo>
                <a:lnTo>
                  <a:pt x="81" y="105"/>
                </a:lnTo>
                <a:lnTo>
                  <a:pt x="226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2400" y="2019240"/>
            <a:ext cx="517680" cy="460440"/>
          </a:xfrm>
          <a:custGeom>
            <a:avLst/>
            <a:gdLst/>
            <a:ahLst/>
            <a:rect l="l" t="t" r="r" b="b"/>
            <a:pathLst>
              <a:path w="352" h="300">
                <a:moveTo>
                  <a:pt x="351" y="0"/>
                </a:moveTo>
                <a:lnTo>
                  <a:pt x="0" y="299"/>
                </a:lnTo>
                <a:lnTo>
                  <a:pt x="282" y="34"/>
                </a:lnTo>
                <a:lnTo>
                  <a:pt x="351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51200" y="2490840"/>
            <a:ext cx="446040" cy="520560"/>
          </a:xfrm>
          <a:custGeom>
            <a:avLst/>
            <a:gdLst/>
            <a:ahLst/>
            <a:rect l="l" t="t" r="r" b="b"/>
            <a:pathLst>
              <a:path w="305" h="340">
                <a:moveTo>
                  <a:pt x="0" y="0"/>
                </a:moveTo>
                <a:lnTo>
                  <a:pt x="304" y="339"/>
                </a:lnTo>
                <a:lnTo>
                  <a:pt x="122" y="97"/>
                </a:lnTo>
                <a:lnTo>
                  <a:pt x="0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2080" y="2298600"/>
            <a:ext cx="465120" cy="725760"/>
          </a:xfrm>
          <a:custGeom>
            <a:avLst/>
            <a:gdLst/>
            <a:ahLst/>
            <a:rect l="l" t="t" r="r" b="b"/>
            <a:pathLst>
              <a:path w="317" h="474">
                <a:moveTo>
                  <a:pt x="0" y="111"/>
                </a:moveTo>
                <a:lnTo>
                  <a:pt x="16" y="0"/>
                </a:lnTo>
                <a:lnTo>
                  <a:pt x="198" y="222"/>
                </a:lnTo>
                <a:lnTo>
                  <a:pt x="231" y="277"/>
                </a:lnTo>
                <a:lnTo>
                  <a:pt x="316" y="473"/>
                </a:lnTo>
                <a:lnTo>
                  <a:pt x="187" y="215"/>
                </a:lnTo>
                <a:lnTo>
                  <a:pt x="0" y="111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46160" y="3322800"/>
            <a:ext cx="324216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92440" y="2039760"/>
            <a:ext cx="17146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98920" y="3119400"/>
            <a:ext cx="3049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03840" y="3146400"/>
            <a:ext cx="247320" cy="109440"/>
          </a:xfrm>
          <a:custGeom>
            <a:avLst/>
            <a:gdLst/>
            <a:ahLst/>
            <a:rect l="l" t="t" r="r" b="b"/>
            <a:pathLst>
              <a:path w="168" h="72">
                <a:moveTo>
                  <a:pt x="166" y="10"/>
                </a:moveTo>
                <a:lnTo>
                  <a:pt x="167" y="10"/>
                </a:lnTo>
                <a:lnTo>
                  <a:pt x="4" y="0"/>
                </a:lnTo>
                <a:lnTo>
                  <a:pt x="0" y="60"/>
                </a:lnTo>
                <a:lnTo>
                  <a:pt x="162" y="71"/>
                </a:lnTo>
                <a:lnTo>
                  <a:pt x="163" y="71"/>
                </a:lnTo>
                <a:lnTo>
                  <a:pt x="162" y="71"/>
                </a:lnTo>
                <a:lnTo>
                  <a:pt x="163" y="71"/>
                </a:lnTo>
                <a:lnTo>
                  <a:pt x="166" y="1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1160" y="3164040"/>
            <a:ext cx="268560" cy="99720"/>
          </a:xfrm>
          <a:custGeom>
            <a:avLst/>
            <a:gdLst/>
            <a:ahLst/>
            <a:rect l="l" t="t" r="r" b="b"/>
            <a:pathLst>
              <a:path w="184" h="66">
                <a:moveTo>
                  <a:pt x="183" y="6"/>
                </a:moveTo>
                <a:lnTo>
                  <a:pt x="180" y="6"/>
                </a:lnTo>
                <a:lnTo>
                  <a:pt x="3" y="0"/>
                </a:lnTo>
                <a:lnTo>
                  <a:pt x="0" y="60"/>
                </a:lnTo>
                <a:lnTo>
                  <a:pt x="179" y="65"/>
                </a:lnTo>
                <a:lnTo>
                  <a:pt x="176" y="65"/>
                </a:lnTo>
                <a:lnTo>
                  <a:pt x="183" y="6"/>
                </a:lnTo>
                <a:lnTo>
                  <a:pt x="182" y="6"/>
                </a:lnTo>
                <a:lnTo>
                  <a:pt x="180" y="6"/>
                </a:lnTo>
                <a:lnTo>
                  <a:pt x="183" y="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17920" y="3173400"/>
            <a:ext cx="484200" cy="141480"/>
          </a:xfrm>
          <a:custGeom>
            <a:avLst/>
            <a:gdLst/>
            <a:ahLst/>
            <a:rect l="l" t="t" r="r" b="b"/>
            <a:pathLst>
              <a:path w="331" h="92">
                <a:moveTo>
                  <a:pt x="330" y="30"/>
                </a:moveTo>
                <a:lnTo>
                  <a:pt x="330" y="30"/>
                </a:lnTo>
                <a:lnTo>
                  <a:pt x="7" y="0"/>
                </a:lnTo>
                <a:lnTo>
                  <a:pt x="0" y="61"/>
                </a:lnTo>
                <a:lnTo>
                  <a:pt x="324" y="91"/>
                </a:lnTo>
                <a:lnTo>
                  <a:pt x="330" y="3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00680" y="32241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981600" y="1162080"/>
            <a:ext cx="3790800" cy="541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20760" y="272412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1905120"/>
            <a:ext cx="133848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320" y="5867280"/>
            <a:ext cx="3657600" cy="28440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5638680"/>
            <a:ext cx="320040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334120"/>
            <a:ext cx="3124080" cy="36180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" y="4724280"/>
            <a:ext cx="2743200" cy="35892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5029200"/>
            <a:ext cx="3048120" cy="36036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520" y="4495680"/>
            <a:ext cx="251460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267080"/>
            <a:ext cx="2362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120" y="3962520"/>
            <a:ext cx="2209680" cy="36036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8080" y="3657600"/>
            <a:ext cx="1981440" cy="35892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3505320"/>
            <a:ext cx="1676520" cy="30168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8080" y="3429000"/>
            <a:ext cx="35892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34290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3429000"/>
            <a:ext cx="274680" cy="14940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38280" y="335268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47960" y="4897440"/>
            <a:ext cx="169920" cy="45072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60000">
            <a:off x="304560" y="5105520"/>
            <a:ext cx="2239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ความสัมพันธ์ระหว่างคุณลักษณะของบุคคล สมรรถนะ และผลงาน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2120" y="3657600"/>
            <a:ext cx="22860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2209680"/>
            <a:ext cx="9144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3429000"/>
            <a:ext cx="3031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52480" y="34527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219360" y="1295280"/>
            <a:ext cx="2924640" cy="5257800"/>
            <a:chOff x="6219360" y="1295280"/>
            <a:chExt cx="2924640" cy="5257800"/>
          </a:xfrm>
        </p:grpSpPr>
        <p:sp>
          <p:nvSpPr>
            <p:cNvPr id="643" name=""/>
            <p:cNvSpPr/>
            <p:nvPr/>
          </p:nvSpPr>
          <p:spPr>
            <a:xfrm>
              <a:off x="6500160" y="12952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00160" y="2362320"/>
              <a:ext cx="84816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49840" y="342900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9840" y="449568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49840" y="5562720"/>
              <a:ext cx="84780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95840" y="31240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ผลงา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9" name=""/>
            <p:cNvCxnSpPr>
              <a:endCxn id="643" idx="3"/>
            </p:cNvCxnSpPr>
            <p:nvPr/>
          </p:nvCxnSpPr>
          <p:spPr>
            <a:xfrm flipV="1">
              <a:off x="6219720" y="2141280"/>
              <a:ext cx="404640" cy="178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"/>
            <p:cNvCxnSpPr>
              <a:endCxn id="644" idx="3"/>
            </p:cNvCxnSpPr>
            <p:nvPr/>
          </p:nvCxnSpPr>
          <p:spPr>
            <a:xfrm flipV="1">
              <a:off x="6219720" y="3207600"/>
              <a:ext cx="40464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endCxn id="645" idx="2"/>
            </p:cNvCxnSpPr>
            <p:nvPr/>
          </p:nvCxnSpPr>
          <p:spPr>
            <a:xfrm>
              <a:off x="6219360" y="3924000"/>
              <a:ext cx="330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"/>
            <p:cNvCxnSpPr>
              <a:endCxn id="646" idx="1"/>
            </p:cNvCxnSpPr>
            <p:nvPr/>
          </p:nvCxnSpPr>
          <p:spPr>
            <a:xfrm>
              <a:off x="6219360" y="3924000"/>
              <a:ext cx="45468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"/>
            <p:cNvCxnSpPr>
              <a:endCxn id="647" idx="2"/>
            </p:cNvCxnSpPr>
            <p:nvPr/>
          </p:nvCxnSpPr>
          <p:spPr>
            <a:xfrm>
              <a:off x="6219360" y="3924000"/>
              <a:ext cx="330840" cy="213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"/>
            <p:cNvCxnSpPr>
              <a:stCxn id="643" idx="6"/>
              <a:endCxn id="648" idx="1"/>
            </p:cNvCxnSpPr>
            <p:nvPr/>
          </p:nvCxnSpPr>
          <p:spPr>
            <a:xfrm>
              <a:off x="7347960" y="1790640"/>
              <a:ext cx="1071720" cy="14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5" name=""/>
            <p:cNvCxnSpPr>
              <a:stCxn id="644" idx="6"/>
              <a:endCxn id="648" idx="2"/>
            </p:cNvCxnSpPr>
            <p:nvPr/>
          </p:nvCxnSpPr>
          <p:spPr>
            <a:xfrm>
              <a:off x="7348320" y="2857680"/>
              <a:ext cx="9482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"/>
            <p:cNvCxnSpPr>
              <a:stCxn id="645" idx="6"/>
              <a:endCxn id="648" idx="2"/>
            </p:cNvCxnSpPr>
            <p:nvPr/>
          </p:nvCxnSpPr>
          <p:spPr>
            <a:xfrm flipV="1">
              <a:off x="7398000" y="3618720"/>
              <a:ext cx="8985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"/>
            <p:cNvCxnSpPr>
              <a:stCxn id="646" idx="6"/>
              <a:endCxn id="648" idx="3"/>
            </p:cNvCxnSpPr>
            <p:nvPr/>
          </p:nvCxnSpPr>
          <p:spPr>
            <a:xfrm flipV="1">
              <a:off x="7397640" y="3969720"/>
              <a:ext cx="1022040" cy="10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8" name=""/>
            <p:cNvCxnSpPr>
              <a:stCxn id="647" idx="6"/>
              <a:endCxn id="648" idx="4"/>
            </p:cNvCxnSpPr>
            <p:nvPr/>
          </p:nvCxnSpPr>
          <p:spPr>
            <a:xfrm flipV="1">
              <a:off x="7398000" y="4114440"/>
              <a:ext cx="1322640" cy="194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9" name=""/>
          <p:cNvSpPr/>
          <p:nvPr/>
        </p:nvSpPr>
        <p:spPr>
          <a:xfrm>
            <a:off x="479520" y="1233360"/>
            <a:ext cx="269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ลักษณะของบุคค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0400" y="36957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10080" y="369576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79920" y="361476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60520" y="4381560"/>
            <a:ext cx="3022560" cy="1650960"/>
          </a:xfrm>
          <a:prstGeom prst="wedgeRectCallout">
            <a:avLst>
              <a:gd name="adj1" fmla="val -263"/>
              <a:gd name="adj2" fmla="val -64421"/>
            </a:avLst>
          </a:prstGeom>
          <a:solidFill>
            <a:srgbClr val="ffb2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6360" y="4486320"/>
            <a:ext cx="30114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จัดจำแนกกลุ่มงานโดยพิจารณาจากผลสัมฤทธิ์ของงานภาครัฐเป็นหลัก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เช่น การกำหนดนโยบาย การตรากฎหมาย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สำหรับ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และสายอาชีพของข้าราชการไม่ใช่ปัจจั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ในการจัด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29000" y="1476360"/>
            <a:ext cx="900000" cy="25923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52760" y="1486080"/>
            <a:ext cx="799920" cy="2573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1880" y="1488960"/>
            <a:ext cx="815760" cy="2576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040" y="1562040"/>
            <a:ext cx="1041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76880" y="15620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แร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12800" y="1562040"/>
            <a:ext cx="10749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56280" y="156204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สาธารณสุ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19280" y="1562040"/>
            <a:ext cx="968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57520" y="157464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การคล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8640" y="192240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98560" y="1906560"/>
            <a:ext cx="260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นโยบายและวางแผ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8640" y="2319480"/>
            <a:ext cx="2687760" cy="23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06440" y="230508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2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ห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8640" y="2727360"/>
            <a:ext cx="268776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81360" y="2700360"/>
            <a:ext cx="23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3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ังคับใช้กฎหม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25400" y="316872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05200" y="3137040"/>
            <a:ext cx="211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การประชาช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5400" y="3583080"/>
            <a:ext cx="268920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9400" y="3564000"/>
            <a:ext cx="327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สื่อสารและส่งเสริมการศึ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33480" y="259164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08440" y="2003400"/>
            <a:ext cx="22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9720" y="1036800"/>
            <a:ext cx="252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57800" y="1112760"/>
            <a:ext cx="9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ระทรว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30760" y="1131840"/>
            <a:ext cx="53132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คำจำกัดควา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	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การจัดกลุ่มงาน คือ การจัดกลุ่มของบทบาทงานต่างๆที่มีลักษณะงานคล้ายคลึงกันเข้าไว้ด้วยกัน โดยพิจารณาจากลักษณะงาน วัตถุประสงค์ของงาน ตลอดจนผลลัพธ์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/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ผลสัมฤทธิ์ของงานเป็น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ประโยชน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พื้นฐานในการทบทวนระดับงานของข้าราชการพลเรือนในปัจจุบัน เพื่อแบ่งหน้าที่รับผิดชอบหลักและอำนาจตัดสินใจให้  ชัดเจนในแต่ละระด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ปัจจัยหนึ่งในการพิจารณาค่าตอบแทนสำหรับระดับงานต่างๆ ซึ่งมีขอบเขตหน้าที่รับผิดชอบหลักต่าง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กรอบในการกำหนดคุณสมบัติเชิงพฤติกรรมที่จำเป็น  ประจำกลุ่มงานต่างๆ 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(Competenc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-367920" y="179280"/>
            <a:ext cx="57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960" y="103968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 flipH="1">
            <a:off x="2163600" y="1754280"/>
            <a:ext cx="28800" cy="43210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62480" y="1719360"/>
            <a:ext cx="14400" cy="442584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675240"/>
            <a:ext cx="112104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ลูกค้าผู้รับบริการ</a:t>
            </a: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ea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47080" y="2570040"/>
            <a:ext cx="111204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ใน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1080" y="4989600"/>
            <a:ext cx="122472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นอก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76400" y="2171880"/>
            <a:ext cx="1624320" cy="535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องค์ความรู้สำคัญใน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Knowledge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6400" y="2733840"/>
            <a:ext cx="1624320" cy="477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ระบบและทรัพยากร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Systems &amp; Resources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87560" y="5483160"/>
            <a:ext cx="1616040" cy="41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วัสดิภาพและความปลอดภัยเพื่อประชาชน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afety &amp; Security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89360" y="3948120"/>
            <a:ext cx="1611360" cy="398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าธารณสุ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Health)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0800" y="4354560"/>
            <a:ext cx="1611360" cy="327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ภาครัฐเพื่อประชา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rvice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87560" y="4716360"/>
            <a:ext cx="1619280" cy="736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สริมสร้างความเข้าใจและความร่วมมือระหว่างรัฐและประชาชน และงานพัฒนามวล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Understanding &amp; Cooper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76400" y="3251160"/>
            <a:ext cx="1624320" cy="300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มั่นคงแห่งชาต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National Secu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19680" y="3887640"/>
            <a:ext cx="156852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ข่าวกรองและสืบสว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26160" y="5343480"/>
            <a:ext cx="158904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อกสารราชการและทะเบีย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03840" y="4821120"/>
            <a:ext cx="16099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ื่อสารและเผยแพร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4295880"/>
            <a:ext cx="156060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ประชาชนด้านสุข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วัสดิ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5000" y="3143160"/>
            <a:ext cx="156996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16440" y="3417840"/>
            <a:ext cx="157500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ั่วไป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15000" y="205740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้นคว้าวิจั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15000" y="2259000"/>
            <a:ext cx="1569960" cy="1760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ให้คำปร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15000" y="249552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นโยบายและวางแผ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2709720"/>
            <a:ext cx="1569960" cy="148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ผู้บริหารระดับสู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3560" y="4565520"/>
            <a:ext cx="1577880" cy="1789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15000" y="3603600"/>
            <a:ext cx="157464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อกแบบเพื่อการพัฒน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13520" y="1754280"/>
            <a:ext cx="2221560" cy="38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รอบผลลัพธ์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/</a:t>
            </a: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ผลสัมฤทธิ์ทางด้าน 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Areas of Output/Outcom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80760" y="1739880"/>
            <a:ext cx="1332720" cy="26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ลุ่มงาน</a:t>
            </a:r>
            <a:r>
              <a:rPr b="1" lang="th-TH" sz="10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Job Famil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>
            <a:stCxn id="692" idx="0"/>
            <a:endCxn id="693" idx="2"/>
          </p:cNvCxnSpPr>
          <p:nvPr/>
        </p:nvCxnSpPr>
        <p:spPr>
          <a:xfrm flipV="1">
            <a:off x="1017360" y="2823840"/>
            <a:ext cx="386280" cy="8517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2" idx="2"/>
            <a:endCxn id="694" idx="0"/>
          </p:cNvCxnSpPr>
          <p:nvPr/>
        </p:nvCxnSpPr>
        <p:spPr>
          <a:xfrm>
            <a:off x="1017360" y="4080960"/>
            <a:ext cx="316440" cy="909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95" idx="1"/>
          </p:cNvCxnSpPr>
          <p:nvPr/>
        </p:nvCxnSpPr>
        <p:spPr>
          <a:xfrm flipV="1">
            <a:off x="1992240" y="2444040"/>
            <a:ext cx="884880" cy="253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96" idx="1"/>
          </p:cNvCxnSpPr>
          <p:nvPr/>
        </p:nvCxnSpPr>
        <p:spPr>
          <a:xfrm>
            <a:off x="1992240" y="2696760"/>
            <a:ext cx="884880" cy="243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693" idx="3"/>
            <a:endCxn id="701" idx="1"/>
          </p:cNvCxnSpPr>
          <p:nvPr/>
        </p:nvCxnSpPr>
        <p:spPr>
          <a:xfrm>
            <a:off x="1992240" y="2696760"/>
            <a:ext cx="884880" cy="71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694" idx="3"/>
            <a:endCxn id="698" idx="1"/>
          </p:cNvCxnSpPr>
          <p:nvPr/>
        </p:nvCxnSpPr>
        <p:spPr>
          <a:xfrm flipV="1">
            <a:off x="1969920" y="4136400"/>
            <a:ext cx="920160" cy="98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694" idx="3"/>
            <a:endCxn id="699" idx="1"/>
          </p:cNvCxnSpPr>
          <p:nvPr/>
        </p:nvCxnSpPr>
        <p:spPr>
          <a:xfrm flipV="1">
            <a:off x="1969920" y="4522320"/>
            <a:ext cx="921600" cy="594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694" idx="3"/>
            <a:endCxn id="700" idx="1"/>
          </p:cNvCxnSpPr>
          <p:nvPr/>
        </p:nvCxnSpPr>
        <p:spPr>
          <a:xfrm flipV="1">
            <a:off x="1969560" y="5087520"/>
            <a:ext cx="918360" cy="29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694" idx="3"/>
            <a:endCxn id="697" idx="1"/>
          </p:cNvCxnSpPr>
          <p:nvPr/>
        </p:nvCxnSpPr>
        <p:spPr>
          <a:xfrm>
            <a:off x="1969560" y="5116320"/>
            <a:ext cx="918360" cy="578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695" idx="3"/>
            <a:endCxn id="708" idx="1"/>
          </p:cNvCxnSpPr>
          <p:nvPr/>
        </p:nvCxnSpPr>
        <p:spPr>
          <a:xfrm flipV="1">
            <a:off x="4500360" y="2142720"/>
            <a:ext cx="1215000" cy="3024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695" idx="3"/>
            <a:endCxn id="709" idx="1"/>
          </p:cNvCxnSpPr>
          <p:nvPr/>
        </p:nvCxnSpPr>
        <p:spPr>
          <a:xfrm flipV="1">
            <a:off x="4500360" y="2350800"/>
            <a:ext cx="1215000" cy="94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696" idx="3"/>
            <a:endCxn id="710" idx="1"/>
          </p:cNvCxnSpPr>
          <p:nvPr/>
        </p:nvCxnSpPr>
        <p:spPr>
          <a:xfrm flipV="1">
            <a:off x="4500360" y="2580480"/>
            <a:ext cx="1215000" cy="3596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696" idx="3"/>
            <a:endCxn id="711" idx="1"/>
          </p:cNvCxnSpPr>
          <p:nvPr/>
        </p:nvCxnSpPr>
        <p:spPr>
          <a:xfrm flipV="1">
            <a:off x="4500360" y="2787120"/>
            <a:ext cx="1215000" cy="153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01" idx="3"/>
            <a:endCxn id="702" idx="1"/>
          </p:cNvCxnSpPr>
          <p:nvPr/>
        </p:nvCxnSpPr>
        <p:spPr>
          <a:xfrm>
            <a:off x="4500720" y="3406320"/>
            <a:ext cx="1219680" cy="567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698" idx="3"/>
            <a:endCxn id="705" idx="1"/>
          </p:cNvCxnSpPr>
          <p:nvPr/>
        </p:nvCxnSpPr>
        <p:spPr>
          <a:xfrm>
            <a:off x="4500360" y="4136760"/>
            <a:ext cx="1215000" cy="283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699" idx="3"/>
            <a:endCxn id="712" idx="1"/>
          </p:cNvCxnSpPr>
          <p:nvPr/>
        </p:nvCxnSpPr>
        <p:spPr>
          <a:xfrm>
            <a:off x="4501800" y="4522680"/>
            <a:ext cx="1212120" cy="137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00" idx="3"/>
            <a:endCxn id="704" idx="1"/>
          </p:cNvCxnSpPr>
          <p:nvPr/>
        </p:nvCxnSpPr>
        <p:spPr>
          <a:xfrm flipV="1">
            <a:off x="4506480" y="4926960"/>
            <a:ext cx="1197360" cy="1609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697" idx="3"/>
            <a:endCxn id="703" idx="1"/>
          </p:cNvCxnSpPr>
          <p:nvPr/>
        </p:nvCxnSpPr>
        <p:spPr>
          <a:xfrm flipV="1">
            <a:off x="4503600" y="5449680"/>
            <a:ext cx="1223280" cy="24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696" idx="3"/>
            <a:endCxn id="706" idx="1"/>
          </p:cNvCxnSpPr>
          <p:nvPr/>
        </p:nvCxnSpPr>
        <p:spPr>
          <a:xfrm>
            <a:off x="4500360" y="2940120"/>
            <a:ext cx="1215000" cy="3276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696" idx="3"/>
            <a:endCxn id="707" idx="1"/>
          </p:cNvCxnSpPr>
          <p:nvPr/>
        </p:nvCxnSpPr>
        <p:spPr>
          <a:xfrm>
            <a:off x="4500360" y="2939760"/>
            <a:ext cx="1216440" cy="585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2884320" y="3598920"/>
            <a:ext cx="1624320" cy="318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15000" y="4100400"/>
            <a:ext cx="1568520" cy="1548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3"/>
            <a:endCxn id="737" idx="1"/>
          </p:cNvCxnSpPr>
          <p:nvPr/>
        </p:nvCxnSpPr>
        <p:spPr>
          <a:xfrm>
            <a:off x="4508280" y="3759120"/>
            <a:ext cx="1207080" cy="42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20680" y="808200"/>
            <a:ext cx="8656560" cy="87156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แนวทางการจัดกลุ่มงานใหม่สำหรับระบบราชการพลเรือนไทย จำเป็นต้องคำนึงถึงทิศทางการบริหารราชการไทยในอนาคตที่มุ่งเน้นการบริการภาครัฐ และมุ่งผลสัมฤทธิ์เป็นหลัก    กรอบแนวคิดในการจัดกลุ่มงานจึงเริ่มจากการพิจารณา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ลูกค้าผู้รับบริการ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ู้มีส่วนได้ส่วนเสีย  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รอบผลลัพธ์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ลสัมฤทธิ์ที่งานในภาคราชการพลเรือนจะต้องปฏิบัติให้บรรลุผลเพื่อสนับสนุนให้ภารกิจโดยรวมของภาครัฐบรรลุผ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15000" y="2905200"/>
            <a:ext cx="156996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การปกครอ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696" idx="3"/>
            <a:endCxn id="740" idx="1"/>
          </p:cNvCxnSpPr>
          <p:nvPr/>
        </p:nvCxnSpPr>
        <p:spPr>
          <a:xfrm>
            <a:off x="4500360" y="2940120"/>
            <a:ext cx="1215000" cy="640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696" idx="3"/>
            <a:endCxn id="713" idx="1"/>
          </p:cNvCxnSpPr>
          <p:nvPr/>
        </p:nvCxnSpPr>
        <p:spPr>
          <a:xfrm>
            <a:off x="4500360" y="2940120"/>
            <a:ext cx="1215000" cy="7624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5734080" y="5622840"/>
            <a:ext cx="159228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ังคับใช้กฎหมา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697" idx="3"/>
            <a:endCxn id="743" idx="1"/>
          </p:cNvCxnSpPr>
          <p:nvPr/>
        </p:nvCxnSpPr>
        <p:spPr>
          <a:xfrm>
            <a:off x="4503600" y="5694480"/>
            <a:ext cx="1231200" cy="417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2895480" y="5932440"/>
            <a:ext cx="1617840" cy="53388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มรดกแห่งชา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26160" y="5915160"/>
            <a:ext cx="158904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ศิลปวัฒนธรร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34080" y="6194520"/>
            <a:ext cx="1592280" cy="3128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ทรัพยากรธรรมชาต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ิ่งแวดล้อ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5" idx="3"/>
            <a:endCxn id="746" idx="1"/>
          </p:cNvCxnSpPr>
          <p:nvPr/>
        </p:nvCxnSpPr>
        <p:spPr>
          <a:xfrm flipV="1">
            <a:off x="4512960" y="6027480"/>
            <a:ext cx="121356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9" name=""/>
          <p:cNvCxnSpPr>
            <a:stCxn id="745" idx="3"/>
            <a:endCxn id="747" idx="1"/>
          </p:cNvCxnSpPr>
          <p:nvPr/>
        </p:nvCxnSpPr>
        <p:spPr>
          <a:xfrm>
            <a:off x="4512960" y="6191280"/>
            <a:ext cx="122148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50" name=""/>
          <p:cNvCxnSpPr>
            <a:stCxn id="694" idx="3"/>
            <a:endCxn id="745" idx="1"/>
          </p:cNvCxnSpPr>
          <p:nvPr/>
        </p:nvCxnSpPr>
        <p:spPr>
          <a:xfrm>
            <a:off x="1969560" y="5116320"/>
            <a:ext cx="926280" cy="1075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51" name=""/>
          <p:cNvCxnSpPr>
            <a:stCxn id="693" idx="3"/>
            <a:endCxn id="736" idx="1"/>
          </p:cNvCxnSpPr>
          <p:nvPr/>
        </p:nvCxnSpPr>
        <p:spPr>
          <a:xfrm>
            <a:off x="1992240" y="2697120"/>
            <a:ext cx="892800" cy="106272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>
            <a:off x="7429680" y="534348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gistr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408800" y="4821120"/>
            <a:ext cx="160812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Communications &amp; Promo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21400" y="4295880"/>
            <a:ext cx="155916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ar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21400" y="31719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421400" y="340344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Gene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21400" y="2057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searc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21400" y="22305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Advisor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21400" y="24955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olicy &amp; Plann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21400" y="27097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</a:t>
            </a: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Senior </a:t>
            </a: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Executive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18520" y="4565520"/>
            <a:ext cx="157788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21400" y="360360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Developmental Desig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21400" y="4100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21400" y="2948040"/>
            <a:ext cx="156852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Governanc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40480" y="5622840"/>
            <a:ext cx="1589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Law Enforce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29680" y="591516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ultu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440480" y="6194520"/>
            <a:ext cx="158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: Natural Resources &amp; Environ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94480" y="5079960"/>
            <a:ext cx="16081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่งเสริมการศ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99440" y="5037120"/>
            <a:ext cx="160956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Education &amp; Develop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00" idx="3"/>
            <a:endCxn id="768" idx="1"/>
          </p:cNvCxnSpPr>
          <p:nvPr/>
        </p:nvCxnSpPr>
        <p:spPr>
          <a:xfrm>
            <a:off x="4506480" y="5087880"/>
            <a:ext cx="1188360" cy="99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>
            <a:off x="7423200" y="388764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lligence &amp; Investig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09120" y="179280"/>
            <a:ext cx="702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นวทาง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608040" y="1601640"/>
            <a:ext cx="8150040" cy="1414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38160" y="313380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38160" y="368928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38160" y="4245120"/>
            <a:ext cx="7475760" cy="806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38160" y="504972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8160" y="560556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89080" y="3317760"/>
            <a:ext cx="1108080" cy="120996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9853800">
            <a:off x="5485680" y="3850920"/>
            <a:ext cx="3257640" cy="1230480"/>
          </a:xfrm>
          <a:custGeom>
            <a:avLst/>
            <a:gdLst>
              <a:gd name="textAreaLeft" fmla="*/ 0 w 3257640"/>
              <a:gd name="textAreaRight" fmla="*/ 3258000 w 325764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หลัก คือ สมรรถนะเชิงพฤติกรรมที่กำหน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ป็นคุณลักษณะร่วมของข้าราชการพลเรือนทั้งระบ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พื่อเป็นการหล่อหลอมค่านิยมแล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พฤติกรรมที่พึงประสงค์ร่วมกั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9853800">
            <a:off x="5713560" y="1376280"/>
            <a:ext cx="2998800" cy="123048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ประจำกลุ่ม คือ สมรรถนะที่กำหนดเฉพา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ำหรับกลุ่มงานเพื่อสนับสนุนส่งเสริ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ให้ข้าราชการผู้ดำรงตำแหน่งปฏิบัติภารกิจในหน้าที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ได้ดียิ่งขี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1800" y="853920"/>
            <a:ext cx="874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โครงสร้าง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สำหรับตำแหน่งข้าราชการพลเรือน ประกอบด้วย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่วนคือ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1) Core Competencies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หรือ สมรรถนะหลัก แล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) Functional Competencies (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938160" y="108000"/>
            <a:ext cx="950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Competency Mode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ำหรับข้าราชการพลเรือน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44600" y="7920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168560" y="314640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มุ่งผลสัมฤทธิ์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Achievement Motiv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68560" y="3575160"/>
            <a:ext cx="623412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บริการที่ดี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Service M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8560" y="4017960"/>
            <a:ext cx="6234120" cy="606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สั่งสมความเชี่ยวชาญในงานอาชีพ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Expert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68560" y="4649760"/>
            <a:ext cx="623412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ริยธรรม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Integ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68560" y="509436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ความร่วมแรงร่วมใจ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Teamwo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20920" y="3492360"/>
            <a:ext cx="922320" cy="90972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38080" y="1827360"/>
            <a:ext cx="6794640" cy="1063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มองภาพรวม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onceptual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ความคิดริเริ่มสร้างสรรค์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reative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สืบเสาะหาข้อมูล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Information See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2800" y="1184400"/>
            <a:ext cx="201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จำ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3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11680" y="3803760"/>
            <a:ext cx="198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หลั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อง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5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78640" y="3260880"/>
            <a:ext cx="244440" cy="2133360"/>
          </a:xfrm>
          <a:custGeom>
            <a:avLst/>
            <a:gdLst>
              <a:gd name="textAreaLeft" fmla="*/ 0 w 244440"/>
              <a:gd name="textAreaRight" fmla="*/ 88200 w 2444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17"/>
                </a:lnTo>
                <a:cubicBezTo>
                  <a:pt x="10800" y="10217"/>
                  <a:pt x="16200" y="11117"/>
                  <a:pt x="21600" y="11117"/>
                </a:cubicBezTo>
                <a:cubicBezTo>
                  <a:pt x="16200" y="11117"/>
                  <a:pt x="10800" y="12017"/>
                  <a:pt x="10800" y="1291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2001600">
            <a:off x="2090520" y="1704960"/>
            <a:ext cx="701640" cy="351000"/>
          </a:xfrm>
          <a:custGeom>
            <a:avLst/>
            <a:gdLst>
              <a:gd name="textAreaLeft" fmla="*/ 122760 w 701640"/>
              <a:gd name="textAreaRight" fmla="*/ 508680 w 70164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1509120" y="108000"/>
            <a:ext cx="1222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ตัวอย่า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กลุ่มงานออกแบบพัฒนา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Developmental Design)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4520" y="5746680"/>
            <a:ext cx="497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(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คำอธิบายสมรรถนะและแบบประเมินสมรรถนะในเอกสารแนบ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867760" y="1202400"/>
            <a:ext cx="712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าทิ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สำรวจ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ถาปนิก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โยธา ฯล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"/>
          <p:cNvGraphicFramePr/>
          <p:nvPr/>
        </p:nvGraphicFramePr>
        <p:xfrm>
          <a:off x="69840" y="906480"/>
          <a:ext cx="8933040" cy="56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906480"/>
                    <a:ext cx="8933040" cy="5646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-934560" y="108000"/>
            <a:ext cx="1001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ต้นแบบสมรรถนะ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(Competency Model)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จำแนกตามกลุ่มงาน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7680" y="25416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5599080" y="4936320"/>
            <a:ext cx="264168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ขอบเขตผลลัพธ์หลักของงานที่ผู้ปฏิบัติงานต้องทำให้สำเร็จจึงจะถือว่าสามารถปฏิบัติงานได้ตามวัตถุประสงค์ของตำแหน่งงานในระดับที่ได้มาตรฐ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84600" y="959760"/>
            <a:ext cx="213372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ระดับความรู้ ทักษะและประสบการณ์ที่ผู้ปฏิบัติงานจำเป็นต้องมีเพื่อให้ปฏิบัติงานได้อย่างมีคุณภาพและประสิทธิภา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120080" y="959760"/>
            <a:ext cx="189216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ลักษณะพฤติกรรมการทำงานที่เหมาะสมต่อตำแหน่งและจะช่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ส่งเสริมผล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5357880" y="2418840"/>
            <a:ext cx="2876040" cy="2634120"/>
            <a:chOff x="5357880" y="2418840"/>
            <a:chExt cx="2876040" cy="2634120"/>
          </a:xfrm>
        </p:grpSpPr>
        <p:sp>
          <p:nvSpPr>
            <p:cNvPr id="809" name=""/>
            <p:cNvSpPr/>
            <p:nvPr/>
          </p:nvSpPr>
          <p:spPr>
            <a:xfrm>
              <a:off x="5486040" y="2424960"/>
              <a:ext cx="2733840" cy="26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82" y="8"/>
                  </a:moveTo>
                  <a:arcTo wR="10800" hR="10800" stAng="-5533156" swAng="7212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82" y="8"/>
                  </a:moveTo>
                  <a:arcTo wR="10800" hR="10800" stAng="-5533156" swAng="7212697"/>
                </a:path>
              </a:pathLst>
            </a:custGeom>
            <a:solidFill>
              <a:srgbClr val="a6caf0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31760" y="2535840"/>
              <a:ext cx="2644560" cy="248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01" y="15547"/>
                  </a:moveTo>
                  <a:arcTo wR="10800" hR="10800" stAng="1564439" swAng="7728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01" y="15547"/>
                  </a:moveTo>
                  <a:arcTo wR="10800" hR="10800" stAng="1564439" swAng="7728530"/>
                </a:path>
              </a:pathLst>
            </a:custGeom>
            <a:solidFill>
              <a:srgbClr val="00c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24560" y="2418840"/>
              <a:ext cx="2653560" cy="262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1" y="15384"/>
                  </a:moveTo>
                  <a:arcTo wR="10800" hR="10800" stAng="9292970" swAng="6796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1" y="15384"/>
                  </a:moveTo>
                  <a:arcTo wR="10800" hR="10800" stAng="9292970" swAng="6796096"/>
                </a:path>
              </a:pathLst>
            </a:custGeom>
            <a:solidFill>
              <a:srgbClr val="00f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58800" y="4010040"/>
              <a:ext cx="16740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หน้าที่รับผิดชอบหลัก 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ccountab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ผลสัมฤทธิ์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57880" y="2968920"/>
              <a:ext cx="167076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ทักษะ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ความรู้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kills/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ปัจจัยนำเข้า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07960" y="3056040"/>
              <a:ext cx="1425960" cy="85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ompetencies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พฤติกรรม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      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ขั้นตอน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-617400" y="2080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-454320" y="874800"/>
            <a:ext cx="59461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ความหมา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ป็นแบบบรรยายลักษณะงานแบบย่อที่ระบุลักษณะ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สังเขป เน้นการมุ่งผลสัมฤทธิ์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มีรายละเอียดประกอบด้วยหน้าที่ความรับผิดชอ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หลัก และคุณวุฒิที่จำเป็น ได้แก่ ระดับความรู้ ทักษ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สมรรถนะ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416520" y="3019320"/>
            <a:ext cx="58302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วัตถุประสงค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พื่อสร้างความเข้าใจร่วมกันว่าตำแหน่งงานในระบ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าชการพลเรือนแต่ละตำแหน่งมีขอบเขตภารกิจหน้าที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ับผิดชอบเฉพาะตำแหน่งอย่างไร ตลอดจนมี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วุฒิ คุณสมบัติอย่างไร และผู้ดำรงตำแหน่งควรจ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พฤติปฏิบัติตนอย่างไรจึงจะเหมาะสมสำหร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และบรรลุผลสัมฤทธิ์ของตำแหน่งได้ดียิ่งขึ้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2160720" y="2741760"/>
            <a:ext cx="91440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0520" y="990720"/>
            <a:ext cx="3962520" cy="5402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3120" y="1428840"/>
            <a:ext cx="34066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20040" y="1565640"/>
            <a:ext cx="138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ชั้นงาน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Level)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กลุ่มงาน 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45160" y="2412000"/>
            <a:ext cx="17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หน้าที่รับผิดชอบหลั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4960" y="2680200"/>
            <a:ext cx="30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ปฏิบัติการ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งานเชี่ยวชาญเฉพาะด้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20" y="505188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2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ความรู้ ทักษะ และประสบการณ์ที่จำเป็นในง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1320" y="38278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ประสา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6720" y="4408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บริการ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0160" y="52902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สมรรถนะ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46000" y="5501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หลั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8800" y="57535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9640" y="2867400"/>
            <a:ext cx="199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ข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62440" y="2999160"/>
            <a:ext cx="371952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หน้างานและรายละเอียดของหน้าที่รับผิดชอบหลัก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8000" y="3685320"/>
            <a:ext cx="3695760" cy="833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วัตถุประสงค์ของแต่ละภาระหน้าที่อย่างชัดเจน โดยกำหนดผลลัพธ์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ผลสัมฤทธิ์เป้าหมายของภาระหน้าที่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51280" y="5606640"/>
            <a:ext cx="374328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มรรถนะที่จำเป็นในงาน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22880" y="2739960"/>
            <a:ext cx="382320" cy="2211480"/>
          </a:xfrm>
          <a:custGeom>
            <a:avLst/>
            <a:gdLst>
              <a:gd name="textAreaLeft" fmla="*/ 0 w 382320"/>
              <a:gd name="textAreaRight" fmla="*/ 137880 w 382320"/>
              <a:gd name="textAreaTop" fmla="*/ 57600 h 2211480"/>
              <a:gd name="textAreaBottom" fmla="*/ 2153880 h 22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95840" y="5076720"/>
            <a:ext cx="758520" cy="282600"/>
          </a:xfrm>
          <a:prstGeom prst="rightArrow">
            <a:avLst>
              <a:gd name="adj1" fmla="val 50000"/>
              <a:gd name="adj2" fmla="val 6710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1960" y="5661000"/>
            <a:ext cx="762120" cy="282600"/>
          </a:xfrm>
          <a:prstGeom prst="rightArrow">
            <a:avLst>
              <a:gd name="adj1" fmla="val 50000"/>
              <a:gd name="adj2" fmla="val 6742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8640" y="3405600"/>
            <a:ext cx="199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ค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ง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5360" y="32612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วางแผ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26120" y="398664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จ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ฉ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26120" y="4581720"/>
            <a:ext cx="198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ช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ซ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741920" y="4791960"/>
            <a:ext cx="3728880" cy="8337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ความรู้ ทักษะ และประสบการณ์ที่จำเป็นในงาน 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0840" y="143820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79440" y="1133640"/>
            <a:ext cx="60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ตัวอย่าง </a:t>
            </a: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ำหนดตำแหน่ง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รือมาตรฐานกำหนดตำแหน่งที่ปรับปรุงใหม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าระสำคัญของตำแหน่งซึ่งแยกเป็น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่ว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267080" y="1660680"/>
            <a:ext cx="579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0840" y="1525680"/>
            <a:ext cx="206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ายงาน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นักวิชาการ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-579240" y="1936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43080" y="3111480"/>
            <a:ext cx="139680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วิชาการ…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…และสายงานประเภทวิชาชี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036880" y="2452320"/>
            <a:ext cx="38412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099520" y="3090600"/>
            <a:ext cx="601560" cy="27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171880" y="4127400"/>
            <a:ext cx="419040" cy="41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07800" y="3772440"/>
            <a:ext cx="635760" cy="17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895480" y="140796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Operations/Expertise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ฏิบัติงาน และการพัฒนาในเชิงวิชาการเฉพาะด้าน ที่มีลักษณะยากและซับซ้อนยิ่งขึ้น ตามประสบการณ์ และ ความชำนาญ        ที่จำเป็นในระดับงานต่าง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95480" y="250020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Planning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วางแผนปฏิบัติงาน ในขอบเขตความรับผิดชอบที่กว้าง              เป็นระบบ และมุ่งเน้นกลยุทธ์มากขึ้น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95480" y="3579840"/>
            <a:ext cx="54993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Communication and Cooperation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ระสานงานเพื่อความสำเร็จในการปฏิบัติงานทางวิชาการในขอบเขตที่ครอบคลุมและมีผลกระทบมากขึ้น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82880" y="4684680"/>
            <a:ext cx="54990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Service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ให้คำปรึกษา การแนะนำ การอบรม การถ่ายทอดความรู้ เทคโนโลยีต่าง ๆ ในฐานะผู้เชี่ยวชาญ ให้กับบุคคล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หน่วยงาน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ภายใน ภายนอก และต่างประเท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-685800" y="193680"/>
            <a:ext cx="89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น้าที่ความรับผิดชอบหลัก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152280" y="1771560"/>
            <a:ext cx="4316400" cy="48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ื่อตำแหน่ง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วิศวกรสำรวจ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และความรับผิดชอบ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ปฏิบัติงานขั้นต้นเกี่ยวกับงานวิศวกรรมสำรวจ ภายใต้การกำกับตรวจสอบโดยใกล้ชิด และปฏิบัติหน้าที่อื่นตามที่ได้รับมอบหม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ลักษณะงานที่ปฏิบัติ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เป็นเจ้าหน้าที่ชั้นต้นปฏิบัติงานที่ยากพอสมควรเกี่ยวกับวิศวกรรมสำรวจ โดยปฏิบัติหน้าที่อย่างใดอย่างหนึ่งหรือหลายอย่าง เช่น งานสำรวจภูมิประทศที่ต้องใช้ความละเอียดมาก วางโครงข่ายสามเหลี่ยมและวงรอบการรังวัดทางดาราศาสตร์ ทางจีโอดีซี่ การวัดระยะด้วยเครื่องวัดระยะอีเลคโทรนิค การวางโครงสร้างแผนที่แบบต่างๆ การติดตามผลงานและการคำนวณตรวจสอบตามหลักวิชาการสำรวจแผนที่ เป็นต้น และปฏิบัติหน้าที่อื่นที่เกี่ยวข้อง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243000" y="-9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64080" y="1012680"/>
            <a:ext cx="4495680" cy="551340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ุณสมบัติเฉพาะสำหรับ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 หรือเทียบเท่าได้ไม่ต่ำกว่านี้ทางวิศวกรรมสำรวจ วิศวกรรมโยธา วิศวกรรมชลประทาน หรือทางอื่นที่ ก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วามรู้ความสามารถที่ต้อ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ในวิชาการวิศวกรรมสำรวจ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เข้าใจในกฎหมายว่าด้วยระเบียบข้าราชการพลเรือน กฎหมายว่าด้วยระเบียบบริหารราชการแผ่นดินและกฎหมาย กฎ ระเบียบและข้อบังคับอื่นที่ใช้ใน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ทั่วไปเกี่ยวกับเหตุการณ์ปัจจุบันในด้านการเมือง เศรษฐกิจ และสังคม โดยเฉพาะอย่างยิ่งของประเทศไท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4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สามารถในการใช้ภาษา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5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สามารถในการศึกษาข้อมูล วิเคราะห์ปัญหาและสรุปเหตุผ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1167120"/>
            <a:ext cx="350496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เดิ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4586400" y="987120"/>
            <a:ext cx="4481280" cy="587052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2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 ทักษะ และ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หรือเทียบเท่าไม่ต่ำกว่านี้ ทางวิศวกรรมสาขาสำรวจ โยธา ชลประทาน หรือสาขาอื่นที่ 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ความเชี่ยวชาญที่จำเป็นในงาน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เรื่องกฎหมายและกฎระเบียบราชการใน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ทักษ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คอมพิวเตอร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ภาษาอังกฤษ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บริหารข้อมูลและจัดการ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ระดับแรกเข้าไม่จำเป็นต้องมีประสบการณ์มาก่อ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3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หลั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ุ่งผลสัมฤทธิ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จริยธรร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บริการที่ดี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่วมแรงร่วมใจ ระดับ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ั่งสมความเชี่ยวชาญในงานอาชีพ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ประจำกลุ่มงาน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องภาพองค์รว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คิดริเริ่มสร้างสรรค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ืบเสาะหาข้อมูล ระดับที่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2240" y="873000"/>
            <a:ext cx="4276440" cy="581976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าย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ตำแหน่ง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ระดับ 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กลุ่ม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 ออกแบบเพื่อการพัฒนา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1.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รับผิดชอบหลั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ปฏิบัติการ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/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งานเชี่ยวชาญเฉพาะด้าน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Operation/Expertis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สำรวจภูมิประเทศและวางโครงสร้างแผนที่โดยใช้วิธีการต่างๆ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เป็นข้อมูลประกอบการวางนโยบายและแผนพัฒนาพื้นที่ต่างๆ หรือประกอบการปฏิบัติงานอื่นๆตามภารกิจของหน่วย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2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รวบรวมสถิติข้อมูลการสำรวจ และจัดทำรายงานผลการปฏิบัติงาน </a:t>
            </a:r>
            <a:r>
              <a:rPr b="0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เพิ่มประสิทธิภาพการวางแผนการสำรว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วางแผน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Plan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วางระบบและแผนการปฏิบัติงานของ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สามารถปฏิบัติงานได้อย่างมีประสิทธิภาพสูงสุ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1.3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ประสานงาน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(Communication and Co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3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ระสานงานในระดับกลุ่ม กับหน่วยงานราชการและเอกชน หรือประชาชนทั่วไป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ขอความช่วยเหลือและร่วมมือในงานวิศวกรรมสำรว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บริการ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Serv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.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คำแนะนำ ตอบปัญหาและชี้แจง เกี่ยวกับงานวิศวกรรมสำรวจที่ตนมีความรับผิดชอบ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ผู้ที่สนใจได้ทราบข้อมูลและความรู้ต่างๆที่เป็นประโยชน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65160" y="414720"/>
            <a:ext cx="257652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1760" y="1703520"/>
            <a:ext cx="226368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52920" y="1006560"/>
            <a:ext cx="355752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62560" y="5040360"/>
            <a:ext cx="2014560" cy="331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4360" y="-157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47280" y="20304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87400" y="2533680"/>
            <a:ext cx="3333240" cy="3526920"/>
            <a:chOff x="887400" y="2533680"/>
            <a:chExt cx="3333240" cy="3526920"/>
          </a:xfrm>
        </p:grpSpPr>
        <p:sp>
          <p:nvSpPr>
            <p:cNvPr id="94" name=""/>
            <p:cNvSpPr/>
            <p:nvPr/>
          </p:nvSpPr>
          <p:spPr>
            <a:xfrm>
              <a:off x="3557520" y="4934880"/>
              <a:ext cx="663120" cy="110700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20400" y="4953600"/>
              <a:ext cx="2587680" cy="37764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7400" y="5329800"/>
              <a:ext cx="3013200" cy="73080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6160" y="4333320"/>
              <a:ext cx="499680" cy="9295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3000" y="4333320"/>
              <a:ext cx="1981440" cy="327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2080" y="4659120"/>
              <a:ext cx="2299320" cy="60372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24960" y="3877560"/>
              <a:ext cx="1919880" cy="716760"/>
              <a:chOff x="1524960" y="3877560"/>
              <a:chExt cx="1919880" cy="716760"/>
            </a:xfrm>
          </p:grpSpPr>
          <p:sp>
            <p:nvSpPr>
              <p:cNvPr id="101" name=""/>
              <p:cNvSpPr/>
              <p:nvPr/>
            </p:nvSpPr>
            <p:spPr>
              <a:xfrm>
                <a:off x="3068280" y="3877560"/>
                <a:ext cx="376560" cy="716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14320" y="3877560"/>
                <a:ext cx="1495440" cy="25236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24960" y="4128840"/>
                <a:ext cx="1735920" cy="46512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747080" y="3433320"/>
              <a:ext cx="1425960" cy="623880"/>
              <a:chOff x="1747080" y="3433320"/>
              <a:chExt cx="1425960" cy="623880"/>
            </a:xfrm>
          </p:grpSpPr>
          <p:sp>
            <p:nvSpPr>
              <p:cNvPr id="105" name=""/>
              <p:cNvSpPr/>
              <p:nvPr/>
            </p:nvSpPr>
            <p:spPr>
              <a:xfrm>
                <a:off x="2844000" y="3433320"/>
                <a:ext cx="329040" cy="62244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39680" y="3433320"/>
                <a:ext cx="997920" cy="16740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47080" y="3600720"/>
                <a:ext cx="1291320" cy="456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972440" y="2981520"/>
              <a:ext cx="929520" cy="543960"/>
              <a:chOff x="1972440" y="2981520"/>
              <a:chExt cx="929520" cy="5439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18280" y="2981880"/>
                <a:ext cx="283680" cy="54324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67920" y="2981520"/>
                <a:ext cx="497880" cy="8172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72440" y="3063240"/>
                <a:ext cx="840240" cy="46224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196360" y="2533680"/>
              <a:ext cx="434520" cy="458640"/>
              <a:chOff x="2196360" y="2533680"/>
              <a:chExt cx="434520" cy="458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391840" y="2533680"/>
                <a:ext cx="239040" cy="458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6360" y="2533680"/>
                <a:ext cx="389880" cy="458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3860640" y="4898880"/>
            <a:ext cx="4267440" cy="1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5800" y="5803920"/>
            <a:ext cx="391464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41680" y="4335480"/>
            <a:ext cx="45244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51160" y="3876840"/>
            <a:ext cx="48322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08160" y="3435480"/>
            <a:ext cx="5105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5280" y="2963880"/>
            <a:ext cx="534816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3320" y="2506680"/>
            <a:ext cx="5608440" cy="3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3520" y="2580120"/>
            <a:ext cx="45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ทรงคุณวุฒ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6960" y="3022200"/>
            <a:ext cx="5553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45640" y="3479400"/>
            <a:ext cx="50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สำนัก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953520"/>
            <a:ext cx="40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อง  หัวหน้า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26920" y="4472640"/>
            <a:ext cx="31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ัวหน้าฝ่าย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0280" y="4932360"/>
            <a:ext cx="375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ปฏิบัติ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61080" y="5018040"/>
            <a:ext cx="74520" cy="685800"/>
          </a:xfrm>
          <a:custGeom>
            <a:avLst/>
            <a:gdLst>
              <a:gd name="textAreaLeft" fmla="*/ 0 w 74520"/>
              <a:gd name="textAreaRight" fmla="*/ 27000 w 745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104840" y="919080"/>
            <a:ext cx="11124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จำแนกตำแหน่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Position Classification System)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มาใช้ในการบริหารงานบุคคล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ชั้นยศเดิม ตั้งแต่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ัดโครงสร้างทุกตำแหน่งตามระดับมาตรฐานกลาง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Common Lev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84400" y="50644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84400" y="57362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4400" y="42850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4400" y="36882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84400" y="30294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87560" y="5489640"/>
            <a:ext cx="7692840" cy="8334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7560" y="4971960"/>
            <a:ext cx="7692840" cy="698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84320" y="4218120"/>
            <a:ext cx="7702560" cy="750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87560" y="2973240"/>
            <a:ext cx="7692840" cy="631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87560" y="3605040"/>
            <a:ext cx="7692840" cy="617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44080" y="323532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44080" y="45324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4080" y="522288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44080" y="58500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75320" y="1039680"/>
            <a:ext cx="27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75160" y="24732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75160" y="323676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475160" y="448632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75160" y="52768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75160" y="5851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217520" y="1001520"/>
            <a:ext cx="329580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ที่จำเป็นใ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วุฒิการศึกษาและความเชี่ยวชาญ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117440" y="5493600"/>
            <a:ext cx="334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วุฒิการศึกษาระดับ…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..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หรือเทียบเท่าได้ไม่ต่ำกว่านี้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98720" y="4810680"/>
            <a:ext cx="3369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ได้รับปริญญาตรีหรือเทียบเท่าได้ไม่ต่ำกว่านี้ และสามารถประยุกต์ใช้ความรู้ที่ศึกษามาในการปฏิบัติหน้าที่ได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79640" y="4194000"/>
            <a:ext cx="3395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และในหลักการ แนวคิด ทฤษฎีของงานในสายอาชีพที่ปฏิบัติอยู่อีกทั้งสามารถให้คำแนะนำแก่เพื่อนร่วม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89120" y="2345040"/>
            <a:ext cx="211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0 - 20 </a:t>
            </a: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ปีในงานที่เกี่ยวข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087560" y="2192400"/>
            <a:ext cx="7692840" cy="782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087560" y="1490760"/>
            <a:ext cx="7692840" cy="698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75160" y="37926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75160" y="2503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75160" y="17002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079640" y="3525120"/>
            <a:ext cx="34160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รู้ความเข้าใจอย่างถ่องแท้เกี่ยวกับลักษณะงาน หลักการ แนวคิด ทฤษฎีของงานในสายอาชีพที่ปฏิบัติอยู่ และสามารถนำมาประยุกต์ใช้ให้เข้ากับสถานการณ์ต่างๆ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96920" y="2077920"/>
            <a:ext cx="3365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เนื่องจากมีประสบการณ์และความรู้ที่ลึกซึ้งและกว้างขวาง เป็นที่ปรึกษาในการปฏิบัติงานให้กับหน่วยงานอื่น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106640" y="1487520"/>
            <a:ext cx="334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 algn="ctr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 เป็นที่ปรึกษาอาวุโสให้แก่หน่วยงานอื่นๆ ได้ในระดับสู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344080" y="38322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344080" y="2486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44080" y="1808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09520" y="3026160"/>
            <a:ext cx="3346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ประสบการณ์กว้างขวางในสาย อาชีพที่ปฏิบัติหน้าที่อยู่ สามารถถ่ายทอดความรู้ให้กับเพื่อนร่วมงานและผู้ใต้บังคับบัญชา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4400" y="22579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4400" y="15530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38760" y="1498680"/>
            <a:ext cx="0" cy="481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73560" y="1200240"/>
            <a:ext cx="3409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10120" y="1143000"/>
            <a:ext cx="3581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232240" y="1098720"/>
            <a:ext cx="3230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เรื่องกฎหมายและกฎระเบียบราช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ความรู้ในเรื่องกฎหมายตลอดจนกฎระเบียบต่างๆ ที่ต้องใช้ในการ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135400" y="3095640"/>
            <a:ext cx="3009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54480" y="3133800"/>
            <a:ext cx="1143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33800" y="3048120"/>
            <a:ext cx="3200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ผู้เชี่ยวชาญทางกฎหมาย สามารถแนะนำ 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 วิเคราะห์หาเหตุผลและ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างแก้ไขในประเด็นหรือปัญหาที่ไม่เคยเกิดขึ้น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33800" y="3610080"/>
            <a:ext cx="340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 กฎหมายหรือระเบียบอื่นๆ ที่มีความสัมพันธ์เชื่อมโยงกับกฎหมายหรือระเบียบในงานและสามารถนำมาใช้แนะนำหรือ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ในภาพรวมหากเกิดประเด็นปัญ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33800" y="4276800"/>
            <a:ext cx="292608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นำไปประยุกต์เพื่อวิเคราะห์ปัญหาที่ซับซ้อน อุดช่องโหว่ในกฏหมาย หรือตอบคำถามข้อสงสัยในงานที่ปฏิบัติอยู่ให้หน่วยงานหรือบุคคลที่เกี่ยวข้อง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25880" y="5124600"/>
            <a:ext cx="33609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อย่างลึกซึ้งและทราบว่าจะหาคำตอบจากที่ใดเมื่อมีข้อสงสัยในงา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33800" y="580068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กับงานประจำวั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5478480" y="1606320"/>
            <a:ext cx="2412720" cy="538560"/>
            <a:chOff x="5478480" y="1606320"/>
            <a:chExt cx="2412720" cy="538560"/>
          </a:xfrm>
        </p:grpSpPr>
        <p:sp>
          <p:nvSpPr>
            <p:cNvPr id="919" name=""/>
            <p:cNvSpPr/>
            <p:nvPr/>
          </p:nvSpPr>
          <p:spPr>
            <a:xfrm>
              <a:off x="5478480" y="1622520"/>
              <a:ext cx="238068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478480" y="1606320"/>
              <a:ext cx="241272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504040" y="2329920"/>
            <a:ext cx="2412360" cy="538560"/>
            <a:chOff x="5504040" y="2329920"/>
            <a:chExt cx="2412360" cy="538560"/>
          </a:xfrm>
        </p:grpSpPr>
        <p:sp>
          <p:nvSpPr>
            <p:cNvPr id="922" name=""/>
            <p:cNvSpPr/>
            <p:nvPr/>
          </p:nvSpPr>
          <p:spPr>
            <a:xfrm>
              <a:off x="5504040" y="2346120"/>
              <a:ext cx="238032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504040" y="2329920"/>
              <a:ext cx="241236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-678600" y="193680"/>
            <a:ext cx="92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ความรู้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-139680" y="471204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139680" y="555516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-139680" y="38851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-139680" y="30358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-216000" y="23007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2280" y="547992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92280" y="4656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93720" y="3821040"/>
            <a:ext cx="8317080" cy="835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2280" y="2154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92280" y="29876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2280" y="1184400"/>
            <a:ext cx="8316720" cy="106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003640" y="1209600"/>
            <a:ext cx="0" cy="51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313000" y="32734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74840" y="41101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74840" y="49402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9116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91160" y="328464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91160" y="4121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91160" y="49514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22360" y="5773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91160" y="57848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660760" y="1179360"/>
            <a:ext cx="23000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ภาษ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นำภาษาอังกฤษ</a:t>
            </a:r>
            <a:br>
              <a:rPr sz="1400"/>
            </a:b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าใช้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8160" y="5382360"/>
            <a:ext cx="16797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บันทึกข้อมูลเข้าเครื่องคอมพิวเตอร์ตามที่คู่มือการใช้ระบุไว้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8160" y="4532040"/>
            <a:ext cx="1673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โปรแกรมคอมพิวเตอร์ขั้นพื้นฐ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8160" y="3797280"/>
            <a:ext cx="167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ในโปรแกรมต่าง ๆ ในการปฏิบัติงานได้อย่างคล่องแคล่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3200" y="2532240"/>
            <a:ext cx="2192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90480" y="985680"/>
            <a:ext cx="1944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คอมพิวเตอร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ใช้โปรแกรมคอมพิวเตอร์ต่างๆ ได้อย่างมี          ประสิทธิ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1948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641680" y="1177920"/>
            <a:ext cx="0" cy="516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33760" y="5451480"/>
            <a:ext cx="171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ฟัง และอ่านภาษาอังกฤษ ในระดับเบื้องต้นและสื่อสารให้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33760" y="4589280"/>
            <a:ext cx="177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อ่านและฟังภาษาอังกฤษและทำความเข้าใจสาระสำคัญของเนื้อหาต่าง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33760" y="3744360"/>
            <a:ext cx="2179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ภาษาอังกฤษเพื่อการติดต่อสัมพันธ์ในการปฏิบัติงานได้โดยถูกหลักไวยากรณ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68160" y="2799720"/>
            <a:ext cx="17751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ชี่ยวชาญในโปรแกรมที่ใช้ หรือสามารถซ่อม หรือปรับปรุงโปรแกรมเพื่อนำมา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7880" y="2006640"/>
            <a:ext cx="1828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อย่างลึกซึ้ง เชี่ยวชาญในโปรแกร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ต่าง ๆ อย่างกว้างขวางหรือสามารถ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ียน โปรแกรมเพื่อ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33760" y="2001960"/>
            <a:ext cx="22287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เชี่ยวชาญในการใช้ภาษาอังกฤษอย่างลึกซึ้งใกล้เคียงกับเจ้าของภาษา สามารถประยุกต์ใช้โวหารทุกรูปแบบได้อย่างคล่องแคล่วและสละสลวยถูกต้อง อีกทั้งมีความเชี่ยวชาญศัพท์เฉพาะด้านในสาขาวิชาของตนอย่างลึกซึ้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33760" y="2862720"/>
            <a:ext cx="20016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สำนวนภาษาอังกฤษในรูปแบบต่างๆ สามารถประยุกต์ใช้ในงานได้อย่างถูกต้องทั้งในหลักไวยากรณ์และความเหมาะสมในเชิงเนื้อ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0236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0236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002360" y="41623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236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26200" y="1622520"/>
            <a:ext cx="14605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02360" y="58262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995720" y="5686560"/>
            <a:ext cx="151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95720" y="4930920"/>
            <a:ext cx="1589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126040" y="1177920"/>
            <a:ext cx="188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คำนวณ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ทำความเข้าใจและคิดคำนวณข้อมูลต่างๆ ได้อย่างถูกต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011560" y="2197080"/>
            <a:ext cx="2251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9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ระบุ แก้ไขข้อ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ผิดพลาดในข้อมูลได้ เข้าใจข้อมูลต่างๆ ใน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ภาพรวมและสามารถนำข้อมูลทางสถิติ ตัวเลขต่างๆ มาเชื่อมโยงเพื่ออธิบายชี้แจงให้เป็นที่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011560" y="3035160"/>
            <a:ext cx="15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ข้อมูลสถิติ และตัวเลขที่ซับซ้อน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92840" y="3892680"/>
            <a:ext cx="1958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สูตรคณิตศาสตร์และเครื่องมือต่างๆ ในการคำนวณตัวเลขที่ซับซ้อ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83120" y="4673520"/>
            <a:ext cx="19972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ทำความเข้าใจข้อมูลตัวเลข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92840" y="5549760"/>
            <a:ext cx="195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คำนวณพื้นฐานได้อย่างคล่องแคล่ว รวดเร็ว และ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283520" y="5342400"/>
            <a:ext cx="1434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เก็บรวบรวมข้อมูลได้อย่างเป็นระบบ และแสดงผลข้อมูลในรูปแบบต่างๆ เช่นกราฟ รายงาน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542360" y="2317320"/>
            <a:ext cx="1130040" cy="614520"/>
            <a:chOff x="7542360" y="2317320"/>
            <a:chExt cx="1130040" cy="614520"/>
          </a:xfrm>
        </p:grpSpPr>
        <p:sp>
          <p:nvSpPr>
            <p:cNvPr id="977" name=""/>
            <p:cNvSpPr/>
            <p:nvPr/>
          </p:nvSpPr>
          <p:spPr>
            <a:xfrm>
              <a:off x="7542360" y="2335680"/>
              <a:ext cx="1114920" cy="59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7542360" y="2317320"/>
              <a:ext cx="1130040" cy="61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027920" y="1143000"/>
            <a:ext cx="20397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บริหารจัดการฐานข้อมู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บริการจัดการฐานข้อมูลตลอดจนวิเคราะห์ข้อมูลเพื่อประโยชน์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283520" y="3016080"/>
            <a:ext cx="147168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ออกแบบ เลือกใช้ หรือประยุกต์วิธีการในการจัดทำแบบจำลองต่างๆ ได้อย่างถูกต้องเหมาะส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283520" y="3895560"/>
            <a:ext cx="16128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พยากรณ์ หรือสร้างแบบจำลอง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model)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พื่อพยากรณ์หรือตีความโดยอ้างอิงจากข้อมูลที่มี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83520" y="4705200"/>
            <a:ext cx="14428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และประเมินผลข้อมูลได้อย่างถูกต้อง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ม่นย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97560" y="1184400"/>
            <a:ext cx="0" cy="510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71848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71848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718480" y="411480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71848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720280" y="5826240"/>
            <a:ext cx="2523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-644400" y="208080"/>
            <a:ext cx="905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ทักษะ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88920" y="1173240"/>
          <a:ext cx="8932680" cy="51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73240"/>
                    <a:ext cx="8932680" cy="5113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 rot="13225800">
            <a:off x="4853160" y="3887640"/>
            <a:ext cx="4443120" cy="992160"/>
          </a:xfrm>
          <a:custGeom>
            <a:avLst/>
            <a:gdLst>
              <a:gd name="textAreaLeft" fmla="*/ 0 w 4443120"/>
              <a:gd name="textAreaRight" fmla="*/ 4443480 w 44431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เอกสารสรุปลักษณะงานจะประกอบด้วยสมรรถนะหลักของ</a:t>
            </a:r>
            <a:br>
              <a:rPr sz="1600"/>
            </a:b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ข้าราชการพลเรือนและสมรรถนะประจำกลุ่มงานแต่ละกลุ่ม ซึ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ลำดับความยากง่ายของสมรรถนะแต่ละตัวจะแปรผันตามระดั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ชั้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-641160" y="222120"/>
            <a:ext cx="840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ของ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5120" y="633240"/>
            <a:ext cx="816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มรรถนะหลักและสมรรถนะประจำกลุ่มงา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0" y="698400"/>
            <a:ext cx="9144000" cy="544212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0" y="1320480"/>
            <a:ext cx="914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72728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70836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91804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52480" y="9270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5024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918040" y="1092240"/>
            <a:ext cx="203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59560" y="608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042440" y="6033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ทักษ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22200" y="706320"/>
            <a:ext cx="0" cy="542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28880" y="681120"/>
            <a:ext cx="95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สบ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ณ์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532560" y="590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สมรรถน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275760" y="64764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สาย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วิศวกรรมสำรว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5908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11400" y="95076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05160" y="9381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ศี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286720" y="849240"/>
            <a:ext cx="81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น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927880" y="84924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เบีย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1812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41920" y="936720"/>
            <a:ext cx="0" cy="52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2296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498480" y="851040"/>
            <a:ext cx="945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อ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ิวเตอร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075200" y="865080"/>
            <a:ext cx="887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ภา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งกฤ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85680" y="938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ำนว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23600" y="851040"/>
            <a:ext cx="81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ัด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ข้อมู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27720" y="8082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มรรถนะหลั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978680" y="817560"/>
            <a:ext cx="13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จำ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981920" y="1101600"/>
            <a:ext cx="11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05400" y="109692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1508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010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294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353440" y="113040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739360" y="110160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080" y="15336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ต้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90880" y="1535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ม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516680" y="1547640"/>
            <a:ext cx="11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ต่ำกว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ร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รื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ทียบเท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476440" y="-9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491920" y="1535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299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76956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236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866840" y="1527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572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75756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954040" y="1521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493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6364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5924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99560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4020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803800" y="1541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-27000" y="228600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060560" y="2298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5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7752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1276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48748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7160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234600" y="2293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38000" y="23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969880" y="2273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6516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16220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93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817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367120" y="2274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98444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-363240" y="313056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พิเศ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028880" y="315108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1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76080" y="3179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14920" y="3218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8424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76836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3572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960520" y="318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54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8304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987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44020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778240" y="322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26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9372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2280" y="41036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13040" y="408780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12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61680" y="4132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5080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63680" y="4148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52600" y="4146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651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733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5765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97184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3718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803800" y="4162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7772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07720" y="4135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20680" y="3225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3600" y="4143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68280" y="41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53880" y="3203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888800" y="23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1404360" y="87480"/>
            <a:ext cx="9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ตัวอย่างการกำหนดระดับ ความรู้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ทักษะ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สมรรถนะในสายงานวิชาการป่าไม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/>
          </p:nvPr>
        </p:nvSpPr>
        <p:spPr>
          <a:xfrm>
            <a:off x="104760" y="1134000"/>
            <a:ext cx="3973680" cy="10789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บบจำแนกตำแหน่งมีความไม่ชัดเจนมีหลายสายงานทำงานซ้ำซ้อนกัน และบางสายงานที่มีหน้าที่หลากหล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322520" y="952560"/>
            <a:ext cx="4668840" cy="206604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มีการรวบระดับงานที่มีผลสัมฤทธิ์ของงานใกล้เคียงกันเข้าไว้ด้วยกัน กำหนดหน้าที่รับผิดชอบหลักที่</a:t>
            </a:r>
            <a:r>
              <a:rPr b="1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ัดเจนขึ้น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ในแต่ละระดับทำให้ข้าราชการรู้ว่าควรปฏิบัติงานและพัฒนาตนเองอย่างไรจึงจะบรรลุผลสัมฤทธิ์ที่องค์กรคาดหวังและเป็นประโยชน์สูงสุดกับองค์กร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5680" y="2854800"/>
            <a:ext cx="4079880" cy="108108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ส่วนใหญ่ก้าวหน้าอยู่ในสายงานของตน การสั่งสมความรู้จึงจำกัดเฉพาะในสายงานของต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338720" y="2323800"/>
            <a:ext cx="4653000" cy="30553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มีความยืดหยุ่นและอาจข้ามสายงานได้จึงเปิดโอกาสให้สะสมความรู้และเปิดโลกทัศน์ใหม่ได้กว้างขวางขึ้นกว่าเดิ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ขึ้นอยู่กับทักษะ ความรู้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y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และมีความยืดหยุ่นสูงจึงส่งเสริมและสนับสนุนให้ข้าราชการพัฒนาตนเองเนื่องจากมีความชัดเจนว่าควรพัฒนาตนเองเช่นไรและอย่างไรจึงเหมาะสมกับสิ่งที่องค์กรคาดหว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240" y="4832280"/>
            <a:ext cx="409248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การโอนย้ายในสายงานเดียวกันแต่ลักษณะงานต่างกันออกไปสามารถทำได้ทันทีโดยไม่ประเมินและพิจารณาถึงศักยภาพของผู้ดำรง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351320" y="4842000"/>
            <a:ext cx="464040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การโอนย้ายระหว่างสายงานสามารถกระทำได้แต่ต้องผ่านการพิจารณาความรู้ ทักษะ 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ies 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พื่อให้มั่นใจว่าเหมาะสมกับตำแหน่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title"/>
          </p:nvPr>
        </p:nvSpPr>
        <p:spPr>
          <a:xfrm>
            <a:off x="490320" y="199800"/>
            <a:ext cx="755460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ระบบเดิมและระบบใหม่</a:t>
            </a:r>
            <a:endParaRPr b="1" lang="en-US" sz="3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5520" y="770400"/>
            <a:ext cx="13298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เดิ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58760" y="784800"/>
            <a:ext cx="13251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74680" y="288756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62000" y="142884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67320" y="142560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6732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6200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47320" y="291600"/>
            <a:ext cx="86533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0099"/>
                </a:solidFill>
                <a:latin typeface="Times New Roman"/>
              </a:rPr>
              <a:t>องค์ประกอบหลักในการกำหนดระบบค่าตอบแทน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20840" y="1747800"/>
            <a:ext cx="24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นาด </a:t>
            </a:r>
            <a:r>
              <a:rPr b="1" lang="th-TH" sz="2400" spc="-1" strike="noStrike">
                <a:solidFill>
                  <a:srgbClr val="ab019f"/>
                </a:solidFill>
                <a:latin typeface="Arial"/>
                <a:ea typeface="AngsanaUPC"/>
              </a:rPr>
              <a:t>“น้ำหนั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อง</a:t>
            </a: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ตำแหน่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240600" y="1808280"/>
            <a:ext cx="20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สภาวะในตลาดแร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54560" y="5029200"/>
            <a:ext cx="2038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ศักยภาพและนโยบายการจ่ายค่าตอบแทนขององค์ก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0720" y="5353200"/>
            <a:ext cx="28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ผลงานของบุคลากรแต่ละค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2971200">
            <a:off x="5542560" y="261684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4419800">
            <a:off x="2871360" y="4512600"/>
            <a:ext cx="685800" cy="631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8126000">
            <a:off x="2872800" y="26053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7496400">
            <a:off x="5542560" y="45025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7800" y="1523880"/>
            <a:ext cx="21812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57200" y="5019840"/>
            <a:ext cx="2819520" cy="121896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4943520"/>
            <a:ext cx="3124080" cy="1305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135840" y="1523880"/>
            <a:ext cx="21794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49520" y="2728800"/>
            <a:ext cx="2251080" cy="2148120"/>
          </a:xfrm>
          <a:prstGeom prst="ellipse">
            <a:avLst/>
          </a:prstGeom>
          <a:noFill/>
          <a:ln w="1260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3994200" y="2986200"/>
            <a:ext cx="1895400" cy="1944360"/>
            <a:chOff x="3994200" y="2986200"/>
            <a:chExt cx="1895400" cy="1944360"/>
          </a:xfrm>
        </p:grpSpPr>
        <p:sp>
          <p:nvSpPr>
            <p:cNvPr id="1129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26720" y="3824280"/>
              <a:ext cx="37476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5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1" y="75"/>
                  </a:lnTo>
                  <a:lnTo>
                    <a:pt x="254" y="84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7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5" y="69"/>
                  </a:lnTo>
                  <a:lnTo>
                    <a:pt x="100" y="75"/>
                  </a:lnTo>
                  <a:lnTo>
                    <a:pt x="126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17000" y="374184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6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6" y="69"/>
                  </a:lnTo>
                  <a:lnTo>
                    <a:pt x="100" y="75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22040" y="36486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7"/>
                  </a:lnTo>
                  <a:lnTo>
                    <a:pt x="235" y="94"/>
                  </a:lnTo>
                  <a:lnTo>
                    <a:pt x="211" y="100"/>
                  </a:lnTo>
                  <a:lnTo>
                    <a:pt x="185" y="103"/>
                  </a:lnTo>
                  <a:lnTo>
                    <a:pt x="155" y="105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2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5" y="70"/>
                  </a:lnTo>
                  <a:lnTo>
                    <a:pt x="100" y="76"/>
                  </a:lnTo>
                  <a:lnTo>
                    <a:pt x="126" y="81"/>
                  </a:lnTo>
                  <a:lnTo>
                    <a:pt x="155" y="83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70"/>
                  </a:lnTo>
                  <a:lnTo>
                    <a:pt x="257" y="60"/>
                  </a:lnTo>
                  <a:lnTo>
                    <a:pt x="275" y="49"/>
                  </a:lnTo>
                  <a:lnTo>
                    <a:pt x="291" y="36"/>
                  </a:lnTo>
                  <a:lnTo>
                    <a:pt x="303" y="20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3569040"/>
              <a:ext cx="37476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6" y="69"/>
                  </a:lnTo>
                  <a:lnTo>
                    <a:pt x="100" y="76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4" y="121"/>
                  </a:ln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23120" y="349380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9" y="49"/>
                  </a:lnTo>
                  <a:lnTo>
                    <a:pt x="288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4" y="123"/>
                  </a:ln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13400" y="3414240"/>
              <a:ext cx="37692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7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3" y="75"/>
                  </a:lnTo>
                  <a:lnTo>
                    <a:pt x="256" y="85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10" y="98"/>
                  </a:lnTo>
                  <a:lnTo>
                    <a:pt x="86" y="91"/>
                  </a:lnTo>
                  <a:lnTo>
                    <a:pt x="64" y="82"/>
                  </a:lnTo>
                  <a:lnTo>
                    <a:pt x="45" y="70"/>
                  </a:lnTo>
                  <a:lnTo>
                    <a:pt x="28" y="57"/>
                  </a:lnTo>
                  <a:lnTo>
                    <a:pt x="14" y="43"/>
                  </a:lnTo>
                  <a:lnTo>
                    <a:pt x="5" y="28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5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3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4" y="123"/>
                  </a:ln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18080" y="3319560"/>
              <a:ext cx="375840" cy="15588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3"/>
                  </a:moveTo>
                  <a:lnTo>
                    <a:pt x="307" y="33"/>
                  </a:lnTo>
                  <a:lnTo>
                    <a:pt x="299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2" y="3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608720" y="323820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313" y="2"/>
                  </a:moveTo>
                  <a:lnTo>
                    <a:pt x="307" y="33"/>
                  </a:lnTo>
                  <a:lnTo>
                    <a:pt x="300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7"/>
                  </a:lnTo>
                  <a:lnTo>
                    <a:pt x="235" y="94"/>
                  </a:lnTo>
                  <a:lnTo>
                    <a:pt x="213" y="100"/>
                  </a:lnTo>
                  <a:lnTo>
                    <a:pt x="186" y="104"/>
                  </a:lnTo>
                  <a:lnTo>
                    <a:pt x="157" y="105"/>
                  </a:lnTo>
                  <a:lnTo>
                    <a:pt x="134" y="104"/>
                  </a:lnTo>
                  <a:lnTo>
                    <a:pt x="110" y="98"/>
                  </a:lnTo>
                  <a:lnTo>
                    <a:pt x="86" y="92"/>
                  </a:lnTo>
                  <a:lnTo>
                    <a:pt x="64" y="83"/>
                  </a:lnTo>
                  <a:lnTo>
                    <a:pt x="45" y="71"/>
                  </a:lnTo>
                  <a:lnTo>
                    <a:pt x="28" y="59"/>
                  </a:lnTo>
                  <a:lnTo>
                    <a:pt x="15" y="45"/>
                  </a:lnTo>
                  <a:lnTo>
                    <a:pt x="5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3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70"/>
                  </a:lnTo>
                  <a:lnTo>
                    <a:pt x="258" y="61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3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6" y="121"/>
                  </a:ln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02600" y="31600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43640" y="3017520"/>
              <a:ext cx="287640" cy="240480"/>
            </a:xfrm>
            <a:custGeom>
              <a:avLst/>
              <a:gdLst/>
              <a:ahLst/>
              <a:rect l="l" t="t" r="r" b="b"/>
              <a:pathLst>
                <a:path w="239" h="160">
                  <a:moveTo>
                    <a:pt x="239" y="81"/>
                  </a:moveTo>
                  <a:lnTo>
                    <a:pt x="237" y="65"/>
                  </a:lnTo>
                  <a:lnTo>
                    <a:pt x="230" y="50"/>
                  </a:lnTo>
                  <a:lnTo>
                    <a:pt x="218" y="35"/>
                  </a:lnTo>
                  <a:lnTo>
                    <a:pt x="204" y="23"/>
                  </a:lnTo>
                  <a:lnTo>
                    <a:pt x="187" y="14"/>
                  </a:lnTo>
                  <a:lnTo>
                    <a:pt x="166" y="6"/>
                  </a:lnTo>
                  <a:lnTo>
                    <a:pt x="144" y="1"/>
                  </a:lnTo>
                  <a:lnTo>
                    <a:pt x="119" y="0"/>
                  </a:lnTo>
                  <a:lnTo>
                    <a:pt x="95" y="1"/>
                  </a:lnTo>
                  <a:lnTo>
                    <a:pt x="73" y="6"/>
                  </a:lnTo>
                  <a:lnTo>
                    <a:pt x="52" y="14"/>
                  </a:lnTo>
                  <a:lnTo>
                    <a:pt x="35" y="23"/>
                  </a:lnTo>
                  <a:lnTo>
                    <a:pt x="21" y="35"/>
                  </a:lnTo>
                  <a:lnTo>
                    <a:pt x="9" y="50"/>
                  </a:lnTo>
                  <a:lnTo>
                    <a:pt x="3" y="65"/>
                  </a:lnTo>
                  <a:lnTo>
                    <a:pt x="0" y="81"/>
                  </a:lnTo>
                  <a:lnTo>
                    <a:pt x="3" y="97"/>
                  </a:lnTo>
                  <a:lnTo>
                    <a:pt x="9" y="112"/>
                  </a:lnTo>
                  <a:lnTo>
                    <a:pt x="21" y="125"/>
                  </a:lnTo>
                  <a:lnTo>
                    <a:pt x="35" y="137"/>
                  </a:lnTo>
                  <a:lnTo>
                    <a:pt x="52" y="147"/>
                  </a:lnTo>
                  <a:lnTo>
                    <a:pt x="73" y="154"/>
                  </a:lnTo>
                  <a:lnTo>
                    <a:pt x="95" y="159"/>
                  </a:lnTo>
                  <a:lnTo>
                    <a:pt x="119" y="160"/>
                  </a:lnTo>
                  <a:lnTo>
                    <a:pt x="144" y="159"/>
                  </a:lnTo>
                  <a:lnTo>
                    <a:pt x="166" y="154"/>
                  </a:lnTo>
                  <a:lnTo>
                    <a:pt x="187" y="147"/>
                  </a:lnTo>
                  <a:lnTo>
                    <a:pt x="204" y="137"/>
                  </a:lnTo>
                  <a:lnTo>
                    <a:pt x="218" y="125"/>
                  </a:lnTo>
                  <a:lnTo>
                    <a:pt x="230" y="112"/>
                  </a:lnTo>
                  <a:lnTo>
                    <a:pt x="237" y="97"/>
                  </a:lnTo>
                  <a:lnTo>
                    <a:pt x="239" y="81"/>
                  </a:lnTo>
                  <a:close/>
                </a:path>
              </a:pathLst>
            </a:custGeom>
            <a:solidFill>
              <a:srgbClr val="f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696560" y="301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7" y="91"/>
                  </a:lnTo>
                  <a:lnTo>
                    <a:pt x="3" y="98"/>
                  </a:lnTo>
                  <a:lnTo>
                    <a:pt x="0" y="104"/>
                  </a:lnTo>
                  <a:lnTo>
                    <a:pt x="3" y="112"/>
                  </a:lnTo>
                  <a:lnTo>
                    <a:pt x="8" y="120"/>
                  </a:lnTo>
                  <a:lnTo>
                    <a:pt x="13" y="127"/>
                  </a:lnTo>
                  <a:lnTo>
                    <a:pt x="21" y="130"/>
                  </a:lnTo>
                  <a:lnTo>
                    <a:pt x="30" y="137"/>
                  </a:lnTo>
                  <a:lnTo>
                    <a:pt x="40" y="142"/>
                  </a:lnTo>
                  <a:lnTo>
                    <a:pt x="47" y="145"/>
                  </a:lnTo>
                  <a:lnTo>
                    <a:pt x="55" y="146"/>
                  </a:lnTo>
                  <a:lnTo>
                    <a:pt x="68" y="149"/>
                  </a:lnTo>
                  <a:lnTo>
                    <a:pt x="75" y="150"/>
                  </a:lnTo>
                  <a:lnTo>
                    <a:pt x="81" y="153"/>
                  </a:lnTo>
                  <a:lnTo>
                    <a:pt x="87" y="154"/>
                  </a:lnTo>
                  <a:lnTo>
                    <a:pt x="91" y="154"/>
                  </a:lnTo>
                  <a:lnTo>
                    <a:pt x="94" y="154"/>
                  </a:lnTo>
                  <a:lnTo>
                    <a:pt x="100" y="154"/>
                  </a:lnTo>
                  <a:lnTo>
                    <a:pt x="105" y="151"/>
                  </a:lnTo>
                  <a:lnTo>
                    <a:pt x="110" y="149"/>
                  </a:lnTo>
                  <a:lnTo>
                    <a:pt x="121" y="144"/>
                  </a:lnTo>
                  <a:lnTo>
                    <a:pt x="128" y="140"/>
                  </a:lnTo>
                  <a:lnTo>
                    <a:pt x="136" y="136"/>
                  </a:lnTo>
                  <a:lnTo>
                    <a:pt x="143" y="130"/>
                  </a:lnTo>
                  <a:lnTo>
                    <a:pt x="149" y="125"/>
                  </a:lnTo>
                  <a:lnTo>
                    <a:pt x="153" y="123"/>
                  </a:lnTo>
                  <a:lnTo>
                    <a:pt x="153" y="121"/>
                  </a:lnTo>
                  <a:lnTo>
                    <a:pt x="148" y="120"/>
                  </a:lnTo>
                  <a:lnTo>
                    <a:pt x="142" y="119"/>
                  </a:lnTo>
                  <a:lnTo>
                    <a:pt x="135" y="119"/>
                  </a:lnTo>
                  <a:lnTo>
                    <a:pt x="128" y="121"/>
                  </a:lnTo>
                  <a:lnTo>
                    <a:pt x="118" y="123"/>
                  </a:lnTo>
                  <a:lnTo>
                    <a:pt x="108" y="125"/>
                  </a:lnTo>
                  <a:lnTo>
                    <a:pt x="100" y="129"/>
                  </a:lnTo>
                  <a:lnTo>
                    <a:pt x="93" y="132"/>
                  </a:lnTo>
                  <a:lnTo>
                    <a:pt x="87" y="133"/>
                  </a:lnTo>
                  <a:lnTo>
                    <a:pt x="128" y="111"/>
                  </a:lnTo>
                  <a:lnTo>
                    <a:pt x="121" y="104"/>
                  </a:lnTo>
                  <a:lnTo>
                    <a:pt x="61" y="115"/>
                  </a:lnTo>
                  <a:lnTo>
                    <a:pt x="110" y="98"/>
                  </a:lnTo>
                  <a:lnTo>
                    <a:pt x="106" y="91"/>
                  </a:lnTo>
                  <a:lnTo>
                    <a:pt x="161" y="98"/>
                  </a:lnTo>
                  <a:lnTo>
                    <a:pt x="162" y="53"/>
                  </a:lnTo>
                  <a:lnTo>
                    <a:pt x="110" y="61"/>
                  </a:lnTo>
                  <a:lnTo>
                    <a:pt x="113" y="55"/>
                  </a:lnTo>
                  <a:lnTo>
                    <a:pt x="61" y="39"/>
                  </a:lnTo>
                  <a:lnTo>
                    <a:pt x="122" y="48"/>
                  </a:lnTo>
                  <a:lnTo>
                    <a:pt x="130" y="42"/>
                  </a:lnTo>
                  <a:lnTo>
                    <a:pt x="84" y="21"/>
                  </a:lnTo>
                  <a:lnTo>
                    <a:pt x="91" y="22"/>
                  </a:lnTo>
                  <a:lnTo>
                    <a:pt x="97" y="25"/>
                  </a:lnTo>
                  <a:lnTo>
                    <a:pt x="105" y="27"/>
                  </a:lnTo>
                  <a:lnTo>
                    <a:pt x="117" y="30"/>
                  </a:lnTo>
                  <a:lnTo>
                    <a:pt x="127" y="31"/>
                  </a:lnTo>
                  <a:lnTo>
                    <a:pt x="134" y="33"/>
                  </a:lnTo>
                  <a:lnTo>
                    <a:pt x="140" y="34"/>
                  </a:lnTo>
                  <a:lnTo>
                    <a:pt x="147" y="33"/>
                  </a:lnTo>
                  <a:lnTo>
                    <a:pt x="152" y="30"/>
                  </a:lnTo>
                  <a:lnTo>
                    <a:pt x="152" y="29"/>
                  </a:lnTo>
                  <a:lnTo>
                    <a:pt x="148" y="26"/>
                  </a:lnTo>
                  <a:lnTo>
                    <a:pt x="140" y="22"/>
                  </a:lnTo>
                  <a:lnTo>
                    <a:pt x="132" y="17"/>
                  </a:lnTo>
                  <a:lnTo>
                    <a:pt x="125" y="13"/>
                  </a:lnTo>
                  <a:lnTo>
                    <a:pt x="115" y="8"/>
                  </a:lnTo>
                  <a:lnTo>
                    <a:pt x="104" y="4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0" y="8"/>
                  </a:lnTo>
                  <a:lnTo>
                    <a:pt x="42" y="9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19" y="25"/>
                  </a:lnTo>
                  <a:lnTo>
                    <a:pt x="12" y="30"/>
                  </a:lnTo>
                  <a:lnTo>
                    <a:pt x="8" y="35"/>
                  </a:lnTo>
                  <a:lnTo>
                    <a:pt x="4" y="43"/>
                  </a:lnTo>
                  <a:lnTo>
                    <a:pt x="3" y="52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9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44440" y="3151440"/>
              <a:ext cx="59040" cy="2556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" y="17"/>
                  </a:moveTo>
                  <a:lnTo>
                    <a:pt x="0" y="1"/>
                  </a:lnTo>
                  <a:lnTo>
                    <a:pt x="49" y="0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37600" y="3094200"/>
              <a:ext cx="66240" cy="2088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14"/>
                  </a:moveTo>
                  <a:lnTo>
                    <a:pt x="10" y="0"/>
                  </a:lnTo>
                  <a:lnTo>
                    <a:pt x="55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925520" y="40046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5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8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8"/>
                  </a:lnTo>
                  <a:lnTo>
                    <a:pt x="235" y="69"/>
                  </a:lnTo>
                  <a:lnTo>
                    <a:pt x="210" y="75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5"/>
                  </a:lnTo>
                  <a:lnTo>
                    <a:pt x="8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35240" y="392364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0" y="1"/>
                  </a:moveTo>
                  <a:lnTo>
                    <a:pt x="5" y="33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5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2"/>
                  </a:lnTo>
                  <a:lnTo>
                    <a:pt x="248" y="82"/>
                  </a:lnTo>
                  <a:lnTo>
                    <a:pt x="268" y="71"/>
                  </a:lnTo>
                  <a:lnTo>
                    <a:pt x="285" y="59"/>
                  </a:lnTo>
                  <a:lnTo>
                    <a:pt x="298" y="45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3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0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30560" y="38318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2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39920" y="374940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2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4"/>
                  </a:lnTo>
                  <a:lnTo>
                    <a:pt x="277" y="48"/>
                  </a:lnTo>
                  <a:lnTo>
                    <a:pt x="257" y="60"/>
                  </a:lnTo>
                  <a:lnTo>
                    <a:pt x="235" y="70"/>
                  </a:lnTo>
                  <a:lnTo>
                    <a:pt x="210" y="77"/>
                  </a:lnTo>
                  <a:lnTo>
                    <a:pt x="184" y="82"/>
                  </a:lnTo>
                  <a:lnTo>
                    <a:pt x="155" y="84"/>
                  </a:lnTo>
                  <a:lnTo>
                    <a:pt x="126" y="82"/>
                  </a:lnTo>
                  <a:lnTo>
                    <a:pt x="100" y="78"/>
                  </a:lnTo>
                  <a:lnTo>
                    <a:pt x="76" y="70"/>
                  </a:lnTo>
                  <a:lnTo>
                    <a:pt x="55" y="61"/>
                  </a:lnTo>
                  <a:lnTo>
                    <a:pt x="35" y="50"/>
                  </a:lnTo>
                  <a:lnTo>
                    <a:pt x="21" y="35"/>
                  </a:lnTo>
                  <a:lnTo>
                    <a:pt x="8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12" y="123"/>
                  </a:ln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926600" y="3674160"/>
              <a:ext cx="37728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3"/>
                  </a:lnTo>
                  <a:lnTo>
                    <a:pt x="156" y="105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70" y="72"/>
                  </a:lnTo>
                  <a:lnTo>
                    <a:pt x="287" y="59"/>
                  </a:lnTo>
                  <a:lnTo>
                    <a:pt x="300" y="45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4"/>
                  </a:lnTo>
                  <a:lnTo>
                    <a:pt x="277" y="49"/>
                  </a:lnTo>
                  <a:lnTo>
                    <a:pt x="259" y="60"/>
                  </a:lnTo>
                  <a:lnTo>
                    <a:pt x="237" y="71"/>
                  </a:lnTo>
                  <a:lnTo>
                    <a:pt x="212" y="77"/>
                  </a:lnTo>
                  <a:lnTo>
                    <a:pt x="185" y="83"/>
                  </a:lnTo>
                  <a:lnTo>
                    <a:pt x="156" y="84"/>
                  </a:lnTo>
                  <a:lnTo>
                    <a:pt x="127" y="83"/>
                  </a:lnTo>
                  <a:lnTo>
                    <a:pt x="101" y="79"/>
                  </a:lnTo>
                  <a:lnTo>
                    <a:pt x="76" y="71"/>
                  </a:lnTo>
                  <a:lnTo>
                    <a:pt x="55" y="62"/>
                  </a:lnTo>
                  <a:lnTo>
                    <a:pt x="37" y="50"/>
                  </a:lnTo>
                  <a:lnTo>
                    <a:pt x="21" y="36"/>
                  </a:lnTo>
                  <a:lnTo>
                    <a:pt x="9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13" y="121"/>
                  </a:ln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36320" y="359460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69" y="70"/>
                  </a:lnTo>
                  <a:lnTo>
                    <a:pt x="286" y="59"/>
                  </a:lnTo>
                  <a:lnTo>
                    <a:pt x="299" y="44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12" y="122"/>
                  </a:ln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931640" y="350136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2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7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4"/>
                  </a:lnTo>
                  <a:lnTo>
                    <a:pt x="156" y="105"/>
                  </a:lnTo>
                  <a:lnTo>
                    <a:pt x="179" y="104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69" y="71"/>
                  </a:lnTo>
                  <a:lnTo>
                    <a:pt x="286" y="59"/>
                  </a:lnTo>
                  <a:lnTo>
                    <a:pt x="300" y="45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70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3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70"/>
                  </a:lnTo>
                  <a:lnTo>
                    <a:pt x="55" y="60"/>
                  </a:lnTo>
                  <a:lnTo>
                    <a:pt x="37" y="49"/>
                  </a:lnTo>
                  <a:lnTo>
                    <a:pt x="21" y="34"/>
                  </a:lnTo>
                  <a:lnTo>
                    <a:pt x="9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13" y="123"/>
                  </a:ln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41000" y="342144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2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12" y="122"/>
                  </a:ln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947120" y="33436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7" y="31"/>
                  </a:lnTo>
                  <a:lnTo>
                    <a:pt x="15" y="48"/>
                  </a:lnTo>
                  <a:lnTo>
                    <a:pt x="26" y="62"/>
                  </a:lnTo>
                  <a:lnTo>
                    <a:pt x="41" y="75"/>
                  </a:lnTo>
                  <a:lnTo>
                    <a:pt x="58" y="85"/>
                  </a:lnTo>
                  <a:lnTo>
                    <a:pt x="77" y="94"/>
                  </a:lnTo>
                  <a:lnTo>
                    <a:pt x="101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70" y="70"/>
                  </a:lnTo>
                  <a:lnTo>
                    <a:pt x="287" y="58"/>
                  </a:lnTo>
                  <a:lnTo>
                    <a:pt x="300" y="44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8"/>
                  </a:lnTo>
                  <a:lnTo>
                    <a:pt x="237" y="69"/>
                  </a:lnTo>
                  <a:lnTo>
                    <a:pt x="212" y="75"/>
                  </a:lnTo>
                  <a:lnTo>
                    <a:pt x="185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7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993920" y="3199320"/>
              <a:ext cx="289080" cy="241920"/>
            </a:xfrm>
            <a:custGeom>
              <a:avLst/>
              <a:gdLst/>
              <a:ahLst/>
              <a:rect l="l" t="t" r="r" b="b"/>
              <a:pathLst>
                <a:path w="240" h="161">
                  <a:moveTo>
                    <a:pt x="0" y="80"/>
                  </a:moveTo>
                  <a:lnTo>
                    <a:pt x="3" y="64"/>
                  </a:lnTo>
                  <a:lnTo>
                    <a:pt x="10" y="49"/>
                  </a:lnTo>
                  <a:lnTo>
                    <a:pt x="21" y="36"/>
                  </a:lnTo>
                  <a:lnTo>
                    <a:pt x="36" y="24"/>
                  </a:lnTo>
                  <a:lnTo>
                    <a:pt x="53" y="13"/>
                  </a:lnTo>
                  <a:lnTo>
                    <a:pt x="74" y="7"/>
                  </a:lnTo>
                  <a:lnTo>
                    <a:pt x="96" y="2"/>
                  </a:lnTo>
                  <a:lnTo>
                    <a:pt x="121" y="0"/>
                  </a:lnTo>
                  <a:lnTo>
                    <a:pt x="144" y="2"/>
                  </a:lnTo>
                  <a:lnTo>
                    <a:pt x="166" y="7"/>
                  </a:lnTo>
                  <a:lnTo>
                    <a:pt x="187" y="13"/>
                  </a:lnTo>
                  <a:lnTo>
                    <a:pt x="204" y="24"/>
                  </a:lnTo>
                  <a:lnTo>
                    <a:pt x="219" y="36"/>
                  </a:lnTo>
                  <a:lnTo>
                    <a:pt x="231" y="49"/>
                  </a:lnTo>
                  <a:lnTo>
                    <a:pt x="237" y="64"/>
                  </a:lnTo>
                  <a:lnTo>
                    <a:pt x="240" y="80"/>
                  </a:lnTo>
                  <a:lnTo>
                    <a:pt x="237" y="96"/>
                  </a:lnTo>
                  <a:lnTo>
                    <a:pt x="231" y="111"/>
                  </a:lnTo>
                  <a:lnTo>
                    <a:pt x="219" y="126"/>
                  </a:lnTo>
                  <a:lnTo>
                    <a:pt x="204" y="137"/>
                  </a:lnTo>
                  <a:lnTo>
                    <a:pt x="187" y="147"/>
                  </a:lnTo>
                  <a:lnTo>
                    <a:pt x="166" y="154"/>
                  </a:lnTo>
                  <a:lnTo>
                    <a:pt x="144" y="160"/>
                  </a:lnTo>
                  <a:lnTo>
                    <a:pt x="121" y="161"/>
                  </a:lnTo>
                  <a:lnTo>
                    <a:pt x="96" y="160"/>
                  </a:lnTo>
                  <a:lnTo>
                    <a:pt x="74" y="154"/>
                  </a:lnTo>
                  <a:lnTo>
                    <a:pt x="53" y="147"/>
                  </a:lnTo>
                  <a:lnTo>
                    <a:pt x="36" y="137"/>
                  </a:lnTo>
                  <a:lnTo>
                    <a:pt x="21" y="126"/>
                  </a:lnTo>
                  <a:lnTo>
                    <a:pt x="10" y="111"/>
                  </a:lnTo>
                  <a:lnTo>
                    <a:pt x="3" y="9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33880" y="319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49" y="85"/>
                  </a:moveTo>
                  <a:lnTo>
                    <a:pt x="156" y="91"/>
                  </a:lnTo>
                  <a:lnTo>
                    <a:pt x="161" y="98"/>
                  </a:lnTo>
                  <a:lnTo>
                    <a:pt x="162" y="104"/>
                  </a:lnTo>
                  <a:lnTo>
                    <a:pt x="160" y="114"/>
                  </a:lnTo>
                  <a:lnTo>
                    <a:pt x="154" y="121"/>
                  </a:lnTo>
                  <a:lnTo>
                    <a:pt x="149" y="127"/>
                  </a:lnTo>
                  <a:lnTo>
                    <a:pt x="141" y="132"/>
                  </a:lnTo>
                  <a:lnTo>
                    <a:pt x="132" y="138"/>
                  </a:lnTo>
                  <a:lnTo>
                    <a:pt x="123" y="144"/>
                  </a:lnTo>
                  <a:lnTo>
                    <a:pt x="115" y="146"/>
                  </a:lnTo>
                  <a:lnTo>
                    <a:pt x="107" y="148"/>
                  </a:lnTo>
                  <a:lnTo>
                    <a:pt x="94" y="150"/>
                  </a:lnTo>
                  <a:lnTo>
                    <a:pt x="88" y="151"/>
                  </a:lnTo>
                  <a:lnTo>
                    <a:pt x="81" y="153"/>
                  </a:lnTo>
                  <a:lnTo>
                    <a:pt x="76" y="154"/>
                  </a:lnTo>
                  <a:lnTo>
                    <a:pt x="72" y="154"/>
                  </a:lnTo>
                  <a:lnTo>
                    <a:pt x="68" y="154"/>
                  </a:lnTo>
                  <a:lnTo>
                    <a:pt x="63" y="154"/>
                  </a:lnTo>
                  <a:lnTo>
                    <a:pt x="58" y="153"/>
                  </a:lnTo>
                  <a:lnTo>
                    <a:pt x="52" y="150"/>
                  </a:lnTo>
                  <a:lnTo>
                    <a:pt x="42" y="145"/>
                  </a:lnTo>
                  <a:lnTo>
                    <a:pt x="34" y="140"/>
                  </a:lnTo>
                  <a:lnTo>
                    <a:pt x="26" y="136"/>
                  </a:lnTo>
                  <a:lnTo>
                    <a:pt x="20" y="131"/>
                  </a:lnTo>
                  <a:lnTo>
                    <a:pt x="13" y="125"/>
                  </a:lnTo>
                  <a:lnTo>
                    <a:pt x="9" y="123"/>
                  </a:lnTo>
                  <a:lnTo>
                    <a:pt x="9" y="121"/>
                  </a:lnTo>
                  <a:lnTo>
                    <a:pt x="15" y="120"/>
                  </a:lnTo>
                  <a:lnTo>
                    <a:pt x="21" y="119"/>
                  </a:lnTo>
                  <a:lnTo>
                    <a:pt x="28" y="120"/>
                  </a:lnTo>
                  <a:lnTo>
                    <a:pt x="34" y="121"/>
                  </a:lnTo>
                  <a:lnTo>
                    <a:pt x="45" y="124"/>
                  </a:lnTo>
                  <a:lnTo>
                    <a:pt x="55" y="127"/>
                  </a:lnTo>
                  <a:lnTo>
                    <a:pt x="63" y="131"/>
                  </a:lnTo>
                  <a:lnTo>
                    <a:pt x="69" y="132"/>
                  </a:lnTo>
                  <a:lnTo>
                    <a:pt x="76" y="133"/>
                  </a:lnTo>
                  <a:lnTo>
                    <a:pt x="34" y="111"/>
                  </a:lnTo>
                  <a:lnTo>
                    <a:pt x="42" y="106"/>
                  </a:lnTo>
                  <a:lnTo>
                    <a:pt x="102" y="116"/>
                  </a:lnTo>
                  <a:lnTo>
                    <a:pt x="52" y="98"/>
                  </a:lnTo>
                  <a:lnTo>
                    <a:pt x="56" y="93"/>
                  </a:lnTo>
                  <a:lnTo>
                    <a:pt x="1" y="99"/>
                  </a:lnTo>
                  <a:lnTo>
                    <a:pt x="0" y="54"/>
                  </a:lnTo>
                  <a:lnTo>
                    <a:pt x="52" y="63"/>
                  </a:lnTo>
                  <a:lnTo>
                    <a:pt x="50" y="56"/>
                  </a:lnTo>
                  <a:lnTo>
                    <a:pt x="102" y="40"/>
                  </a:lnTo>
                  <a:lnTo>
                    <a:pt x="41" y="48"/>
                  </a:lnTo>
                  <a:lnTo>
                    <a:pt x="33" y="42"/>
                  </a:lnTo>
                  <a:lnTo>
                    <a:pt x="79" y="22"/>
                  </a:lnTo>
                  <a:lnTo>
                    <a:pt x="72" y="24"/>
                  </a:lnTo>
                  <a:lnTo>
                    <a:pt x="65" y="25"/>
                  </a:lnTo>
                  <a:lnTo>
                    <a:pt x="58" y="27"/>
                  </a:lnTo>
                  <a:lnTo>
                    <a:pt x="46" y="30"/>
                  </a:lnTo>
                  <a:lnTo>
                    <a:pt x="35" y="33"/>
                  </a:lnTo>
                  <a:lnTo>
                    <a:pt x="29" y="34"/>
                  </a:lnTo>
                  <a:lnTo>
                    <a:pt x="22" y="34"/>
                  </a:lnTo>
                  <a:lnTo>
                    <a:pt x="16" y="33"/>
                  </a:lnTo>
                  <a:lnTo>
                    <a:pt x="11" y="31"/>
                  </a:lnTo>
                  <a:lnTo>
                    <a:pt x="11" y="29"/>
                  </a:lnTo>
                  <a:lnTo>
                    <a:pt x="15" y="26"/>
                  </a:lnTo>
                  <a:lnTo>
                    <a:pt x="22" y="22"/>
                  </a:lnTo>
                  <a:lnTo>
                    <a:pt x="30" y="18"/>
                  </a:lnTo>
                  <a:lnTo>
                    <a:pt x="38" y="13"/>
                  </a:lnTo>
                  <a:lnTo>
                    <a:pt x="47" y="9"/>
                  </a:lnTo>
                  <a:lnTo>
                    <a:pt x="59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4"/>
                  </a:lnTo>
                  <a:lnTo>
                    <a:pt x="101" y="5"/>
                  </a:lnTo>
                  <a:lnTo>
                    <a:pt x="113" y="8"/>
                  </a:lnTo>
                  <a:lnTo>
                    <a:pt x="120" y="10"/>
                  </a:lnTo>
                  <a:lnTo>
                    <a:pt x="128" y="13"/>
                  </a:lnTo>
                  <a:lnTo>
                    <a:pt x="136" y="20"/>
                  </a:lnTo>
                  <a:lnTo>
                    <a:pt x="144" y="26"/>
                  </a:lnTo>
                  <a:lnTo>
                    <a:pt x="150" y="30"/>
                  </a:lnTo>
                  <a:lnTo>
                    <a:pt x="154" y="37"/>
                  </a:lnTo>
                  <a:lnTo>
                    <a:pt x="158" y="44"/>
                  </a:lnTo>
                  <a:lnTo>
                    <a:pt x="160" y="54"/>
                  </a:lnTo>
                  <a:lnTo>
                    <a:pt x="157" y="60"/>
                  </a:lnTo>
                  <a:lnTo>
                    <a:pt x="152" y="65"/>
                  </a:lnTo>
                  <a:lnTo>
                    <a:pt x="144" y="72"/>
                  </a:lnTo>
                  <a:lnTo>
                    <a:pt x="149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22080" y="3332880"/>
              <a:ext cx="59760" cy="24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9" y="16"/>
                  </a:moveTo>
                  <a:lnTo>
                    <a:pt x="50" y="1"/>
                  </a:lnTo>
                  <a:lnTo>
                    <a:pt x="0" y="0"/>
                  </a:lnTo>
                  <a:lnTo>
                    <a:pt x="49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080" y="3276000"/>
              <a:ext cx="65880" cy="190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5" y="13"/>
                  </a:moveTo>
                  <a:lnTo>
                    <a:pt x="46" y="0"/>
                  </a:lnTo>
                  <a:lnTo>
                    <a:pt x="0" y="11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73640" y="43444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2"/>
                  </a:lnTo>
                  <a:lnTo>
                    <a:pt x="298" y="49"/>
                  </a:lnTo>
                  <a:lnTo>
                    <a:pt x="288" y="64"/>
                  </a:lnTo>
                  <a:lnTo>
                    <a:pt x="274" y="75"/>
                  </a:lnTo>
                  <a:lnTo>
                    <a:pt x="257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5"/>
                  </a:lnTo>
                  <a:lnTo>
                    <a:pt x="304" y="19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65000" y="42634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8" y="48"/>
                  </a:lnTo>
                  <a:lnTo>
                    <a:pt x="287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6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4" y="91"/>
                  </a:lnTo>
                  <a:lnTo>
                    <a:pt x="62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5" y="47"/>
                  </a:lnTo>
                  <a:lnTo>
                    <a:pt x="53" y="59"/>
                  </a:lnTo>
                  <a:lnTo>
                    <a:pt x="75" y="69"/>
                  </a:lnTo>
                  <a:lnTo>
                    <a:pt x="100" y="76"/>
                  </a:lnTo>
                  <a:lnTo>
                    <a:pt x="128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68960" y="417168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4" y="75"/>
                  </a:lnTo>
                  <a:lnTo>
                    <a:pt x="257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4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9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60320" y="408888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2"/>
                  </a:moveTo>
                  <a:lnTo>
                    <a:pt x="307" y="32"/>
                  </a:lnTo>
                  <a:lnTo>
                    <a:pt x="299" y="49"/>
                  </a:lnTo>
                  <a:lnTo>
                    <a:pt x="287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5" y="103"/>
                  </a:lnTo>
                  <a:lnTo>
                    <a:pt x="156" y="104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4"/>
                  </a:lnTo>
                  <a:lnTo>
                    <a:pt x="35" y="48"/>
                  </a:lnTo>
                  <a:lnTo>
                    <a:pt x="53" y="60"/>
                  </a:lnTo>
                  <a:lnTo>
                    <a:pt x="75" y="70"/>
                  </a:lnTo>
                  <a:lnTo>
                    <a:pt x="100" y="77"/>
                  </a:lnTo>
                  <a:lnTo>
                    <a:pt x="128" y="82"/>
                  </a:lnTo>
                  <a:lnTo>
                    <a:pt x="156" y="83"/>
                  </a:lnTo>
                  <a:lnTo>
                    <a:pt x="185" y="82"/>
                  </a:lnTo>
                  <a:lnTo>
                    <a:pt x="211" y="78"/>
                  </a:lnTo>
                  <a:lnTo>
                    <a:pt x="235" y="70"/>
                  </a:lnTo>
                  <a:lnTo>
                    <a:pt x="257" y="61"/>
                  </a:lnTo>
                  <a:lnTo>
                    <a:pt x="275" y="49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4" y="123"/>
                  </a:ln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372560" y="40140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3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4"/>
                  </a:lnTo>
                  <a:lnTo>
                    <a:pt x="34" y="49"/>
                  </a:lnTo>
                  <a:lnTo>
                    <a:pt x="54" y="60"/>
                  </a:lnTo>
                  <a:lnTo>
                    <a:pt x="76" y="71"/>
                  </a:lnTo>
                  <a:lnTo>
                    <a:pt x="101" y="77"/>
                  </a:lnTo>
                  <a:lnTo>
                    <a:pt x="127" y="82"/>
                  </a:lnTo>
                  <a:lnTo>
                    <a:pt x="156" y="84"/>
                  </a:lnTo>
                  <a:lnTo>
                    <a:pt x="184" y="82"/>
                  </a:lnTo>
                  <a:lnTo>
                    <a:pt x="212" y="79"/>
                  </a:lnTo>
                  <a:lnTo>
                    <a:pt x="235" y="71"/>
                  </a:lnTo>
                  <a:lnTo>
                    <a:pt x="258" y="62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1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62840" y="39340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7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3" y="122"/>
                  </a:ln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67520" y="384120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100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3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70"/>
                  </a:lnTo>
                  <a:lnTo>
                    <a:pt x="258" y="60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4" y="123"/>
                  </a:ln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357800" y="37612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7" y="62"/>
                  </a:lnTo>
                  <a:lnTo>
                    <a:pt x="272" y="76"/>
                  </a:lnTo>
                  <a:lnTo>
                    <a:pt x="255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52040" y="368352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5"/>
                  </a:lnTo>
                  <a:lnTo>
                    <a:pt x="255" y="84"/>
                  </a:lnTo>
                  <a:lnTo>
                    <a:pt x="234" y="94"/>
                  </a:lnTo>
                  <a:lnTo>
                    <a:pt x="212" y="99"/>
                  </a:lnTo>
                  <a:lnTo>
                    <a:pt x="184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7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0"/>
                  </a:lnTo>
                  <a:lnTo>
                    <a:pt x="156" y="82"/>
                  </a:lnTo>
                  <a:lnTo>
                    <a:pt x="184" y="80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3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91640" y="3538800"/>
              <a:ext cx="287640" cy="241920"/>
            </a:xfrm>
            <a:custGeom>
              <a:avLst/>
              <a:gdLst/>
              <a:ahLst/>
              <a:rect l="l" t="t" r="r" b="b"/>
              <a:pathLst>
                <a:path w="239" h="161">
                  <a:moveTo>
                    <a:pt x="239" y="80"/>
                  </a:moveTo>
                  <a:lnTo>
                    <a:pt x="236" y="64"/>
                  </a:lnTo>
                  <a:lnTo>
                    <a:pt x="230" y="49"/>
                  </a:lnTo>
                  <a:lnTo>
                    <a:pt x="218" y="35"/>
                  </a:lnTo>
                  <a:lnTo>
                    <a:pt x="204" y="24"/>
                  </a:lnTo>
                  <a:lnTo>
                    <a:pt x="187" y="13"/>
                  </a:lnTo>
                  <a:lnTo>
                    <a:pt x="166" y="7"/>
                  </a:lnTo>
                  <a:lnTo>
                    <a:pt x="144" y="2"/>
                  </a:lnTo>
                  <a:lnTo>
                    <a:pt x="120" y="0"/>
                  </a:lnTo>
                  <a:lnTo>
                    <a:pt x="95" y="2"/>
                  </a:lnTo>
                  <a:lnTo>
                    <a:pt x="73" y="7"/>
                  </a:lnTo>
                  <a:lnTo>
                    <a:pt x="52" y="13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9" y="49"/>
                  </a:lnTo>
                  <a:lnTo>
                    <a:pt x="2" y="64"/>
                  </a:lnTo>
                  <a:lnTo>
                    <a:pt x="0" y="80"/>
                  </a:lnTo>
                  <a:lnTo>
                    <a:pt x="2" y="96"/>
                  </a:lnTo>
                  <a:lnTo>
                    <a:pt x="9" y="111"/>
                  </a:lnTo>
                  <a:lnTo>
                    <a:pt x="21" y="126"/>
                  </a:lnTo>
                  <a:lnTo>
                    <a:pt x="35" y="137"/>
                  </a:lnTo>
                  <a:lnTo>
                    <a:pt x="52" y="146"/>
                  </a:lnTo>
                  <a:lnTo>
                    <a:pt x="73" y="154"/>
                  </a:lnTo>
                  <a:lnTo>
                    <a:pt x="95" y="160"/>
                  </a:lnTo>
                  <a:lnTo>
                    <a:pt x="120" y="161"/>
                  </a:lnTo>
                  <a:lnTo>
                    <a:pt x="144" y="160"/>
                  </a:lnTo>
                  <a:lnTo>
                    <a:pt x="166" y="154"/>
                  </a:lnTo>
                  <a:lnTo>
                    <a:pt x="187" y="146"/>
                  </a:lnTo>
                  <a:lnTo>
                    <a:pt x="204" y="137"/>
                  </a:lnTo>
                  <a:lnTo>
                    <a:pt x="218" y="126"/>
                  </a:lnTo>
                  <a:lnTo>
                    <a:pt x="230" y="111"/>
                  </a:lnTo>
                  <a:lnTo>
                    <a:pt x="236" y="96"/>
                  </a:lnTo>
                  <a:lnTo>
                    <a:pt x="239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47080" y="3537360"/>
              <a:ext cx="19512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6" y="91"/>
                  </a:lnTo>
                  <a:lnTo>
                    <a:pt x="1" y="98"/>
                  </a:lnTo>
                  <a:lnTo>
                    <a:pt x="0" y="104"/>
                  </a:lnTo>
                  <a:lnTo>
                    <a:pt x="2" y="114"/>
                  </a:lnTo>
                  <a:lnTo>
                    <a:pt x="7" y="121"/>
                  </a:lnTo>
                  <a:lnTo>
                    <a:pt x="13" y="127"/>
                  </a:lnTo>
                  <a:lnTo>
                    <a:pt x="19" y="132"/>
                  </a:lnTo>
                  <a:lnTo>
                    <a:pt x="30" y="138"/>
                  </a:lnTo>
                  <a:lnTo>
                    <a:pt x="39" y="144"/>
                  </a:lnTo>
                  <a:lnTo>
                    <a:pt x="45" y="146"/>
                  </a:lnTo>
                  <a:lnTo>
                    <a:pt x="53" y="147"/>
                  </a:lnTo>
                  <a:lnTo>
                    <a:pt x="66" y="150"/>
                  </a:lnTo>
                  <a:lnTo>
                    <a:pt x="73" y="151"/>
                  </a:lnTo>
                  <a:lnTo>
                    <a:pt x="79" y="153"/>
                  </a:lnTo>
                  <a:lnTo>
                    <a:pt x="84" y="154"/>
                  </a:lnTo>
                  <a:lnTo>
                    <a:pt x="90" y="154"/>
                  </a:lnTo>
                  <a:lnTo>
                    <a:pt x="94" y="154"/>
                  </a:lnTo>
                  <a:lnTo>
                    <a:pt x="98" y="154"/>
                  </a:lnTo>
                  <a:lnTo>
                    <a:pt x="103" y="153"/>
                  </a:lnTo>
                  <a:lnTo>
                    <a:pt x="108" y="150"/>
                  </a:lnTo>
                  <a:lnTo>
                    <a:pt x="118" y="145"/>
                  </a:lnTo>
                  <a:lnTo>
                    <a:pt x="128" y="140"/>
                  </a:lnTo>
                  <a:lnTo>
                    <a:pt x="134" y="136"/>
                  </a:lnTo>
                  <a:lnTo>
                    <a:pt x="142" y="130"/>
                  </a:lnTo>
                  <a:lnTo>
                    <a:pt x="149" y="125"/>
                  </a:lnTo>
                  <a:lnTo>
                    <a:pt x="152" y="123"/>
                  </a:lnTo>
                  <a:lnTo>
                    <a:pt x="151" y="121"/>
                  </a:lnTo>
                  <a:lnTo>
                    <a:pt x="146" y="120"/>
                  </a:lnTo>
                  <a:lnTo>
                    <a:pt x="139" y="119"/>
                  </a:lnTo>
                  <a:lnTo>
                    <a:pt x="134" y="120"/>
                  </a:lnTo>
                  <a:lnTo>
                    <a:pt x="126" y="121"/>
                  </a:lnTo>
                  <a:lnTo>
                    <a:pt x="117" y="124"/>
                  </a:lnTo>
                  <a:lnTo>
                    <a:pt x="107" y="127"/>
                  </a:lnTo>
                  <a:lnTo>
                    <a:pt x="98" y="130"/>
                  </a:lnTo>
                  <a:lnTo>
                    <a:pt x="91" y="132"/>
                  </a:lnTo>
                  <a:lnTo>
                    <a:pt x="86" y="133"/>
                  </a:lnTo>
                  <a:lnTo>
                    <a:pt x="128" y="111"/>
                  </a:lnTo>
                  <a:lnTo>
                    <a:pt x="118" y="106"/>
                  </a:lnTo>
                  <a:lnTo>
                    <a:pt x="58" y="116"/>
                  </a:lnTo>
                  <a:lnTo>
                    <a:pt x="108" y="98"/>
                  </a:lnTo>
                  <a:lnTo>
                    <a:pt x="104" y="93"/>
                  </a:lnTo>
                  <a:lnTo>
                    <a:pt x="159" y="98"/>
                  </a:lnTo>
                  <a:lnTo>
                    <a:pt x="162" y="53"/>
                  </a:lnTo>
                  <a:lnTo>
                    <a:pt x="108" y="63"/>
                  </a:lnTo>
                  <a:lnTo>
                    <a:pt x="111" y="56"/>
                  </a:lnTo>
                  <a:lnTo>
                    <a:pt x="58" y="40"/>
                  </a:lnTo>
                  <a:lnTo>
                    <a:pt x="121" y="48"/>
                  </a:lnTo>
                  <a:lnTo>
                    <a:pt x="128" y="42"/>
                  </a:lnTo>
                  <a:lnTo>
                    <a:pt x="82" y="22"/>
                  </a:lnTo>
                  <a:lnTo>
                    <a:pt x="88" y="23"/>
                  </a:lnTo>
                  <a:lnTo>
                    <a:pt x="95" y="25"/>
                  </a:lnTo>
                  <a:lnTo>
                    <a:pt x="104" y="27"/>
                  </a:lnTo>
                  <a:lnTo>
                    <a:pt x="116" y="30"/>
                  </a:lnTo>
                  <a:lnTo>
                    <a:pt x="126" y="33"/>
                  </a:lnTo>
                  <a:lnTo>
                    <a:pt x="133" y="34"/>
                  </a:lnTo>
                  <a:lnTo>
                    <a:pt x="138" y="34"/>
                  </a:lnTo>
                  <a:lnTo>
                    <a:pt x="145" y="33"/>
                  </a:lnTo>
                  <a:lnTo>
                    <a:pt x="150" y="31"/>
                  </a:lnTo>
                  <a:lnTo>
                    <a:pt x="150" y="29"/>
                  </a:lnTo>
                  <a:lnTo>
                    <a:pt x="147" y="26"/>
                  </a:lnTo>
                  <a:lnTo>
                    <a:pt x="139" y="22"/>
                  </a:lnTo>
                  <a:lnTo>
                    <a:pt x="132" y="18"/>
                  </a:lnTo>
                  <a:lnTo>
                    <a:pt x="124" y="13"/>
                  </a:lnTo>
                  <a:lnTo>
                    <a:pt x="115" y="9"/>
                  </a:lnTo>
                  <a:lnTo>
                    <a:pt x="103" y="4"/>
                  </a:lnTo>
                  <a:lnTo>
                    <a:pt x="96" y="1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41" y="10"/>
                  </a:lnTo>
                  <a:lnTo>
                    <a:pt x="33" y="13"/>
                  </a:lnTo>
                  <a:lnTo>
                    <a:pt x="26" y="20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5" y="60"/>
                  </a:lnTo>
                  <a:lnTo>
                    <a:pt x="10" y="65"/>
                  </a:lnTo>
                  <a:lnTo>
                    <a:pt x="18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91720" y="3672720"/>
              <a:ext cx="60120" cy="2376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3" y="16"/>
                  </a:moveTo>
                  <a:lnTo>
                    <a:pt x="0" y="1"/>
                  </a:lnTo>
                  <a:lnTo>
                    <a:pt x="50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87040" y="3615480"/>
              <a:ext cx="64800" cy="19440"/>
            </a:xfrm>
            <a:custGeom>
              <a:avLst/>
              <a:gdLst/>
              <a:ahLst/>
              <a:rect l="l" t="t" r="r" b="b"/>
              <a:pathLst>
                <a:path w="54" h="13">
                  <a:moveTo>
                    <a:pt x="0" y="13"/>
                  </a:moveTo>
                  <a:lnTo>
                    <a:pt x="8" y="0"/>
                  </a:lnTo>
                  <a:lnTo>
                    <a:pt x="54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17160" y="3531240"/>
              <a:ext cx="1072440" cy="772560"/>
            </a:xfrm>
            <a:custGeom>
              <a:avLst/>
              <a:gdLst/>
              <a:ahLst/>
              <a:rect l="l" t="t" r="r" b="b"/>
              <a:pathLst>
                <a:path w="890" h="514">
                  <a:moveTo>
                    <a:pt x="638" y="0"/>
                  </a:moveTo>
                  <a:lnTo>
                    <a:pt x="890" y="134"/>
                  </a:lnTo>
                  <a:lnTo>
                    <a:pt x="380" y="514"/>
                  </a:lnTo>
                  <a:lnTo>
                    <a:pt x="0" y="321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3" y="39"/>
                  </a:ln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15" y="94"/>
                  </a:ln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13" y="79"/>
                  </a:ln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321880" y="3798720"/>
              <a:ext cx="151560" cy="95760"/>
            </a:xfrm>
            <a:custGeom>
              <a:avLst/>
              <a:gdLst/>
              <a:ahLst/>
              <a:rect l="l" t="t" r="r" b="b"/>
              <a:pathLst>
                <a:path w="126" h="64">
                  <a:moveTo>
                    <a:pt x="126" y="3"/>
                  </a:moveTo>
                  <a:lnTo>
                    <a:pt x="100" y="15"/>
                  </a:lnTo>
                  <a:lnTo>
                    <a:pt x="47" y="27"/>
                  </a:lnTo>
                  <a:lnTo>
                    <a:pt x="13" y="64"/>
                  </a:lnTo>
                  <a:lnTo>
                    <a:pt x="0" y="35"/>
                  </a:lnTo>
                  <a:lnTo>
                    <a:pt x="7" y="19"/>
                  </a:lnTo>
                  <a:lnTo>
                    <a:pt x="40" y="3"/>
                  </a:lnTo>
                  <a:lnTo>
                    <a:pt x="91" y="0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32760" y="3916080"/>
              <a:ext cx="68760" cy="2412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57" y="0"/>
                  </a:moveTo>
                  <a:lnTo>
                    <a:pt x="0" y="6"/>
                  </a:lnTo>
                  <a:lnTo>
                    <a:pt x="26" y="1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23040" y="382752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0"/>
                  </a:moveTo>
                  <a:lnTo>
                    <a:pt x="0" y="8"/>
                  </a:lnTo>
                  <a:lnTo>
                    <a:pt x="20" y="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5447160" y="3845520"/>
              <a:ext cx="28800" cy="612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393160" y="3871080"/>
              <a:ext cx="147960" cy="44640"/>
            </a:xfrm>
            <a:custGeom>
              <a:avLst/>
              <a:gdLst/>
              <a:ahLst/>
              <a:rect l="l" t="t" r="r" b="b"/>
              <a:pathLst>
                <a:path w="123" h="30">
                  <a:moveTo>
                    <a:pt x="35" y="0"/>
                  </a:moveTo>
                  <a:lnTo>
                    <a:pt x="59" y="8"/>
                  </a:lnTo>
                  <a:lnTo>
                    <a:pt x="98" y="14"/>
                  </a:lnTo>
                  <a:lnTo>
                    <a:pt x="123" y="16"/>
                  </a:lnTo>
                  <a:lnTo>
                    <a:pt x="32" y="27"/>
                  </a:lnTo>
                  <a:lnTo>
                    <a:pt x="3" y="30"/>
                  </a:lnTo>
                  <a:lnTo>
                    <a:pt x="0" y="1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35120" y="3956760"/>
              <a:ext cx="114480" cy="7344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7" y="34"/>
                  </a:moveTo>
                  <a:lnTo>
                    <a:pt x="12" y="38"/>
                  </a:lnTo>
                  <a:lnTo>
                    <a:pt x="19" y="42"/>
                  </a:lnTo>
                  <a:lnTo>
                    <a:pt x="27" y="45"/>
                  </a:lnTo>
                  <a:lnTo>
                    <a:pt x="34" y="46"/>
                  </a:lnTo>
                  <a:lnTo>
                    <a:pt x="44" y="47"/>
                  </a:lnTo>
                  <a:lnTo>
                    <a:pt x="53" y="49"/>
                  </a:lnTo>
                  <a:lnTo>
                    <a:pt x="62" y="47"/>
                  </a:lnTo>
                  <a:lnTo>
                    <a:pt x="71" y="46"/>
                  </a:lnTo>
                  <a:lnTo>
                    <a:pt x="85" y="41"/>
                  </a:lnTo>
                  <a:lnTo>
                    <a:pt x="93" y="33"/>
                  </a:lnTo>
                  <a:lnTo>
                    <a:pt x="95" y="24"/>
                  </a:lnTo>
                  <a:lnTo>
                    <a:pt x="89" y="15"/>
                  </a:lnTo>
                  <a:lnTo>
                    <a:pt x="84" y="11"/>
                  </a:lnTo>
                  <a:lnTo>
                    <a:pt x="78" y="7"/>
                  </a:lnTo>
                  <a:lnTo>
                    <a:pt x="70" y="4"/>
                  </a:lnTo>
                  <a:lnTo>
                    <a:pt x="61" y="3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3"/>
                  </a:lnTo>
                  <a:lnTo>
                    <a:pt x="11" y="8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7" y="3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3290760" y="3510000"/>
            <a:ext cx="1231920" cy="804600"/>
            <a:chOff x="3290760" y="3510000"/>
            <a:chExt cx="1231920" cy="804600"/>
          </a:xfrm>
        </p:grpSpPr>
        <p:sp>
          <p:nvSpPr>
            <p:cNvPr id="1330" name=""/>
            <p:cNvSpPr/>
            <p:nvPr/>
          </p:nvSpPr>
          <p:spPr>
            <a:xfrm>
              <a:off x="3290760" y="3510000"/>
              <a:ext cx="1231920" cy="804600"/>
            </a:xfrm>
            <a:custGeom>
              <a:avLst/>
              <a:gdLst/>
              <a:ahLst/>
              <a:rect l="l" t="t" r="r" b="b"/>
              <a:pathLst>
                <a:path w="841" h="507">
                  <a:moveTo>
                    <a:pt x="234" y="0"/>
                  </a:moveTo>
                  <a:lnTo>
                    <a:pt x="0" y="183"/>
                  </a:lnTo>
                  <a:lnTo>
                    <a:pt x="489" y="507"/>
                  </a:lnTo>
                  <a:lnTo>
                    <a:pt x="841" y="24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23" y="31"/>
                  </a:ln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22" y="30"/>
                  </a:ln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81" y="24"/>
                  </a:ln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83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42" y="86"/>
                  </a:ln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201" y="72"/>
                  </a:ln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68120" y="3771720"/>
              <a:ext cx="1728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0" y="13"/>
                  </a:moveTo>
                  <a:lnTo>
                    <a:pt x="24" y="22"/>
                  </a:lnTo>
                  <a:lnTo>
                    <a:pt x="73" y="26"/>
                  </a:lnTo>
                  <a:lnTo>
                    <a:pt x="105" y="60"/>
                  </a:lnTo>
                  <a:lnTo>
                    <a:pt x="118" y="27"/>
                  </a:lnTo>
                  <a:lnTo>
                    <a:pt x="111" y="12"/>
                  </a:lnTo>
                  <a:lnTo>
                    <a:pt x="81" y="0"/>
                  </a:lnTo>
                  <a:lnTo>
                    <a:pt x="32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738600" y="3921120"/>
              <a:ext cx="78840" cy="22320"/>
            </a:xfrm>
            <a:custGeom>
              <a:avLst/>
              <a:gdLst/>
              <a:ahLst/>
              <a:rect l="l" t="t" r="r" b="b"/>
              <a:pathLst>
                <a:path w="54" h="14">
                  <a:moveTo>
                    <a:pt x="0" y="2"/>
                  </a:moveTo>
                  <a:lnTo>
                    <a:pt x="54" y="0"/>
                  </a:lnTo>
                  <a:lnTo>
                    <a:pt x="29" y="1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97640" y="3814560"/>
              <a:ext cx="2736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9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65240" y="3840120"/>
              <a:ext cx="3456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693600" y="3860640"/>
              <a:ext cx="1681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82" y="0"/>
                  </a:moveTo>
                  <a:lnTo>
                    <a:pt x="58" y="13"/>
                  </a:lnTo>
                  <a:lnTo>
                    <a:pt x="23" y="25"/>
                  </a:lnTo>
                  <a:lnTo>
                    <a:pt x="0" y="31"/>
                  </a:lnTo>
                  <a:lnTo>
                    <a:pt x="86" y="29"/>
                  </a:lnTo>
                  <a:lnTo>
                    <a:pt x="112" y="27"/>
                  </a:lnTo>
                  <a:lnTo>
                    <a:pt x="115" y="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14640" y="3927240"/>
              <a:ext cx="12600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3" y="30"/>
                  </a:moveTo>
                  <a:lnTo>
                    <a:pt x="77" y="35"/>
                  </a:lnTo>
                  <a:lnTo>
                    <a:pt x="71" y="40"/>
                  </a:lnTo>
                  <a:lnTo>
                    <a:pt x="64" y="44"/>
                  </a:lnTo>
                  <a:lnTo>
                    <a:pt x="56" y="47"/>
                  </a:lnTo>
                  <a:lnTo>
                    <a:pt x="47" y="49"/>
                  </a:lnTo>
                  <a:lnTo>
                    <a:pt x="39" y="52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9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4" y="22"/>
                  </a:lnTo>
                  <a:lnTo>
                    <a:pt x="9" y="17"/>
                  </a:lnTo>
                  <a:lnTo>
                    <a:pt x="16" y="11"/>
                  </a:lnTo>
                  <a:lnTo>
                    <a:pt x="22" y="8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7" y="2"/>
                  </a:lnTo>
                  <a:lnTo>
                    <a:pt x="85" y="10"/>
                  </a:lnTo>
                  <a:lnTo>
                    <a:pt x="86" y="19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792240" y="243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600" spc="-1" strike="noStrike">
                <a:solidFill>
                  <a:srgbClr val="000000"/>
                </a:solidFill>
                <a:latin typeface="Arial"/>
                <a:cs typeface="Arial"/>
              </a:rPr>
              <a:t>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-1072800" y="193680"/>
            <a:ext cx="9167760" cy="7743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ระบบค่าตอบแทนใหม่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ปรับเปลี่ยนทั้งด้านโครงสร้างและ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การบริหารจัดการเพื่อให้เกิด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High Performance Civil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1905120"/>
            <a:ext cx="4038480" cy="481968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74960" y="1981080"/>
            <a:ext cx="3663720" cy="472464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67200" y="2566080"/>
            <a:ext cx="17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โครงสร้า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0160" y="4215600"/>
            <a:ext cx="215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องค์ประกอ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39000" y="4977360"/>
            <a:ext cx="100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ระด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-76320" y="5702040"/>
            <a:ext cx="281952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การบริหารจัดการของส่วนราชกา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362320" y="2470680"/>
            <a:ext cx="304776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 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บัญชีเดียวใช้กับทุกประเภทตำแหน่งไม่ยืดหยุ่นและไม่สนับสนุนการทำงานรูปแบบใหม่ที่มุ่งเน้นผลงานและพัฒนาความรู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797440" y="2519640"/>
            <a:ext cx="235584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มีบัญชีหลากหลายแยกตามประเภท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56880" y="4291560"/>
            <a:ext cx="371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งินเดือนพื้นฐานมีสัดส่วน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38680" y="3983760"/>
            <a:ext cx="350532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น้นความสำคัญของ</a:t>
            </a:r>
            <a:r>
              <a:rPr b="1" lang="th-TH" sz="2400" spc="-1" strike="noStrike">
                <a:solidFill>
                  <a:srgbClr val="ec3e26"/>
                </a:solidFill>
                <a:latin typeface="Cordia New"/>
                <a:cs typeface="Cordia New"/>
              </a:rPr>
              <a:t>ผลงาน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Performance)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และความรู้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ทักษะ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พฤติกรรม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ec3e26"/>
                </a:solidFill>
                <a:latin typeface="Cordia New"/>
                <a:ea typeface="Cordia New"/>
              </a:rPr>
              <a:t>Competency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83240" y="1665360"/>
            <a:ext cx="1336680" cy="344520"/>
          </a:xfrm>
          <a:custGeom>
            <a:avLst/>
            <a:gdLst>
              <a:gd name="textAreaLeft" fmla="*/ 233640 w 1336680"/>
              <a:gd name="textAreaRight" fmla="*/ 969120 w 133668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c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018600" y="1472760"/>
            <a:ext cx="1416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ปัจจุบั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30240" y="1398240"/>
            <a:ext cx="1392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209680" y="4731480"/>
            <a:ext cx="29419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ห่างจากเอกชนมาก จึง</a:t>
            </a:r>
            <a:r>
              <a:rPr b="1" lang="th-TH" sz="2400" spc="-1" strike="noStrike" u="sng">
                <a:solidFill>
                  <a:srgbClr val="003399"/>
                </a:solidFill>
                <a:uFillTx/>
                <a:latin typeface="Cordia New"/>
                <a:cs typeface="Cordia New"/>
              </a:rPr>
              <a:t>ไม่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สามารถดึงดูดและรักษาผู้มีศักยภาพสูงไว้ได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59400" y="5022000"/>
            <a:ext cx="2882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ทียบเคียงได้กับตลา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781600" y="5806800"/>
            <a:ext cx="24670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พิ่มความ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760840" y="6045840"/>
            <a:ext cx="1830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ไม่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0" y="1123920"/>
            <a:ext cx="2023920" cy="57196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5719680"/>
              <a:gd name="textAreaBottom" fmla="*/ 5720040 h 571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/>
          </p:nvPr>
        </p:nvSpPr>
        <p:spPr>
          <a:xfrm>
            <a:off x="2247840" y="3561840"/>
            <a:ext cx="2000160" cy="2590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ดือนพื้นฐาน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76680" y="3733920"/>
            <a:ext cx="1366920" cy="21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พิ่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848720" y="3747960"/>
            <a:ext cx="1090440" cy="2081520"/>
          </a:xfrm>
          <a:prstGeom prst="rect">
            <a:avLst/>
          </a:prstGeom>
          <a:solidFill>
            <a:srgbClr val="e1e1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o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รายป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302600" y="3983040"/>
            <a:ext cx="266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246720" y="3722760"/>
            <a:ext cx="1374840" cy="2125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วัสดิ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โครงสร้างระบบค่าตอบแทนใหม่ข้าราชการพลเรือน ประกอบด้วย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องค์ประกอบหลัก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30360" y="1308240"/>
            <a:ext cx="316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ะท้อนขนาดงาน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ผลงาน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Performance)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แล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มรรถนะ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16720" y="1087200"/>
            <a:ext cx="1727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เชื่อมโยงผลสัมฤทธิ์ระหว่างหน่วยงานกับบุคค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46720" y="1213920"/>
            <a:ext cx="151596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ตำแหน่งงานที่มีลักษณะพิเศ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081840" y="1031400"/>
            <a:ext cx="13017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ช่วยสร้างความมั่นคงในการทำ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 rot="5400000">
            <a:off x="25678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2" name=""/>
          <p:cNvSpPr txBox="1"/>
          <p:nvPr/>
        </p:nvSpPr>
        <p:spPr>
          <a:xfrm rot="5400000">
            <a:off x="472536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3" name=""/>
          <p:cNvSpPr txBox="1"/>
          <p:nvPr/>
        </p:nvSpPr>
        <p:spPr>
          <a:xfrm rot="5400000">
            <a:off x="63334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4" name=""/>
          <p:cNvSpPr txBox="1"/>
          <p:nvPr/>
        </p:nvSpPr>
        <p:spPr>
          <a:xfrm rot="5400000">
            <a:off x="7959240" y="280980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5" name=""/>
          <p:cNvSpPr/>
          <p:nvPr/>
        </p:nvSpPr>
        <p:spPr>
          <a:xfrm>
            <a:off x="385632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73588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42500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1248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โครงสร้างค่าตอบแทนจะสอดคล้องกับระบบจำแนกตำแหน่งใหม่ 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790040" y="2625480"/>
            <a:ext cx="1353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วัสดิการและ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ประโยชน์อื่น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790040" y="1223640"/>
            <a:ext cx="1160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ำแหน่งงานที่มีลักษณะพิเศ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790040" y="2122560"/>
            <a:ext cx="1160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ประจำตำแหน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90040" y="3353760"/>
            <a:ext cx="1160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าม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งานประจำป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726320" y="402912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ดือนพื้นฐ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74040" y="2779560"/>
            <a:ext cx="217440" cy="27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74040" y="1541520"/>
            <a:ext cx="217440" cy="23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74040" y="2214720"/>
            <a:ext cx="226800" cy="258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74040" y="3673440"/>
            <a:ext cx="226800" cy="23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74040" y="4178160"/>
            <a:ext cx="217440" cy="233640"/>
          </a:xfrm>
          <a:prstGeom prst="rect">
            <a:avLst/>
          </a:prstGeom>
          <a:solidFill>
            <a:srgbClr val="99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29000" y="1725480"/>
            <a:ext cx="1320840" cy="4537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533840" y="419724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13320" y="2428920"/>
            <a:ext cx="1012680" cy="154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802480" y="1725480"/>
            <a:ext cx="1198440" cy="4548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981760" y="2631960"/>
            <a:ext cx="325440" cy="2192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408720" y="2631960"/>
            <a:ext cx="326880" cy="219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85000" y="2428920"/>
            <a:ext cx="787320" cy="154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40400" y="3036960"/>
            <a:ext cx="325440" cy="7682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24600" y="3481560"/>
            <a:ext cx="326880" cy="819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981760" y="2130480"/>
            <a:ext cx="325440" cy="16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424560" y="2130480"/>
            <a:ext cx="327240" cy="162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83000" y="1730520"/>
            <a:ext cx="1603080" cy="4547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649600" y="2651040"/>
            <a:ext cx="201600" cy="2383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24280" y="2651040"/>
            <a:ext cx="201600" cy="238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71680" y="2651040"/>
            <a:ext cx="201600" cy="238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64000" y="2651040"/>
            <a:ext cx="201600" cy="238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728800" y="2440080"/>
            <a:ext cx="1343160" cy="152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27520" y="2651040"/>
            <a:ext cx="199800" cy="2383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257640" y="2160720"/>
            <a:ext cx="203040" cy="174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548160" y="2160720"/>
            <a:ext cx="203040" cy="174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649600" y="1911240"/>
            <a:ext cx="201600" cy="163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24280" y="1911240"/>
            <a:ext cx="201600" cy="163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271680" y="1911240"/>
            <a:ext cx="201600" cy="163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564000" y="1911240"/>
            <a:ext cx="201600" cy="163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11680" y="2160720"/>
            <a:ext cx="203040" cy="174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27520" y="1911240"/>
            <a:ext cx="199800" cy="1638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17800" y="2160720"/>
            <a:ext cx="203400" cy="1746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62000" y="1733400"/>
            <a:ext cx="1373400" cy="4535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128600" y="2630520"/>
            <a:ext cx="201600" cy="2379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403280" y="2630520"/>
            <a:ext cx="201600" cy="23796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751040" y="2630520"/>
            <a:ext cx="201600" cy="2379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043000" y="2630520"/>
            <a:ext cx="201600" cy="237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08160" y="2419200"/>
            <a:ext cx="1054080" cy="152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38320" y="5359320"/>
            <a:ext cx="195120" cy="69696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736640" y="2133720"/>
            <a:ext cx="203400" cy="174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27160" y="2133720"/>
            <a:ext cx="203400" cy="1746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128600" y="1890720"/>
            <a:ext cx="201600" cy="1634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03280" y="1890720"/>
            <a:ext cx="201600" cy="1634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51040" y="1890720"/>
            <a:ext cx="201600" cy="163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043000" y="1890720"/>
            <a:ext cx="201600" cy="163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397160" y="2133720"/>
            <a:ext cx="203040" cy="174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116000" y="2133720"/>
            <a:ext cx="203040" cy="174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193400" y="1088640"/>
            <a:ext cx="1052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ทั่วไ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647800" y="1112040"/>
            <a:ext cx="1451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วิชา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019040" y="1075680"/>
            <a:ext cx="1963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อำนวย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51720" y="1075680"/>
            <a:ext cx="128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บริห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638440" y="2168640"/>
            <a:ext cx="203040" cy="174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417680" y="4559400"/>
            <a:ext cx="208080" cy="1027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716120" y="3746520"/>
            <a:ext cx="233280" cy="1332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9760" y="3282840"/>
            <a:ext cx="220680" cy="14083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681280" y="5321160"/>
            <a:ext cx="230040" cy="6271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948040" y="4394160"/>
            <a:ext cx="204840" cy="1236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33880" y="3689280"/>
            <a:ext cx="217440" cy="14652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38440" y="3263760"/>
            <a:ext cx="230400" cy="1452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843360" y="3048120"/>
            <a:ext cx="204840" cy="1135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048280" y="394956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620280" y="17928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87600" y="2689200"/>
          <a:ext cx="588492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2689200"/>
                    <a:ext cx="588492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428120" y="813600"/>
            <a:ext cx="1220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ได้ปรับปรุงแก้ไขสาระสำคัญบางส่วนตามพระราชบัญญัติระเบียบข้าราชการพลเรือน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า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9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ตำแหน่งข้าราชการพลเรือนสามัญมี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 ได้แก่ ตำแหน่งประเภททั่วไป 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วิชาชีพเฉพาะหรือเชี่ยวชาญเฉพาะ และตำแหน่งประเภทบริหารระดับสูงหรือบริหารระดับกลา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ภายใต้แนวคิดการจำแนกตำแหน่งตามความชำนาญเฉพาะทา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pecialization)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และกำหน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ตำแหน่งตามความยากและคุณภาพขอ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533520" y="1600200"/>
            <a:ext cx="259056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ง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320040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529596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ะทรวง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189160" y="1371600"/>
            <a:ext cx="80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ำหนดนโยบายด้านค่าตอบแทนในภาพรวมและอัตร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ค่าตอบแทนของตำแหน่งระดับสูง ครอบคลุม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และพนักงานของรัฐอื่น ๆ ยกเว้นรัฐวิสาหกิ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23800" y="2895480"/>
            <a:ext cx="7363440" cy="192276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จะกำหนดบัญชีเงินเดือนที่หลากหลายตา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ลักษณะงาน โดยอิงกับอัตราตลาดมากขึ้น ทั้งนี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ัญชีเงินเดือนในอนาคตจะเป็นแบบช่วงเงินเดือ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เพื่อให้กรมมีความคล่องตัวในการบริหารเงินเดือ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ให้สอดคล้องกับบุคคลมากขึ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928520" y="5334120"/>
            <a:ext cx="79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ริหารค่าตอบแทนเชิงกลยุทธ์  โดยบริหาร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ของข้าราชการรายบุคคลในหน่วยงานภายในวงเงิ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ที่ได้รับจัดสร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284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บทบาทการกำหนดค่าตอบแทนใน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80912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ตัวอย่า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บัญชีเงินเดือนขั้นต่ำขั้นสูงขอ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ข้าราชการพลเรือนสามัญ</a:t>
            </a:r>
            <a:endParaRPr b="1" i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ทั่วไ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rot="19594200">
            <a:off x="377280" y="55368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EucrosiaUPC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685800" y="3254400"/>
            <a:ext cx="7695720" cy="2841480"/>
            <a:chOff x="685800" y="3254400"/>
            <a:chExt cx="7695720" cy="2841480"/>
          </a:xfrm>
        </p:grpSpPr>
        <p:sp>
          <p:nvSpPr>
            <p:cNvPr id="1483" name=""/>
            <p:cNvSpPr/>
            <p:nvPr/>
          </p:nvSpPr>
          <p:spPr>
            <a:xfrm>
              <a:off x="6999840" y="5386320"/>
              <a:ext cx="1381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ทักษะ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92680" y="5386320"/>
              <a:ext cx="2206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อาวุโ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201480" y="5386320"/>
              <a:ext cx="1591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ชำนาญ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702080" y="5386320"/>
              <a:ext cx="1499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ปฏิบัติ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5800" y="5386320"/>
              <a:ext cx="1016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999840" y="467532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5,7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92680" y="467532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2,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01480" y="467532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7,6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702080" y="467532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,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5800" y="467532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99840" y="3965400"/>
              <a:ext cx="13816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92680" y="3965400"/>
              <a:ext cx="22068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37,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201480" y="3965400"/>
              <a:ext cx="15912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25,1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702080" y="3965400"/>
              <a:ext cx="1499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6,6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5800" y="3965400"/>
              <a:ext cx="1016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99840" y="325440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92680" y="325440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01480" y="325440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702080" y="325440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5800" y="325440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" y="6095880"/>
              <a:ext cx="76737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7020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014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926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999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81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5800" y="327672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5800" y="541008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7334280" y="2252520"/>
            <a:ext cx="13525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685800" y="3254400"/>
            <a:ext cx="8001000" cy="2841480"/>
            <a:chOff x="685800" y="3254400"/>
            <a:chExt cx="8001000" cy="2841480"/>
          </a:xfrm>
        </p:grpSpPr>
        <p:sp>
          <p:nvSpPr>
            <p:cNvPr id="1524" name=""/>
            <p:cNvSpPr/>
            <p:nvPr/>
          </p:nvSpPr>
          <p:spPr>
            <a:xfrm>
              <a:off x="7334280" y="5386320"/>
              <a:ext cx="1352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8000"/>
            </a:bodyPr>
            <a:p>
              <a:pPr marL="233280" indent="-2332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ทรงคุณวุฒ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40520" y="5386320"/>
              <a:ext cx="1193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เชี่ยวชา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33960" y="5386320"/>
              <a:ext cx="1906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59120" y="5386320"/>
              <a:ext cx="1374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563840" y="5386320"/>
              <a:ext cx="1295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ปฏิบัติ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5800" y="5386320"/>
              <a:ext cx="878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334280" y="467532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7,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40520" y="467532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3,6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233960" y="467532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9,2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859120" y="467532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3,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63840" y="467532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8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5800" y="467532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334280" y="3965400"/>
              <a:ext cx="13525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40520" y="3965400"/>
              <a:ext cx="11937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233960" y="3965400"/>
              <a:ext cx="1906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8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859120" y="3965400"/>
              <a:ext cx="13748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32,9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63840" y="3965400"/>
              <a:ext cx="1295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0,3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" y="3965400"/>
              <a:ext cx="878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334280" y="325440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40520" y="325440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33960" y="325440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59120" y="325440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63840" y="325440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5800" y="325440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5800" y="609588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85800" y="325440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563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8591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3396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40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3342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686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85800" y="538632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571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6,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1,2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6,2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602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9,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5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60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2" name=""/>
          <p:cNvGraphicFramePr/>
          <p:nvPr/>
        </p:nvGraphicFramePr>
        <p:xfrm>
          <a:off x="1981080" y="609480"/>
          <a:ext cx="44197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09480"/>
                    <a:ext cx="4419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78000" y="165240"/>
            <a:ext cx="63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ระบบจำแนกตำแหน่ง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252440"/>
            <a:ext cx="3708360" cy="3810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48160" y="2643120"/>
            <a:ext cx="29829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Posi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Class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-205560" y="963000"/>
            <a:ext cx="59166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ลางไม่ยืดหยุ่นต่อการบริห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กำลังค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ingle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ำแนกความแตกต่างของค่างานได้ไม่ชัดเจ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ำให้เกิดการเลื่อนไห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e Creep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อง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ี่ไม่สมเหตุผ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วามต้องการก้าวหน้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&amp;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ำขอกำหนด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ระดับสูงขึ้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ีสายงานจำนวนมาก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441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สาย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น้นคุณวุฒิทางการศึกษามากกว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ีดความสามารถใน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จ้าหน้าที่ของรัฐประเภทต่าง 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ไปปรับใช้แบบไม่สมดุลย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566640" y="179280"/>
            <a:ext cx="786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ค่าตอบแทน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13440" y="1179360"/>
            <a:ext cx="3606840" cy="459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455040" y="1179720"/>
            <a:ext cx="62668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มีบัญชีอัตราเงินเดือนเพียงบัญชีเดียวสำหรับทุ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ค่าตอบแทนภาครัฐต่ำกว่าอัตราการจ้างงานใ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ภาคเอกชนที่รับผิดชอบงานในระดับเดียวก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ารจ่ายค่าตอบแทนไม่สะท้อนกับผล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ไม่จูงใจให้ผู้มีความรู้ความสามารถ “คนดี คนเก่ง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อยู่ในระบบ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เป็นภาระค่าใช้จ่ายของภาครัฐในอนาคต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382920" y="5068800"/>
            <a:ext cx="1455120" cy="685440"/>
            <a:chOff x="3382920" y="5068800"/>
            <a:chExt cx="1455120" cy="685440"/>
          </a:xfrm>
        </p:grpSpPr>
        <p:grpSp>
          <p:nvGrpSpPr>
            <p:cNvPr id="142" name=""/>
            <p:cNvGrpSpPr/>
            <p:nvPr/>
          </p:nvGrpSpPr>
          <p:grpSpPr>
            <a:xfrm>
              <a:off x="3814560" y="5100480"/>
              <a:ext cx="174240" cy="593640"/>
              <a:chOff x="3814560" y="5100480"/>
              <a:chExt cx="174240" cy="5936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3854880" y="5100480"/>
                <a:ext cx="95400" cy="95400"/>
                <a:chOff x="3854880" y="5100480"/>
                <a:chExt cx="95400" cy="95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67840" y="5105160"/>
                  <a:ext cx="72000" cy="90720"/>
                </a:xfrm>
                <a:custGeom>
                  <a:avLst/>
                  <a:gdLst/>
                  <a:ahLst/>
                  <a:rect l="l" t="t" r="r" b="b"/>
                  <a:pathLst>
                    <a:path w="138" h="229">
                      <a:moveTo>
                        <a:pt x="32" y="214"/>
                      </a:moveTo>
                      <a:lnTo>
                        <a:pt x="32" y="179"/>
                      </a:lnTo>
                      <a:lnTo>
                        <a:pt x="23" y="161"/>
                      </a:lnTo>
                      <a:lnTo>
                        <a:pt x="16" y="146"/>
                      </a:lnTo>
                      <a:lnTo>
                        <a:pt x="8" y="128"/>
                      </a:lnTo>
                      <a:lnTo>
                        <a:pt x="3" y="112"/>
                      </a:lnTo>
                      <a:lnTo>
                        <a:pt x="1" y="101"/>
                      </a:lnTo>
                      <a:lnTo>
                        <a:pt x="0" y="70"/>
                      </a:lnTo>
                      <a:lnTo>
                        <a:pt x="3" y="49"/>
                      </a:lnTo>
                      <a:lnTo>
                        <a:pt x="12" y="30"/>
                      </a:lnTo>
                      <a:lnTo>
                        <a:pt x="22" y="17"/>
                      </a:lnTo>
                      <a:lnTo>
                        <a:pt x="29" y="11"/>
                      </a:lnTo>
                      <a:lnTo>
                        <a:pt x="43" y="3"/>
                      </a:lnTo>
                      <a:lnTo>
                        <a:pt x="64" y="0"/>
                      </a:lnTo>
                      <a:lnTo>
                        <a:pt x="85" y="1"/>
                      </a:lnTo>
                      <a:lnTo>
                        <a:pt x="101" y="6"/>
                      </a:lnTo>
                      <a:lnTo>
                        <a:pt x="120" y="18"/>
                      </a:lnTo>
                      <a:lnTo>
                        <a:pt x="128" y="30"/>
                      </a:lnTo>
                      <a:lnTo>
                        <a:pt x="135" y="41"/>
                      </a:lnTo>
                      <a:lnTo>
                        <a:pt x="138" y="57"/>
                      </a:lnTo>
                      <a:lnTo>
                        <a:pt x="137" y="84"/>
                      </a:lnTo>
                      <a:lnTo>
                        <a:pt x="131" y="109"/>
                      </a:lnTo>
                      <a:lnTo>
                        <a:pt x="122" y="133"/>
                      </a:lnTo>
                      <a:lnTo>
                        <a:pt x="114" y="149"/>
                      </a:lnTo>
                      <a:lnTo>
                        <a:pt x="108" y="163"/>
                      </a:lnTo>
                      <a:lnTo>
                        <a:pt x="99" y="179"/>
                      </a:lnTo>
                      <a:lnTo>
                        <a:pt x="97" y="205"/>
                      </a:lnTo>
                      <a:lnTo>
                        <a:pt x="96" y="219"/>
                      </a:lnTo>
                      <a:lnTo>
                        <a:pt x="83" y="227"/>
                      </a:lnTo>
                      <a:lnTo>
                        <a:pt x="68" y="229"/>
                      </a:lnTo>
                      <a:lnTo>
                        <a:pt x="50" y="227"/>
                      </a:lnTo>
                      <a:lnTo>
                        <a:pt x="39" y="222"/>
                      </a:lnTo>
                      <a:lnTo>
                        <a:pt x="32" y="214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854880" y="5100480"/>
                  <a:ext cx="95400" cy="61920"/>
                </a:xfrm>
                <a:custGeom>
                  <a:avLst/>
                  <a:gdLst/>
                  <a:ahLst/>
                  <a:rect l="l" t="t" r="r" b="b"/>
                  <a:pathLst>
                    <a:path w="178" h="157">
                      <a:moveTo>
                        <a:pt x="12" y="135"/>
                      </a:moveTo>
                      <a:lnTo>
                        <a:pt x="2" y="120"/>
                      </a:lnTo>
                      <a:lnTo>
                        <a:pt x="0" y="103"/>
                      </a:lnTo>
                      <a:lnTo>
                        <a:pt x="1" y="81"/>
                      </a:lnTo>
                      <a:lnTo>
                        <a:pt x="1" y="65"/>
                      </a:lnTo>
                      <a:lnTo>
                        <a:pt x="9" y="45"/>
                      </a:lnTo>
                      <a:lnTo>
                        <a:pt x="19" y="32"/>
                      </a:lnTo>
                      <a:lnTo>
                        <a:pt x="30" y="20"/>
                      </a:lnTo>
                      <a:lnTo>
                        <a:pt x="47" y="7"/>
                      </a:lnTo>
                      <a:lnTo>
                        <a:pt x="60" y="2"/>
                      </a:lnTo>
                      <a:lnTo>
                        <a:pt x="88" y="0"/>
                      </a:lnTo>
                      <a:lnTo>
                        <a:pt x="111" y="1"/>
                      </a:lnTo>
                      <a:lnTo>
                        <a:pt x="129" y="7"/>
                      </a:lnTo>
                      <a:lnTo>
                        <a:pt x="143" y="12"/>
                      </a:lnTo>
                      <a:lnTo>
                        <a:pt x="156" y="26"/>
                      </a:lnTo>
                      <a:lnTo>
                        <a:pt x="165" y="39"/>
                      </a:lnTo>
                      <a:lnTo>
                        <a:pt x="174" y="52"/>
                      </a:lnTo>
                      <a:lnTo>
                        <a:pt x="178" y="68"/>
                      </a:lnTo>
                      <a:lnTo>
                        <a:pt x="178" y="96"/>
                      </a:lnTo>
                      <a:lnTo>
                        <a:pt x="178" y="116"/>
                      </a:lnTo>
                      <a:lnTo>
                        <a:pt x="172" y="125"/>
                      </a:lnTo>
                      <a:lnTo>
                        <a:pt x="162" y="138"/>
                      </a:lnTo>
                      <a:lnTo>
                        <a:pt x="156" y="147"/>
                      </a:lnTo>
                      <a:lnTo>
                        <a:pt x="138" y="153"/>
                      </a:lnTo>
                      <a:lnTo>
                        <a:pt x="122" y="157"/>
                      </a:lnTo>
                      <a:lnTo>
                        <a:pt x="135" y="138"/>
                      </a:lnTo>
                      <a:lnTo>
                        <a:pt x="148" y="104"/>
                      </a:lnTo>
                      <a:lnTo>
                        <a:pt x="149" y="91"/>
                      </a:lnTo>
                      <a:lnTo>
                        <a:pt x="148" y="80"/>
                      </a:lnTo>
                      <a:lnTo>
                        <a:pt x="143" y="65"/>
                      </a:lnTo>
                      <a:lnTo>
                        <a:pt x="115" y="74"/>
                      </a:lnTo>
                      <a:lnTo>
                        <a:pt x="81" y="74"/>
                      </a:lnTo>
                      <a:lnTo>
                        <a:pt x="58" y="72"/>
                      </a:lnTo>
                      <a:lnTo>
                        <a:pt x="39" y="67"/>
                      </a:lnTo>
                      <a:lnTo>
                        <a:pt x="33" y="75"/>
                      </a:lnTo>
                      <a:lnTo>
                        <a:pt x="29" y="91"/>
                      </a:lnTo>
                      <a:lnTo>
                        <a:pt x="29" y="106"/>
                      </a:lnTo>
                      <a:lnTo>
                        <a:pt x="42" y="139"/>
                      </a:lnTo>
                      <a:lnTo>
                        <a:pt x="49" y="157"/>
                      </a:lnTo>
                      <a:lnTo>
                        <a:pt x="29" y="146"/>
                      </a:lnTo>
                      <a:lnTo>
                        <a:pt x="12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3865320" y="5148000"/>
                  <a:ext cx="73440" cy="7920"/>
                  <a:chOff x="3865320" y="5148000"/>
                  <a:chExt cx="73440" cy="79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3865320" y="5148000"/>
                    <a:ext cx="8280" cy="79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930480" y="5149800"/>
                    <a:ext cx="8280" cy="61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9" name=""/>
              <p:cNvSpPr/>
              <p:nvPr/>
            </p:nvSpPr>
            <p:spPr>
              <a:xfrm>
                <a:off x="3850560" y="5502240"/>
                <a:ext cx="91440" cy="174600"/>
              </a:xfrm>
              <a:custGeom>
                <a:avLst/>
                <a:gdLst/>
                <a:ahLst/>
                <a:rect l="l" t="t" r="r" b="b"/>
                <a:pathLst>
                  <a:path w="171" h="439">
                    <a:moveTo>
                      <a:pt x="39" y="0"/>
                    </a:moveTo>
                    <a:lnTo>
                      <a:pt x="34" y="52"/>
                    </a:lnTo>
                    <a:lnTo>
                      <a:pt x="31" y="110"/>
                    </a:lnTo>
                    <a:lnTo>
                      <a:pt x="31" y="168"/>
                    </a:lnTo>
                    <a:lnTo>
                      <a:pt x="34" y="224"/>
                    </a:lnTo>
                    <a:lnTo>
                      <a:pt x="35" y="267"/>
                    </a:lnTo>
                    <a:lnTo>
                      <a:pt x="35" y="322"/>
                    </a:lnTo>
                    <a:lnTo>
                      <a:pt x="32" y="345"/>
                    </a:lnTo>
                    <a:lnTo>
                      <a:pt x="9" y="413"/>
                    </a:lnTo>
                    <a:lnTo>
                      <a:pt x="0" y="437"/>
                    </a:lnTo>
                    <a:lnTo>
                      <a:pt x="38" y="439"/>
                    </a:lnTo>
                    <a:lnTo>
                      <a:pt x="54" y="408"/>
                    </a:lnTo>
                    <a:lnTo>
                      <a:pt x="65" y="374"/>
                    </a:lnTo>
                    <a:lnTo>
                      <a:pt x="71" y="319"/>
                    </a:lnTo>
                    <a:lnTo>
                      <a:pt x="93" y="168"/>
                    </a:lnTo>
                    <a:lnTo>
                      <a:pt x="100" y="126"/>
                    </a:lnTo>
                    <a:lnTo>
                      <a:pt x="95" y="208"/>
                    </a:lnTo>
                    <a:lnTo>
                      <a:pt x="101" y="258"/>
                    </a:lnTo>
                    <a:lnTo>
                      <a:pt x="103" y="305"/>
                    </a:lnTo>
                    <a:lnTo>
                      <a:pt x="99" y="347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9" y="347"/>
                    </a:lnTo>
                    <a:lnTo>
                      <a:pt x="155" y="194"/>
                    </a:lnTo>
                    <a:lnTo>
                      <a:pt x="161" y="123"/>
                    </a:lnTo>
                    <a:lnTo>
                      <a:pt x="16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816720" y="5286240"/>
                <a:ext cx="167040" cy="173160"/>
                <a:chOff x="3816720" y="5286240"/>
                <a:chExt cx="167040" cy="1731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816720" y="5290920"/>
                  <a:ext cx="4644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5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3" y="405"/>
                      </a:lnTo>
                      <a:lnTo>
                        <a:pt x="66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3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45960" y="5286240"/>
                  <a:ext cx="37800" cy="15696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1" y="11"/>
                      </a:moveTo>
                      <a:lnTo>
                        <a:pt x="32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7" y="330"/>
                      </a:lnTo>
                      <a:lnTo>
                        <a:pt x="0" y="366"/>
                      </a:lnTo>
                      <a:lnTo>
                        <a:pt x="6" y="397"/>
                      </a:lnTo>
                      <a:lnTo>
                        <a:pt x="31" y="348"/>
                      </a:lnTo>
                      <a:lnTo>
                        <a:pt x="53" y="261"/>
                      </a:lnTo>
                      <a:lnTo>
                        <a:pt x="75" y="66"/>
                      </a:lnTo>
                      <a:lnTo>
                        <a:pt x="65" y="0"/>
                      </a:lnTo>
                      <a:lnTo>
                        <a:pt x="21" y="11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846600" y="5641920"/>
                <a:ext cx="101160" cy="52200"/>
                <a:chOff x="3846600" y="5641920"/>
                <a:chExt cx="101160" cy="522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846600" y="5646600"/>
                  <a:ext cx="39600" cy="47520"/>
                </a:xfrm>
                <a:custGeom>
                  <a:avLst/>
                  <a:gdLst/>
                  <a:ahLst/>
                  <a:rect l="l" t="t" r="r" b="b"/>
                  <a:pathLst>
                    <a:path w="76" h="120">
                      <a:moveTo>
                        <a:pt x="14" y="59"/>
                      </a:moveTo>
                      <a:lnTo>
                        <a:pt x="4" y="78"/>
                      </a:lnTo>
                      <a:lnTo>
                        <a:pt x="0" y="92"/>
                      </a:lnTo>
                      <a:lnTo>
                        <a:pt x="0" y="103"/>
                      </a:lnTo>
                      <a:lnTo>
                        <a:pt x="3" y="110"/>
                      </a:lnTo>
                      <a:lnTo>
                        <a:pt x="8" y="117"/>
                      </a:lnTo>
                      <a:lnTo>
                        <a:pt x="18" y="120"/>
                      </a:lnTo>
                      <a:lnTo>
                        <a:pt x="30" y="119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2" y="85"/>
                      </a:lnTo>
                      <a:lnTo>
                        <a:pt x="67" y="53"/>
                      </a:lnTo>
                      <a:lnTo>
                        <a:pt x="76" y="20"/>
                      </a:lnTo>
                      <a:lnTo>
                        <a:pt x="75" y="0"/>
                      </a:lnTo>
                      <a:lnTo>
                        <a:pt x="60" y="46"/>
                      </a:lnTo>
                      <a:lnTo>
                        <a:pt x="47" y="76"/>
                      </a:lnTo>
                      <a:lnTo>
                        <a:pt x="27" y="76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901320" y="5641920"/>
                  <a:ext cx="46440" cy="50760"/>
                </a:xfrm>
                <a:custGeom>
                  <a:avLst/>
                  <a:gdLst/>
                  <a:ahLst/>
                  <a:rect l="l" t="t" r="r" b="b"/>
                  <a:pathLst>
                    <a:path w="85" h="131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1" y="46"/>
                      </a:lnTo>
                      <a:lnTo>
                        <a:pt x="18" y="74"/>
                      </a:lnTo>
                      <a:lnTo>
                        <a:pt x="27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6" y="129"/>
                      </a:lnTo>
                      <a:lnTo>
                        <a:pt x="69" y="131"/>
                      </a:lnTo>
                      <a:lnTo>
                        <a:pt x="75" y="126"/>
                      </a:lnTo>
                      <a:lnTo>
                        <a:pt x="82" y="123"/>
                      </a:lnTo>
                      <a:lnTo>
                        <a:pt x="85" y="110"/>
                      </a:lnTo>
                      <a:lnTo>
                        <a:pt x="83" y="93"/>
                      </a:lnTo>
                      <a:lnTo>
                        <a:pt x="75" y="72"/>
                      </a:lnTo>
                      <a:lnTo>
                        <a:pt x="70" y="62"/>
                      </a:lnTo>
                      <a:lnTo>
                        <a:pt x="68" y="71"/>
                      </a:lnTo>
                      <a:lnTo>
                        <a:pt x="64" y="76"/>
                      </a:lnTo>
                      <a:lnTo>
                        <a:pt x="54" y="79"/>
                      </a:lnTo>
                      <a:lnTo>
                        <a:pt x="45" y="80"/>
                      </a:lnTo>
                      <a:lnTo>
                        <a:pt x="28" y="77"/>
                      </a:lnTo>
                      <a:lnTo>
                        <a:pt x="11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814560" y="5186160"/>
                <a:ext cx="174240" cy="331920"/>
              </a:xfrm>
              <a:custGeom>
                <a:avLst/>
                <a:gdLst/>
                <a:ahLst/>
                <a:rect l="l" t="t" r="r" b="b"/>
                <a:pathLst>
                  <a:path w="327" h="836">
                    <a:moveTo>
                      <a:pt x="129" y="0"/>
                    </a:moveTo>
                    <a:lnTo>
                      <a:pt x="52" y="43"/>
                    </a:lnTo>
                    <a:lnTo>
                      <a:pt x="42" y="57"/>
                    </a:lnTo>
                    <a:lnTo>
                      <a:pt x="0" y="263"/>
                    </a:lnTo>
                    <a:lnTo>
                      <a:pt x="63" y="272"/>
                    </a:lnTo>
                    <a:lnTo>
                      <a:pt x="71" y="220"/>
                    </a:lnTo>
                    <a:lnTo>
                      <a:pt x="95" y="329"/>
                    </a:lnTo>
                    <a:lnTo>
                      <a:pt x="55" y="470"/>
                    </a:lnTo>
                    <a:lnTo>
                      <a:pt x="55" y="571"/>
                    </a:lnTo>
                    <a:lnTo>
                      <a:pt x="63" y="643"/>
                    </a:lnTo>
                    <a:lnTo>
                      <a:pt x="83" y="746"/>
                    </a:lnTo>
                    <a:lnTo>
                      <a:pt x="101" y="824"/>
                    </a:lnTo>
                    <a:lnTo>
                      <a:pt x="162" y="836"/>
                    </a:lnTo>
                    <a:lnTo>
                      <a:pt x="168" y="823"/>
                    </a:lnTo>
                    <a:lnTo>
                      <a:pt x="225" y="821"/>
                    </a:lnTo>
                    <a:lnTo>
                      <a:pt x="245" y="724"/>
                    </a:lnTo>
                    <a:lnTo>
                      <a:pt x="263" y="595"/>
                    </a:lnTo>
                    <a:lnTo>
                      <a:pt x="277" y="465"/>
                    </a:lnTo>
                    <a:lnTo>
                      <a:pt x="240" y="317"/>
                    </a:lnTo>
                    <a:lnTo>
                      <a:pt x="254" y="235"/>
                    </a:lnTo>
                    <a:lnTo>
                      <a:pt x="263" y="265"/>
                    </a:lnTo>
                    <a:lnTo>
                      <a:pt x="327" y="248"/>
                    </a:lnTo>
                    <a:lnTo>
                      <a:pt x="278" y="55"/>
                    </a:lnTo>
                    <a:lnTo>
                      <a:pt x="195" y="0"/>
                    </a:lnTo>
                    <a:lnTo>
                      <a:pt x="193" y="6"/>
                    </a:lnTo>
                    <a:lnTo>
                      <a:pt x="182" y="14"/>
                    </a:lnTo>
                    <a:lnTo>
                      <a:pt x="173" y="16"/>
                    </a:lnTo>
                    <a:lnTo>
                      <a:pt x="165" y="16"/>
                    </a:lnTo>
                    <a:lnTo>
                      <a:pt x="154" y="15"/>
                    </a:lnTo>
                    <a:lnTo>
                      <a:pt x="144" y="12"/>
                    </a:lnTo>
                    <a:lnTo>
                      <a:pt x="134" y="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1f3f"/>
              </a:solidFill>
              <a:ln w="3240">
                <a:solidFill>
                  <a:srgbClr val="ff1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931920" y="5086080"/>
              <a:ext cx="179280" cy="636840"/>
              <a:chOff x="3931920" y="5086080"/>
              <a:chExt cx="179280" cy="6368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969720" y="5086080"/>
                <a:ext cx="95040" cy="154080"/>
                <a:chOff x="3969720" y="5086080"/>
                <a:chExt cx="95040" cy="15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969720" y="5086080"/>
                  <a:ext cx="95040" cy="119160"/>
                </a:xfrm>
                <a:custGeom>
                  <a:avLst/>
                  <a:gdLst/>
                  <a:ahLst/>
                  <a:rect l="l" t="t" r="r" b="b"/>
                  <a:pathLst>
                    <a:path w="181" h="297">
                      <a:moveTo>
                        <a:pt x="69" y="4"/>
                      </a:moveTo>
                      <a:lnTo>
                        <a:pt x="50" y="14"/>
                      </a:lnTo>
                      <a:lnTo>
                        <a:pt x="36" y="27"/>
                      </a:lnTo>
                      <a:lnTo>
                        <a:pt x="27" y="42"/>
                      </a:lnTo>
                      <a:lnTo>
                        <a:pt x="17" y="72"/>
                      </a:lnTo>
                      <a:lnTo>
                        <a:pt x="6" y="116"/>
                      </a:lnTo>
                      <a:lnTo>
                        <a:pt x="0" y="155"/>
                      </a:lnTo>
                      <a:lnTo>
                        <a:pt x="1" y="173"/>
                      </a:lnTo>
                      <a:lnTo>
                        <a:pt x="4" y="189"/>
                      </a:lnTo>
                      <a:lnTo>
                        <a:pt x="6" y="213"/>
                      </a:lnTo>
                      <a:lnTo>
                        <a:pt x="20" y="297"/>
                      </a:lnTo>
                      <a:lnTo>
                        <a:pt x="30" y="280"/>
                      </a:lnTo>
                      <a:lnTo>
                        <a:pt x="44" y="277"/>
                      </a:lnTo>
                      <a:lnTo>
                        <a:pt x="54" y="273"/>
                      </a:lnTo>
                      <a:lnTo>
                        <a:pt x="66" y="262"/>
                      </a:lnTo>
                      <a:lnTo>
                        <a:pt x="62" y="218"/>
                      </a:lnTo>
                      <a:lnTo>
                        <a:pt x="62" y="204"/>
                      </a:lnTo>
                      <a:lnTo>
                        <a:pt x="49" y="174"/>
                      </a:lnTo>
                      <a:lnTo>
                        <a:pt x="46" y="126"/>
                      </a:lnTo>
                      <a:lnTo>
                        <a:pt x="49" y="83"/>
                      </a:lnTo>
                      <a:lnTo>
                        <a:pt x="74" y="56"/>
                      </a:lnTo>
                      <a:lnTo>
                        <a:pt x="117" y="52"/>
                      </a:lnTo>
                      <a:lnTo>
                        <a:pt x="137" y="79"/>
                      </a:lnTo>
                      <a:lnTo>
                        <a:pt x="135" y="169"/>
                      </a:lnTo>
                      <a:lnTo>
                        <a:pt x="117" y="205"/>
                      </a:lnTo>
                      <a:lnTo>
                        <a:pt x="114" y="262"/>
                      </a:lnTo>
                      <a:lnTo>
                        <a:pt x="124" y="254"/>
                      </a:lnTo>
                      <a:lnTo>
                        <a:pt x="132" y="263"/>
                      </a:lnTo>
                      <a:lnTo>
                        <a:pt x="143" y="270"/>
                      </a:lnTo>
                      <a:lnTo>
                        <a:pt x="150" y="275"/>
                      </a:lnTo>
                      <a:lnTo>
                        <a:pt x="162" y="283"/>
                      </a:lnTo>
                      <a:lnTo>
                        <a:pt x="172" y="222"/>
                      </a:lnTo>
                      <a:lnTo>
                        <a:pt x="176" y="186"/>
                      </a:lnTo>
                      <a:lnTo>
                        <a:pt x="179" y="162"/>
                      </a:lnTo>
                      <a:lnTo>
                        <a:pt x="181" y="146"/>
                      </a:lnTo>
                      <a:lnTo>
                        <a:pt x="179" y="126"/>
                      </a:lnTo>
                      <a:lnTo>
                        <a:pt x="176" y="112"/>
                      </a:lnTo>
                      <a:lnTo>
                        <a:pt x="172" y="97"/>
                      </a:lnTo>
                      <a:lnTo>
                        <a:pt x="169" y="82"/>
                      </a:lnTo>
                      <a:lnTo>
                        <a:pt x="169" y="71"/>
                      </a:lnTo>
                      <a:lnTo>
                        <a:pt x="165" y="55"/>
                      </a:lnTo>
                      <a:lnTo>
                        <a:pt x="159" y="36"/>
                      </a:lnTo>
                      <a:lnTo>
                        <a:pt x="147" y="18"/>
                      </a:lnTo>
                      <a:lnTo>
                        <a:pt x="130" y="6"/>
                      </a:lnTo>
                      <a:lnTo>
                        <a:pt x="112" y="1"/>
                      </a:lnTo>
                      <a:lnTo>
                        <a:pt x="93" y="0"/>
                      </a:lnTo>
                      <a:lnTo>
                        <a:pt x="69" y="4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980160" y="5105160"/>
                  <a:ext cx="78480" cy="135000"/>
                </a:xfrm>
                <a:custGeom>
                  <a:avLst/>
                  <a:gdLst/>
                  <a:ahLst/>
                  <a:rect l="l" t="t" r="r" b="b"/>
                  <a:pathLst>
                    <a:path w="149" h="341">
                      <a:moveTo>
                        <a:pt x="55" y="5"/>
                      </a:moveTo>
                      <a:lnTo>
                        <a:pt x="43" y="11"/>
                      </a:lnTo>
                      <a:lnTo>
                        <a:pt x="33" y="23"/>
                      </a:lnTo>
                      <a:lnTo>
                        <a:pt x="28" y="37"/>
                      </a:lnTo>
                      <a:lnTo>
                        <a:pt x="26" y="54"/>
                      </a:lnTo>
                      <a:lnTo>
                        <a:pt x="24" y="79"/>
                      </a:lnTo>
                      <a:lnTo>
                        <a:pt x="28" y="122"/>
                      </a:lnTo>
                      <a:lnTo>
                        <a:pt x="32" y="137"/>
                      </a:lnTo>
                      <a:lnTo>
                        <a:pt x="43" y="159"/>
                      </a:lnTo>
                      <a:lnTo>
                        <a:pt x="43" y="211"/>
                      </a:lnTo>
                      <a:lnTo>
                        <a:pt x="0" y="239"/>
                      </a:lnTo>
                      <a:lnTo>
                        <a:pt x="78" y="341"/>
                      </a:lnTo>
                      <a:lnTo>
                        <a:pt x="149" y="233"/>
                      </a:lnTo>
                      <a:lnTo>
                        <a:pt x="98" y="200"/>
                      </a:lnTo>
                      <a:lnTo>
                        <a:pt x="98" y="160"/>
                      </a:lnTo>
                      <a:lnTo>
                        <a:pt x="113" y="136"/>
                      </a:lnTo>
                      <a:lnTo>
                        <a:pt x="117" y="123"/>
                      </a:lnTo>
                      <a:lnTo>
                        <a:pt x="121" y="82"/>
                      </a:lnTo>
                      <a:lnTo>
                        <a:pt x="122" y="59"/>
                      </a:lnTo>
                      <a:lnTo>
                        <a:pt x="122" y="41"/>
                      </a:lnTo>
                      <a:lnTo>
                        <a:pt x="116" y="26"/>
                      </a:lnTo>
                      <a:lnTo>
                        <a:pt x="109" y="13"/>
                      </a:lnTo>
                      <a:lnTo>
                        <a:pt x="98" y="6"/>
                      </a:lnTo>
                      <a:lnTo>
                        <a:pt x="84" y="0"/>
                      </a:lnTo>
                      <a:lnTo>
                        <a:pt x="69" y="0"/>
                      </a:lnTo>
                      <a:lnTo>
                        <a:pt x="55" y="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97440" y="5128920"/>
                  <a:ext cx="25200" cy="25560"/>
                </a:xfrm>
                <a:custGeom>
                  <a:avLst/>
                  <a:gdLst/>
                  <a:ahLst/>
                  <a:rect l="l" t="t" r="r" b="b"/>
                  <a:pathLst>
                    <a:path w="49" h="63">
                      <a:moveTo>
                        <a:pt x="6" y="1"/>
                      </a:moveTo>
                      <a:lnTo>
                        <a:pt x="19" y="0"/>
                      </a:lnTo>
                      <a:lnTo>
                        <a:pt x="31" y="4"/>
                      </a:lnTo>
                      <a:lnTo>
                        <a:pt x="36" y="5"/>
                      </a:lnTo>
                      <a:lnTo>
                        <a:pt x="36" y="56"/>
                      </a:lnTo>
                      <a:lnTo>
                        <a:pt x="49" y="56"/>
                      </a:lnTo>
                      <a:lnTo>
                        <a:pt x="39" y="63"/>
                      </a:lnTo>
                      <a:lnTo>
                        <a:pt x="32" y="56"/>
                      </a:lnTo>
                      <a:lnTo>
                        <a:pt x="32" y="18"/>
                      </a:lnTo>
                      <a:lnTo>
                        <a:pt x="13" y="21"/>
                      </a:lnTo>
                      <a:lnTo>
                        <a:pt x="25" y="15"/>
                      </a:lnTo>
                      <a:lnTo>
                        <a:pt x="10" y="16"/>
                      </a:lnTo>
                      <a:lnTo>
                        <a:pt x="0" y="1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959280" y="5394240"/>
                <a:ext cx="149400" cy="301680"/>
                <a:chOff x="3959280" y="5394240"/>
                <a:chExt cx="149400" cy="30168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3959280" y="5394240"/>
                  <a:ext cx="149400" cy="301680"/>
                  <a:chOff x="3959280" y="5394240"/>
                  <a:chExt cx="149400" cy="3016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959280" y="5459400"/>
                    <a:ext cx="1072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37" y="13"/>
                        </a:moveTo>
                        <a:lnTo>
                          <a:pt x="39" y="183"/>
                        </a:lnTo>
                        <a:lnTo>
                          <a:pt x="38" y="328"/>
                        </a:lnTo>
                        <a:lnTo>
                          <a:pt x="47" y="468"/>
                        </a:lnTo>
                        <a:lnTo>
                          <a:pt x="24" y="528"/>
                        </a:lnTo>
                        <a:lnTo>
                          <a:pt x="6" y="568"/>
                        </a:lnTo>
                        <a:lnTo>
                          <a:pt x="0" y="580"/>
                        </a:lnTo>
                        <a:lnTo>
                          <a:pt x="9" y="594"/>
                        </a:lnTo>
                        <a:lnTo>
                          <a:pt x="45" y="592"/>
                        </a:lnTo>
                        <a:lnTo>
                          <a:pt x="77" y="513"/>
                        </a:lnTo>
                        <a:lnTo>
                          <a:pt x="79" y="463"/>
                        </a:lnTo>
                        <a:lnTo>
                          <a:pt x="103" y="298"/>
                        </a:lnTo>
                        <a:lnTo>
                          <a:pt x="106" y="260"/>
                        </a:lnTo>
                        <a:lnTo>
                          <a:pt x="105" y="338"/>
                        </a:lnTo>
                        <a:lnTo>
                          <a:pt x="116" y="447"/>
                        </a:lnTo>
                        <a:lnTo>
                          <a:pt x="112" y="498"/>
                        </a:lnTo>
                        <a:lnTo>
                          <a:pt x="129" y="549"/>
                        </a:lnTo>
                        <a:lnTo>
                          <a:pt x="150" y="585"/>
                        </a:lnTo>
                        <a:lnTo>
                          <a:pt x="182" y="588"/>
                        </a:lnTo>
                        <a:lnTo>
                          <a:pt x="192" y="575"/>
                        </a:lnTo>
                        <a:lnTo>
                          <a:pt x="158" y="496"/>
                        </a:lnTo>
                        <a:lnTo>
                          <a:pt x="154" y="459"/>
                        </a:lnTo>
                        <a:lnTo>
                          <a:pt x="161" y="380"/>
                        </a:lnTo>
                        <a:lnTo>
                          <a:pt x="174" y="249"/>
                        </a:lnTo>
                        <a:lnTo>
                          <a:pt x="202" y="0"/>
                        </a:lnTo>
                        <a:lnTo>
                          <a:pt x="37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083480" y="5394240"/>
                    <a:ext cx="252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5"/>
                        </a:lnTo>
                        <a:lnTo>
                          <a:pt x="21" y="6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4014360" y="5460840"/>
                  <a:ext cx="828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3">
                      <a:moveTo>
                        <a:pt x="15" y="0"/>
                      </a:moveTo>
                      <a:lnTo>
                        <a:pt x="15" y="88"/>
                      </a:lnTo>
                      <a:lnTo>
                        <a:pt x="12" y="140"/>
                      </a:lnTo>
                      <a:lnTo>
                        <a:pt x="8" y="196"/>
                      </a:lnTo>
                      <a:lnTo>
                        <a:pt x="0" y="250"/>
                      </a:lnTo>
                      <a:lnTo>
                        <a:pt x="2" y="26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954960" y="5655960"/>
                <a:ext cx="111960" cy="66960"/>
                <a:chOff x="3954960" y="5655960"/>
                <a:chExt cx="111960" cy="66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016160" y="565596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6" y="0"/>
                      </a:moveTo>
                      <a:lnTo>
                        <a:pt x="0" y="24"/>
                      </a:lnTo>
                      <a:lnTo>
                        <a:pt x="0" y="70"/>
                      </a:lnTo>
                      <a:lnTo>
                        <a:pt x="10" y="53"/>
                      </a:lnTo>
                      <a:lnTo>
                        <a:pt x="20" y="75"/>
                      </a:lnTo>
                      <a:lnTo>
                        <a:pt x="24" y="108"/>
                      </a:lnTo>
                      <a:lnTo>
                        <a:pt x="39" y="137"/>
                      </a:lnTo>
                      <a:lnTo>
                        <a:pt x="62" y="153"/>
                      </a:lnTo>
                      <a:lnTo>
                        <a:pt x="81" y="158"/>
                      </a:lnTo>
                      <a:lnTo>
                        <a:pt x="97" y="154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6" y="88"/>
                      </a:lnTo>
                      <a:lnTo>
                        <a:pt x="62" y="88"/>
                      </a:lnTo>
                      <a:lnTo>
                        <a:pt x="43" y="86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54960" y="565776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5"/>
                      </a:lnTo>
                      <a:lnTo>
                        <a:pt x="84" y="49"/>
                      </a:lnTo>
                      <a:lnTo>
                        <a:pt x="76" y="69"/>
                      </a:lnTo>
                      <a:lnTo>
                        <a:pt x="70" y="101"/>
                      </a:lnTo>
                      <a:lnTo>
                        <a:pt x="62" y="127"/>
                      </a:lnTo>
                      <a:lnTo>
                        <a:pt x="44" y="147"/>
                      </a:lnTo>
                      <a:lnTo>
                        <a:pt x="28" y="159"/>
                      </a:lnTo>
                      <a:lnTo>
                        <a:pt x="12" y="163"/>
                      </a:lnTo>
                      <a:lnTo>
                        <a:pt x="6" y="156"/>
                      </a:lnTo>
                      <a:lnTo>
                        <a:pt x="1" y="141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9" y="80"/>
                      </a:lnTo>
                      <a:lnTo>
                        <a:pt x="22" y="90"/>
                      </a:lnTo>
                      <a:lnTo>
                        <a:pt x="42" y="90"/>
                      </a:lnTo>
                      <a:lnTo>
                        <a:pt x="55" y="89"/>
                      </a:lnTo>
                      <a:lnTo>
                        <a:pt x="78" y="3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31920" y="5192640"/>
                <a:ext cx="179280" cy="461880"/>
                <a:chOff x="3931920" y="5192640"/>
                <a:chExt cx="179280" cy="46188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3931920" y="5192640"/>
                  <a:ext cx="179280" cy="461880"/>
                  <a:chOff x="3931920" y="5192640"/>
                  <a:chExt cx="179280" cy="461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3931920" y="5192640"/>
                    <a:ext cx="17928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161">
                        <a:moveTo>
                          <a:pt x="96" y="12"/>
                        </a:moveTo>
                        <a:lnTo>
                          <a:pt x="30" y="49"/>
                        </a:lnTo>
                        <a:lnTo>
                          <a:pt x="13" y="81"/>
                        </a:lnTo>
                        <a:lnTo>
                          <a:pt x="0" y="349"/>
                        </a:lnTo>
                        <a:lnTo>
                          <a:pt x="5" y="412"/>
                        </a:lnTo>
                        <a:lnTo>
                          <a:pt x="46" y="407"/>
                        </a:lnTo>
                        <a:lnTo>
                          <a:pt x="44" y="565"/>
                        </a:lnTo>
                        <a:lnTo>
                          <a:pt x="63" y="565"/>
                        </a:lnTo>
                        <a:lnTo>
                          <a:pt x="87" y="893"/>
                        </a:lnTo>
                        <a:lnTo>
                          <a:pt x="89" y="1067"/>
                        </a:lnTo>
                        <a:lnTo>
                          <a:pt x="92" y="1146"/>
                        </a:lnTo>
                        <a:lnTo>
                          <a:pt x="109" y="1161"/>
                        </a:lnTo>
                        <a:lnTo>
                          <a:pt x="138" y="1148"/>
                        </a:lnTo>
                        <a:lnTo>
                          <a:pt x="155" y="1014"/>
                        </a:lnTo>
                        <a:lnTo>
                          <a:pt x="166" y="1154"/>
                        </a:lnTo>
                        <a:lnTo>
                          <a:pt x="191" y="1160"/>
                        </a:lnTo>
                        <a:lnTo>
                          <a:pt x="214" y="1151"/>
                        </a:lnTo>
                        <a:lnTo>
                          <a:pt x="238" y="886"/>
                        </a:lnTo>
                        <a:lnTo>
                          <a:pt x="269" y="693"/>
                        </a:lnTo>
                        <a:lnTo>
                          <a:pt x="315" y="514"/>
                        </a:lnTo>
                        <a:lnTo>
                          <a:pt x="342" y="511"/>
                        </a:lnTo>
                        <a:lnTo>
                          <a:pt x="317" y="263"/>
                        </a:lnTo>
                        <a:lnTo>
                          <a:pt x="316" y="69"/>
                        </a:lnTo>
                        <a:lnTo>
                          <a:pt x="301" y="47"/>
                        </a:lnTo>
                        <a:lnTo>
                          <a:pt x="230" y="0"/>
                        </a:lnTo>
                        <a:lnTo>
                          <a:pt x="170" y="103"/>
                        </a:lnTo>
                        <a:lnTo>
                          <a:pt x="96" y="12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3958920" y="5319360"/>
                    <a:ext cx="77040" cy="96840"/>
                    <a:chOff x="3958920" y="5319360"/>
                    <a:chExt cx="77040" cy="968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967200" y="5319360"/>
                      <a:ext cx="687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3958920" y="5332320"/>
                      <a:ext cx="756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1">
                          <a:moveTo>
                            <a:pt x="0" y="61"/>
                          </a:moveTo>
                          <a:lnTo>
                            <a:pt x="52" y="44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3954600" y="5240160"/>
                  <a:ext cx="111240" cy="114120"/>
                  <a:chOff x="3954600" y="5240160"/>
                  <a:chExt cx="111240" cy="1141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3962880" y="5240160"/>
                    <a:ext cx="950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17">
                        <a:moveTo>
                          <a:pt x="0" y="76"/>
                        </a:moveTo>
                        <a:lnTo>
                          <a:pt x="116" y="0"/>
                        </a:lnTo>
                        <a:lnTo>
                          <a:pt x="181" y="146"/>
                        </a:lnTo>
                        <a:lnTo>
                          <a:pt x="64" y="217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024080" y="5276520"/>
                    <a:ext cx="41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17">
                        <a:moveTo>
                          <a:pt x="0" y="72"/>
                        </a:moveTo>
                        <a:lnTo>
                          <a:pt x="20" y="54"/>
                        </a:lnTo>
                        <a:lnTo>
                          <a:pt x="30" y="20"/>
                        </a:lnTo>
                        <a:lnTo>
                          <a:pt x="45" y="9"/>
                        </a:lnTo>
                        <a:lnTo>
                          <a:pt x="53" y="0"/>
                        </a:lnTo>
                        <a:lnTo>
                          <a:pt x="58" y="4"/>
                        </a:lnTo>
                        <a:lnTo>
                          <a:pt x="59" y="12"/>
                        </a:lnTo>
                        <a:lnTo>
                          <a:pt x="74" y="29"/>
                        </a:lnTo>
                        <a:lnTo>
                          <a:pt x="79" y="58"/>
                        </a:lnTo>
                        <a:lnTo>
                          <a:pt x="74" y="78"/>
                        </a:lnTo>
                        <a:lnTo>
                          <a:pt x="52" y="101"/>
                        </a:lnTo>
                        <a:lnTo>
                          <a:pt x="8" y="117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954600" y="5303520"/>
                    <a:ext cx="781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30">
                        <a:moveTo>
                          <a:pt x="0" y="130"/>
                        </a:moveTo>
                        <a:lnTo>
                          <a:pt x="59" y="107"/>
                        </a:lnTo>
                        <a:lnTo>
                          <a:pt x="104" y="82"/>
                        </a:lnTo>
                        <a:lnTo>
                          <a:pt x="146" y="57"/>
                        </a:lnTo>
                        <a:lnTo>
                          <a:pt x="130" y="0"/>
                        </a:lnTo>
                        <a:lnTo>
                          <a:pt x="53" y="36"/>
                        </a:lnTo>
                        <a:lnTo>
                          <a:pt x="6" y="53"/>
                        </a:lnTo>
                        <a:lnTo>
                          <a:pt x="4" y="44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0" name=""/>
              <p:cNvSpPr/>
              <p:nvPr/>
            </p:nvSpPr>
            <p:spPr>
              <a:xfrm>
                <a:off x="4014360" y="5430600"/>
                <a:ext cx="8640" cy="168480"/>
              </a:xfrm>
              <a:custGeom>
                <a:avLst/>
                <a:gdLst/>
                <a:ahLst/>
                <a:rect l="l" t="t" r="r" b="b"/>
                <a:pathLst>
                  <a:path w="19" h="423">
                    <a:moveTo>
                      <a:pt x="19" y="0"/>
                    </a:moveTo>
                    <a:lnTo>
                      <a:pt x="13" y="227"/>
                    </a:lnTo>
                    <a:lnTo>
                      <a:pt x="0" y="423"/>
                    </a:lnTo>
                  </a:path>
                </a:pathLst>
              </a:custGeom>
              <a:noFill/>
              <a:ln w="324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234320" y="5068800"/>
              <a:ext cx="254520" cy="606240"/>
              <a:chOff x="4234320" y="5068800"/>
              <a:chExt cx="254520" cy="6062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234320" y="5155920"/>
                <a:ext cx="254520" cy="171720"/>
                <a:chOff x="4234320" y="5155920"/>
                <a:chExt cx="254520" cy="1717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234320" y="5155920"/>
                  <a:ext cx="254520" cy="171720"/>
                </a:xfrm>
                <a:custGeom>
                  <a:avLst/>
                  <a:gdLst/>
                  <a:ahLst/>
                  <a:rect l="l" t="t" r="r" b="b"/>
                  <a:pathLst>
                    <a:path w="479" h="430">
                      <a:moveTo>
                        <a:pt x="181" y="0"/>
                      </a:moveTo>
                      <a:lnTo>
                        <a:pt x="124" y="35"/>
                      </a:lnTo>
                      <a:lnTo>
                        <a:pt x="66" y="65"/>
                      </a:lnTo>
                      <a:lnTo>
                        <a:pt x="30" y="188"/>
                      </a:lnTo>
                      <a:lnTo>
                        <a:pt x="1" y="283"/>
                      </a:lnTo>
                      <a:lnTo>
                        <a:pt x="0" y="302"/>
                      </a:lnTo>
                      <a:lnTo>
                        <a:pt x="26" y="349"/>
                      </a:lnTo>
                      <a:lnTo>
                        <a:pt x="43" y="365"/>
                      </a:lnTo>
                      <a:lnTo>
                        <a:pt x="58" y="368"/>
                      </a:lnTo>
                      <a:lnTo>
                        <a:pt x="59" y="381"/>
                      </a:lnTo>
                      <a:lnTo>
                        <a:pt x="87" y="362"/>
                      </a:lnTo>
                      <a:lnTo>
                        <a:pt x="90" y="413"/>
                      </a:lnTo>
                      <a:lnTo>
                        <a:pt x="106" y="430"/>
                      </a:lnTo>
                      <a:lnTo>
                        <a:pt x="385" y="430"/>
                      </a:lnTo>
                      <a:lnTo>
                        <a:pt x="410" y="406"/>
                      </a:lnTo>
                      <a:lnTo>
                        <a:pt x="404" y="362"/>
                      </a:lnTo>
                      <a:lnTo>
                        <a:pt x="436" y="390"/>
                      </a:lnTo>
                      <a:lnTo>
                        <a:pt x="479" y="309"/>
                      </a:lnTo>
                      <a:lnTo>
                        <a:pt x="392" y="56"/>
                      </a:lnTo>
                      <a:lnTo>
                        <a:pt x="300" y="24"/>
                      </a:lnTo>
                      <a:lnTo>
                        <a:pt x="272" y="7"/>
                      </a:lnTo>
                      <a:lnTo>
                        <a:pt x="229" y="48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4285080" y="5173560"/>
                  <a:ext cx="174960" cy="152280"/>
                  <a:chOff x="4285080" y="5173560"/>
                  <a:chExt cx="174960" cy="1522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4340160" y="5173560"/>
                    <a:ext cx="360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85">
                        <a:moveTo>
                          <a:pt x="19" y="0"/>
                        </a:moveTo>
                        <a:lnTo>
                          <a:pt x="6" y="26"/>
                        </a:lnTo>
                        <a:lnTo>
                          <a:pt x="19" y="39"/>
                        </a:lnTo>
                        <a:lnTo>
                          <a:pt x="0" y="308"/>
                        </a:lnTo>
                        <a:lnTo>
                          <a:pt x="2" y="356"/>
                        </a:lnTo>
                        <a:lnTo>
                          <a:pt x="38" y="385"/>
                        </a:lnTo>
                        <a:lnTo>
                          <a:pt x="70" y="352"/>
                        </a:lnTo>
                        <a:lnTo>
                          <a:pt x="70" y="297"/>
                        </a:lnTo>
                        <a:lnTo>
                          <a:pt x="41" y="41"/>
                        </a:lnTo>
                        <a:lnTo>
                          <a:pt x="54" y="26"/>
                        </a:lnTo>
                        <a:lnTo>
                          <a:pt x="42" y="1"/>
                        </a:lnTo>
                        <a:lnTo>
                          <a:pt x="31" y="1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4285080" y="5238720"/>
                    <a:ext cx="174960" cy="52200"/>
                    <a:chOff x="4285080" y="5238720"/>
                    <a:chExt cx="174960" cy="5220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322880" y="5249520"/>
                      <a:ext cx="135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9" h="84">
                          <a:moveTo>
                            <a:pt x="22" y="52"/>
                          </a:moveTo>
                          <a:lnTo>
                            <a:pt x="198" y="0"/>
                          </a:lnTo>
                          <a:lnTo>
                            <a:pt x="259" y="7"/>
                          </a:lnTo>
                          <a:lnTo>
                            <a:pt x="43" y="84"/>
                          </a:lnTo>
                          <a:lnTo>
                            <a:pt x="0" y="61"/>
                          </a:lnTo>
                          <a:lnTo>
                            <a:pt x="22" y="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84080" y="5251320"/>
                      <a:ext cx="75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96">
                          <a:moveTo>
                            <a:pt x="75" y="0"/>
                          </a:moveTo>
                          <a:lnTo>
                            <a:pt x="17" y="15"/>
                          </a:lnTo>
                          <a:lnTo>
                            <a:pt x="14" y="34"/>
                          </a:lnTo>
                          <a:lnTo>
                            <a:pt x="0" y="50"/>
                          </a:lnTo>
                          <a:lnTo>
                            <a:pt x="23" y="76"/>
                          </a:lnTo>
                          <a:lnTo>
                            <a:pt x="56" y="93"/>
                          </a:lnTo>
                          <a:lnTo>
                            <a:pt x="103" y="96"/>
                          </a:lnTo>
                          <a:lnTo>
                            <a:pt x="145" y="54"/>
                          </a:lnTo>
                          <a:lnTo>
                            <a:pt x="140" y="3"/>
                          </a:lnTo>
                          <a:lnTo>
                            <a:pt x="103" y="28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85080" y="5238720"/>
                      <a:ext cx="612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131">
                          <a:moveTo>
                            <a:pt x="0" y="81"/>
                          </a:moveTo>
                          <a:lnTo>
                            <a:pt x="14" y="59"/>
                          </a:lnTo>
                          <a:lnTo>
                            <a:pt x="25" y="34"/>
                          </a:lnTo>
                          <a:lnTo>
                            <a:pt x="32" y="10"/>
                          </a:lnTo>
                          <a:lnTo>
                            <a:pt x="67" y="0"/>
                          </a:lnTo>
                          <a:lnTo>
                            <a:pt x="94" y="0"/>
                          </a:lnTo>
                          <a:lnTo>
                            <a:pt x="117" y="66"/>
                          </a:lnTo>
                          <a:lnTo>
                            <a:pt x="109" y="81"/>
                          </a:lnTo>
                          <a:lnTo>
                            <a:pt x="94" y="98"/>
                          </a:lnTo>
                          <a:lnTo>
                            <a:pt x="71" y="105"/>
                          </a:lnTo>
                          <a:lnTo>
                            <a:pt x="52" y="107"/>
                          </a:lnTo>
                          <a:lnTo>
                            <a:pt x="45" y="112"/>
                          </a:lnTo>
                          <a:lnTo>
                            <a:pt x="33" y="125"/>
                          </a:lnTo>
                          <a:lnTo>
                            <a:pt x="14" y="131"/>
                          </a:lnTo>
                          <a:lnTo>
                            <a:pt x="4" y="13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4240440" y="5068800"/>
                <a:ext cx="239760" cy="606240"/>
                <a:chOff x="4240440" y="5068800"/>
                <a:chExt cx="239760" cy="60624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4314960" y="5068800"/>
                  <a:ext cx="86040" cy="109440"/>
                  <a:chOff x="4314960" y="5068800"/>
                  <a:chExt cx="86040" cy="1094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316760" y="5073480"/>
                    <a:ext cx="802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262">
                        <a:moveTo>
                          <a:pt x="0" y="112"/>
                        </a:moveTo>
                        <a:lnTo>
                          <a:pt x="6" y="134"/>
                        </a:lnTo>
                        <a:lnTo>
                          <a:pt x="12" y="147"/>
                        </a:lnTo>
                        <a:lnTo>
                          <a:pt x="17" y="158"/>
                        </a:lnTo>
                        <a:lnTo>
                          <a:pt x="26" y="157"/>
                        </a:lnTo>
                        <a:lnTo>
                          <a:pt x="28" y="157"/>
                        </a:lnTo>
                        <a:lnTo>
                          <a:pt x="28" y="209"/>
                        </a:lnTo>
                        <a:lnTo>
                          <a:pt x="76" y="262"/>
                        </a:lnTo>
                        <a:lnTo>
                          <a:pt x="119" y="222"/>
                        </a:lnTo>
                        <a:lnTo>
                          <a:pt x="121" y="209"/>
                        </a:lnTo>
                        <a:lnTo>
                          <a:pt x="127" y="198"/>
                        </a:lnTo>
                        <a:lnTo>
                          <a:pt x="133" y="187"/>
                        </a:lnTo>
                        <a:lnTo>
                          <a:pt x="139" y="166"/>
                        </a:lnTo>
                        <a:lnTo>
                          <a:pt x="148" y="143"/>
                        </a:lnTo>
                        <a:lnTo>
                          <a:pt x="150" y="122"/>
                        </a:lnTo>
                        <a:lnTo>
                          <a:pt x="151" y="78"/>
                        </a:lnTo>
                        <a:lnTo>
                          <a:pt x="153" y="60"/>
                        </a:lnTo>
                        <a:lnTo>
                          <a:pt x="149" y="40"/>
                        </a:lnTo>
                        <a:lnTo>
                          <a:pt x="140" y="24"/>
                        </a:lnTo>
                        <a:lnTo>
                          <a:pt x="122" y="10"/>
                        </a:lnTo>
                        <a:lnTo>
                          <a:pt x="103" y="4"/>
                        </a:lnTo>
                        <a:lnTo>
                          <a:pt x="81" y="0"/>
                        </a:lnTo>
                        <a:lnTo>
                          <a:pt x="60" y="2"/>
                        </a:lnTo>
                        <a:lnTo>
                          <a:pt x="44" y="9"/>
                        </a:lnTo>
                        <a:lnTo>
                          <a:pt x="29" y="20"/>
                        </a:lnTo>
                        <a:lnTo>
                          <a:pt x="18" y="32"/>
                        </a:lnTo>
                        <a:lnTo>
                          <a:pt x="12" y="44"/>
                        </a:lnTo>
                        <a:lnTo>
                          <a:pt x="5" y="59"/>
                        </a:lnTo>
                        <a:lnTo>
                          <a:pt x="3" y="73"/>
                        </a:lnTo>
                        <a:lnTo>
                          <a:pt x="2" y="91"/>
                        </a:lnTo>
                        <a:lnTo>
                          <a:pt x="4" y="104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316760" y="5081400"/>
                    <a:ext cx="568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1">
                        <a:moveTo>
                          <a:pt x="16" y="18"/>
                        </a:moveTo>
                        <a:lnTo>
                          <a:pt x="22" y="8"/>
                        </a:lnTo>
                        <a:lnTo>
                          <a:pt x="30" y="0"/>
                        </a:lnTo>
                        <a:lnTo>
                          <a:pt x="60" y="29"/>
                        </a:lnTo>
                        <a:lnTo>
                          <a:pt x="61" y="69"/>
                        </a:lnTo>
                        <a:lnTo>
                          <a:pt x="91" y="76"/>
                        </a:lnTo>
                        <a:lnTo>
                          <a:pt x="103" y="77"/>
                        </a:lnTo>
                        <a:lnTo>
                          <a:pt x="107" y="132"/>
                        </a:lnTo>
                        <a:lnTo>
                          <a:pt x="99" y="128"/>
                        </a:lnTo>
                        <a:lnTo>
                          <a:pt x="93" y="135"/>
                        </a:lnTo>
                        <a:lnTo>
                          <a:pt x="93" y="86"/>
                        </a:lnTo>
                        <a:lnTo>
                          <a:pt x="63" y="93"/>
                        </a:lnTo>
                        <a:lnTo>
                          <a:pt x="55" y="98"/>
                        </a:lnTo>
                        <a:lnTo>
                          <a:pt x="48" y="111"/>
                        </a:lnTo>
                        <a:lnTo>
                          <a:pt x="61" y="132"/>
                        </a:lnTo>
                        <a:lnTo>
                          <a:pt x="50" y="140"/>
                        </a:lnTo>
                        <a:lnTo>
                          <a:pt x="50" y="177"/>
                        </a:lnTo>
                        <a:lnTo>
                          <a:pt x="64" y="184"/>
                        </a:lnTo>
                        <a:lnTo>
                          <a:pt x="83" y="193"/>
                        </a:lnTo>
                        <a:lnTo>
                          <a:pt x="74" y="241"/>
                        </a:lnTo>
                        <a:lnTo>
                          <a:pt x="28" y="191"/>
                        </a:lnTo>
                        <a:lnTo>
                          <a:pt x="28" y="138"/>
                        </a:lnTo>
                        <a:lnTo>
                          <a:pt x="16" y="138"/>
                        </a:lnTo>
                        <a:lnTo>
                          <a:pt x="0" y="95"/>
                        </a:lnTo>
                        <a:lnTo>
                          <a:pt x="3" y="87"/>
                        </a:lnTo>
                        <a:lnTo>
                          <a:pt x="2" y="71"/>
                        </a:lnTo>
                        <a:lnTo>
                          <a:pt x="3" y="61"/>
                        </a:lnTo>
                        <a:lnTo>
                          <a:pt x="3" y="49"/>
                        </a:lnTo>
                        <a:lnTo>
                          <a:pt x="7" y="33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14960" y="5068800"/>
                    <a:ext cx="860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43">
                        <a:moveTo>
                          <a:pt x="2" y="117"/>
                        </a:moveTo>
                        <a:lnTo>
                          <a:pt x="0" y="99"/>
                        </a:lnTo>
                        <a:lnTo>
                          <a:pt x="4" y="75"/>
                        </a:lnTo>
                        <a:lnTo>
                          <a:pt x="7" y="54"/>
                        </a:lnTo>
                        <a:lnTo>
                          <a:pt x="13" y="39"/>
                        </a:lnTo>
                        <a:lnTo>
                          <a:pt x="22" y="25"/>
                        </a:lnTo>
                        <a:lnTo>
                          <a:pt x="36" y="20"/>
                        </a:lnTo>
                        <a:lnTo>
                          <a:pt x="44" y="13"/>
                        </a:lnTo>
                        <a:lnTo>
                          <a:pt x="59" y="7"/>
                        </a:lnTo>
                        <a:lnTo>
                          <a:pt x="75" y="0"/>
                        </a:lnTo>
                        <a:lnTo>
                          <a:pt x="93" y="0"/>
                        </a:lnTo>
                        <a:lnTo>
                          <a:pt x="112" y="3"/>
                        </a:lnTo>
                        <a:lnTo>
                          <a:pt x="124" y="10"/>
                        </a:lnTo>
                        <a:lnTo>
                          <a:pt x="134" y="17"/>
                        </a:lnTo>
                        <a:lnTo>
                          <a:pt x="149" y="29"/>
                        </a:lnTo>
                        <a:lnTo>
                          <a:pt x="159" y="40"/>
                        </a:lnTo>
                        <a:lnTo>
                          <a:pt x="165" y="46"/>
                        </a:lnTo>
                        <a:lnTo>
                          <a:pt x="159" y="47"/>
                        </a:lnTo>
                        <a:lnTo>
                          <a:pt x="158" y="51"/>
                        </a:lnTo>
                        <a:lnTo>
                          <a:pt x="158" y="59"/>
                        </a:lnTo>
                        <a:lnTo>
                          <a:pt x="157" y="69"/>
                        </a:lnTo>
                        <a:lnTo>
                          <a:pt x="161" y="84"/>
                        </a:lnTo>
                        <a:lnTo>
                          <a:pt x="162" y="102"/>
                        </a:lnTo>
                        <a:lnTo>
                          <a:pt x="153" y="121"/>
                        </a:lnTo>
                        <a:lnTo>
                          <a:pt x="154" y="94"/>
                        </a:lnTo>
                        <a:lnTo>
                          <a:pt x="153" y="76"/>
                        </a:lnTo>
                        <a:lnTo>
                          <a:pt x="149" y="67"/>
                        </a:lnTo>
                        <a:lnTo>
                          <a:pt x="143" y="63"/>
                        </a:lnTo>
                        <a:lnTo>
                          <a:pt x="139" y="57"/>
                        </a:lnTo>
                        <a:lnTo>
                          <a:pt x="134" y="59"/>
                        </a:lnTo>
                        <a:lnTo>
                          <a:pt x="123" y="63"/>
                        </a:lnTo>
                        <a:lnTo>
                          <a:pt x="112" y="63"/>
                        </a:lnTo>
                        <a:lnTo>
                          <a:pt x="99" y="63"/>
                        </a:lnTo>
                        <a:lnTo>
                          <a:pt x="89" y="62"/>
                        </a:lnTo>
                        <a:lnTo>
                          <a:pt x="81" y="62"/>
                        </a:lnTo>
                        <a:lnTo>
                          <a:pt x="88" y="65"/>
                        </a:lnTo>
                        <a:lnTo>
                          <a:pt x="94" y="67"/>
                        </a:lnTo>
                        <a:lnTo>
                          <a:pt x="87" y="68"/>
                        </a:lnTo>
                        <a:lnTo>
                          <a:pt x="75" y="67"/>
                        </a:lnTo>
                        <a:lnTo>
                          <a:pt x="63" y="66"/>
                        </a:lnTo>
                        <a:lnTo>
                          <a:pt x="50" y="65"/>
                        </a:lnTo>
                        <a:lnTo>
                          <a:pt x="42" y="65"/>
                        </a:lnTo>
                        <a:lnTo>
                          <a:pt x="37" y="65"/>
                        </a:lnTo>
                        <a:lnTo>
                          <a:pt x="39" y="67"/>
                        </a:lnTo>
                        <a:lnTo>
                          <a:pt x="42" y="73"/>
                        </a:lnTo>
                        <a:lnTo>
                          <a:pt x="42" y="81"/>
                        </a:lnTo>
                        <a:lnTo>
                          <a:pt x="40" y="90"/>
                        </a:lnTo>
                        <a:lnTo>
                          <a:pt x="34" y="100"/>
                        </a:lnTo>
                        <a:lnTo>
                          <a:pt x="31" y="110"/>
                        </a:lnTo>
                        <a:lnTo>
                          <a:pt x="30" y="122"/>
                        </a:lnTo>
                        <a:lnTo>
                          <a:pt x="31" y="136"/>
                        </a:lnTo>
                        <a:lnTo>
                          <a:pt x="32" y="143"/>
                        </a:lnTo>
                        <a:lnTo>
                          <a:pt x="23" y="132"/>
                        </a:lnTo>
                        <a:lnTo>
                          <a:pt x="11" y="121"/>
                        </a:lnTo>
                        <a:lnTo>
                          <a:pt x="7" y="122"/>
                        </a:lnTo>
                        <a:lnTo>
                          <a:pt x="5" y="131"/>
                        </a:lnTo>
                        <a:lnTo>
                          <a:pt x="2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4240440" y="5628960"/>
                  <a:ext cx="239760" cy="46080"/>
                  <a:chOff x="4240440" y="5628960"/>
                  <a:chExt cx="239760" cy="460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240440" y="5628960"/>
                    <a:ext cx="103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115">
                        <a:moveTo>
                          <a:pt x="93" y="16"/>
                        </a:moveTo>
                        <a:lnTo>
                          <a:pt x="70" y="34"/>
                        </a:lnTo>
                        <a:lnTo>
                          <a:pt x="38" y="57"/>
                        </a:lnTo>
                        <a:lnTo>
                          <a:pt x="16" y="70"/>
                        </a:lnTo>
                        <a:lnTo>
                          <a:pt x="2" y="80"/>
                        </a:lnTo>
                        <a:lnTo>
                          <a:pt x="0" y="100"/>
                        </a:lnTo>
                        <a:lnTo>
                          <a:pt x="13" y="109"/>
                        </a:lnTo>
                        <a:lnTo>
                          <a:pt x="41" y="113"/>
                        </a:lnTo>
                        <a:lnTo>
                          <a:pt x="67" y="115"/>
                        </a:lnTo>
                        <a:lnTo>
                          <a:pt x="93" y="113"/>
                        </a:lnTo>
                        <a:lnTo>
                          <a:pt x="112" y="100"/>
                        </a:lnTo>
                        <a:lnTo>
                          <a:pt x="144" y="86"/>
                        </a:lnTo>
                        <a:lnTo>
                          <a:pt x="193" y="73"/>
                        </a:lnTo>
                        <a:lnTo>
                          <a:pt x="197" y="29"/>
                        </a:lnTo>
                        <a:lnTo>
                          <a:pt x="190" y="0"/>
                        </a:lnTo>
                        <a:lnTo>
                          <a:pt x="93" y="16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69680" y="5632200"/>
                    <a:ext cx="110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99">
                        <a:moveTo>
                          <a:pt x="4" y="1"/>
                        </a:moveTo>
                        <a:lnTo>
                          <a:pt x="0" y="39"/>
                        </a:lnTo>
                        <a:lnTo>
                          <a:pt x="4" y="68"/>
                        </a:lnTo>
                        <a:lnTo>
                          <a:pt x="52" y="79"/>
                        </a:lnTo>
                        <a:lnTo>
                          <a:pt x="75" y="79"/>
                        </a:lnTo>
                        <a:lnTo>
                          <a:pt x="110" y="89"/>
                        </a:lnTo>
                        <a:lnTo>
                          <a:pt x="149" y="95"/>
                        </a:lnTo>
                        <a:lnTo>
                          <a:pt x="204" y="99"/>
                        </a:lnTo>
                        <a:lnTo>
                          <a:pt x="205" y="85"/>
                        </a:lnTo>
                        <a:lnTo>
                          <a:pt x="205" y="69"/>
                        </a:lnTo>
                        <a:lnTo>
                          <a:pt x="162" y="47"/>
                        </a:lnTo>
                        <a:lnTo>
                          <a:pt x="116" y="21"/>
                        </a:lnTo>
                        <a:lnTo>
                          <a:pt x="88" y="0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4283280" y="5325840"/>
                  <a:ext cx="161280" cy="318960"/>
                </a:xfrm>
                <a:custGeom>
                  <a:avLst/>
                  <a:gdLst/>
                  <a:ahLst/>
                  <a:rect l="l" t="t" r="r" b="b"/>
                  <a:pathLst>
                    <a:path w="307" h="805">
                      <a:moveTo>
                        <a:pt x="10" y="0"/>
                      </a:moveTo>
                      <a:lnTo>
                        <a:pt x="0" y="71"/>
                      </a:lnTo>
                      <a:lnTo>
                        <a:pt x="0" y="181"/>
                      </a:lnTo>
                      <a:lnTo>
                        <a:pt x="0" y="311"/>
                      </a:lnTo>
                      <a:lnTo>
                        <a:pt x="10" y="389"/>
                      </a:lnTo>
                      <a:lnTo>
                        <a:pt x="10" y="421"/>
                      </a:lnTo>
                      <a:lnTo>
                        <a:pt x="3" y="544"/>
                      </a:lnTo>
                      <a:lnTo>
                        <a:pt x="7" y="632"/>
                      </a:lnTo>
                      <a:lnTo>
                        <a:pt x="13" y="753"/>
                      </a:lnTo>
                      <a:lnTo>
                        <a:pt x="13" y="785"/>
                      </a:lnTo>
                      <a:lnTo>
                        <a:pt x="33" y="801"/>
                      </a:lnTo>
                      <a:lnTo>
                        <a:pt x="110" y="782"/>
                      </a:lnTo>
                      <a:lnTo>
                        <a:pt x="133" y="525"/>
                      </a:lnTo>
                      <a:lnTo>
                        <a:pt x="139" y="363"/>
                      </a:lnTo>
                      <a:lnTo>
                        <a:pt x="149" y="220"/>
                      </a:lnTo>
                      <a:lnTo>
                        <a:pt x="158" y="447"/>
                      </a:lnTo>
                      <a:lnTo>
                        <a:pt x="168" y="779"/>
                      </a:lnTo>
                      <a:lnTo>
                        <a:pt x="246" y="805"/>
                      </a:lnTo>
                      <a:lnTo>
                        <a:pt x="262" y="785"/>
                      </a:lnTo>
                      <a:lnTo>
                        <a:pt x="281" y="492"/>
                      </a:lnTo>
                      <a:lnTo>
                        <a:pt x="284" y="350"/>
                      </a:lnTo>
                      <a:lnTo>
                        <a:pt x="307" y="38"/>
                      </a:lnTo>
                      <a:lnTo>
                        <a:pt x="30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4065840" y="5103720"/>
              <a:ext cx="269280" cy="611280"/>
              <a:chOff x="4065840" y="5103720"/>
              <a:chExt cx="269280" cy="611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4065840" y="5181480"/>
                <a:ext cx="269280" cy="533520"/>
                <a:chOff x="4065840" y="5181480"/>
                <a:chExt cx="269280" cy="53352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4073760" y="5659200"/>
                  <a:ext cx="239760" cy="55800"/>
                  <a:chOff x="4073760" y="5659200"/>
                  <a:chExt cx="239760" cy="55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073760" y="567036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10">
                        <a:moveTo>
                          <a:pt x="53" y="22"/>
                        </a:moveTo>
                        <a:lnTo>
                          <a:pt x="22" y="52"/>
                        </a:lnTo>
                        <a:lnTo>
                          <a:pt x="0" y="82"/>
                        </a:lnTo>
                        <a:lnTo>
                          <a:pt x="2" y="101"/>
                        </a:lnTo>
                        <a:lnTo>
                          <a:pt x="18" y="110"/>
                        </a:lnTo>
                        <a:lnTo>
                          <a:pt x="63" y="106"/>
                        </a:lnTo>
                        <a:lnTo>
                          <a:pt x="89" y="94"/>
                        </a:lnTo>
                        <a:lnTo>
                          <a:pt x="102" y="72"/>
                        </a:lnTo>
                        <a:lnTo>
                          <a:pt x="141" y="55"/>
                        </a:lnTo>
                        <a:lnTo>
                          <a:pt x="142" y="25"/>
                        </a:lnTo>
                        <a:lnTo>
                          <a:pt x="135" y="0"/>
                        </a:lnTo>
                        <a:lnTo>
                          <a:pt x="96" y="19"/>
                        </a:lnTo>
                        <a:lnTo>
                          <a:pt x="53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8560" y="5659200"/>
                    <a:ext cx="84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14">
                        <a:moveTo>
                          <a:pt x="2" y="8"/>
                        </a:moveTo>
                        <a:lnTo>
                          <a:pt x="0" y="52"/>
                        </a:lnTo>
                        <a:lnTo>
                          <a:pt x="22" y="69"/>
                        </a:lnTo>
                        <a:lnTo>
                          <a:pt x="44" y="76"/>
                        </a:lnTo>
                        <a:lnTo>
                          <a:pt x="58" y="86"/>
                        </a:lnTo>
                        <a:lnTo>
                          <a:pt x="84" y="102"/>
                        </a:lnTo>
                        <a:lnTo>
                          <a:pt x="129" y="114"/>
                        </a:lnTo>
                        <a:lnTo>
                          <a:pt x="146" y="111"/>
                        </a:lnTo>
                        <a:lnTo>
                          <a:pt x="158" y="104"/>
                        </a:lnTo>
                        <a:lnTo>
                          <a:pt x="158" y="91"/>
                        </a:lnTo>
                        <a:lnTo>
                          <a:pt x="142" y="65"/>
                        </a:lnTo>
                        <a:lnTo>
                          <a:pt x="106" y="39"/>
                        </a:lnTo>
                        <a:lnTo>
                          <a:pt x="78" y="17"/>
                        </a:lnTo>
                        <a:lnTo>
                          <a:pt x="68" y="0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4065840" y="5181480"/>
                  <a:ext cx="269280" cy="503280"/>
                  <a:chOff x="4065840" y="5181480"/>
                  <a:chExt cx="269280" cy="50328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4099320" y="5181480"/>
                    <a:ext cx="171360" cy="162000"/>
                    <a:chOff x="4099320" y="5181480"/>
                    <a:chExt cx="171360" cy="16200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099320" y="5190840"/>
                      <a:ext cx="17136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3" h="384">
                          <a:moveTo>
                            <a:pt x="0" y="74"/>
                          </a:moveTo>
                          <a:lnTo>
                            <a:pt x="97" y="0"/>
                          </a:lnTo>
                          <a:lnTo>
                            <a:pt x="203" y="169"/>
                          </a:lnTo>
                          <a:lnTo>
                            <a:pt x="222" y="9"/>
                          </a:lnTo>
                          <a:lnTo>
                            <a:pt x="287" y="29"/>
                          </a:lnTo>
                          <a:lnTo>
                            <a:pt x="323" y="88"/>
                          </a:lnTo>
                          <a:lnTo>
                            <a:pt x="316" y="384"/>
                          </a:lnTo>
                          <a:lnTo>
                            <a:pt x="36" y="384"/>
                          </a:lnTo>
                          <a:lnTo>
                            <a:pt x="0" y="74"/>
                          </a:lnTo>
                          <a:close/>
                        </a:path>
                      </a:pathLst>
                    </a:cu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148280" y="5181480"/>
                      <a:ext cx="676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224">
                          <a:moveTo>
                            <a:pt x="0" y="22"/>
                          </a:moveTo>
                          <a:lnTo>
                            <a:pt x="10" y="0"/>
                          </a:lnTo>
                          <a:lnTo>
                            <a:pt x="90" y="39"/>
                          </a:lnTo>
                          <a:lnTo>
                            <a:pt x="109" y="13"/>
                          </a:lnTo>
                          <a:lnTo>
                            <a:pt x="123" y="22"/>
                          </a:lnTo>
                          <a:lnTo>
                            <a:pt x="129" y="155"/>
                          </a:lnTo>
                          <a:lnTo>
                            <a:pt x="127" y="224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71320" y="5200560"/>
                      <a:ext cx="4212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44">
                          <a:moveTo>
                            <a:pt x="0" y="44"/>
                          </a:moveTo>
                          <a:lnTo>
                            <a:pt x="46" y="0"/>
                          </a:lnTo>
                          <a:lnTo>
                            <a:pt x="81" y="3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065840" y="5189400"/>
                    <a:ext cx="269280" cy="495360"/>
                    <a:chOff x="4065840" y="5189400"/>
                    <a:chExt cx="269280" cy="49536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065840" y="5189400"/>
                      <a:ext cx="26928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1" h="1246">
                          <a:moveTo>
                            <a:pt x="162" y="0"/>
                          </a:moveTo>
                          <a:lnTo>
                            <a:pt x="39" y="91"/>
                          </a:lnTo>
                          <a:lnTo>
                            <a:pt x="0" y="386"/>
                          </a:lnTo>
                          <a:lnTo>
                            <a:pt x="96" y="580"/>
                          </a:lnTo>
                          <a:lnTo>
                            <a:pt x="97" y="617"/>
                          </a:lnTo>
                          <a:lnTo>
                            <a:pt x="104" y="663"/>
                          </a:lnTo>
                          <a:lnTo>
                            <a:pt x="116" y="692"/>
                          </a:lnTo>
                          <a:lnTo>
                            <a:pt x="100" y="904"/>
                          </a:lnTo>
                          <a:lnTo>
                            <a:pt x="67" y="1242"/>
                          </a:lnTo>
                          <a:lnTo>
                            <a:pt x="102" y="1246"/>
                          </a:lnTo>
                          <a:lnTo>
                            <a:pt x="155" y="1228"/>
                          </a:lnTo>
                          <a:lnTo>
                            <a:pt x="194" y="1000"/>
                          </a:lnTo>
                          <a:lnTo>
                            <a:pt x="213" y="915"/>
                          </a:lnTo>
                          <a:lnTo>
                            <a:pt x="270" y="695"/>
                          </a:lnTo>
                          <a:lnTo>
                            <a:pt x="278" y="927"/>
                          </a:lnTo>
                          <a:lnTo>
                            <a:pt x="308" y="1208"/>
                          </a:lnTo>
                          <a:lnTo>
                            <a:pt x="390" y="1212"/>
                          </a:lnTo>
                          <a:lnTo>
                            <a:pt x="398" y="909"/>
                          </a:lnTo>
                          <a:lnTo>
                            <a:pt x="391" y="607"/>
                          </a:lnTo>
                          <a:lnTo>
                            <a:pt x="394" y="455"/>
                          </a:lnTo>
                          <a:lnTo>
                            <a:pt x="410" y="406"/>
                          </a:lnTo>
                          <a:lnTo>
                            <a:pt x="419" y="411"/>
                          </a:lnTo>
                          <a:lnTo>
                            <a:pt x="504" y="360"/>
                          </a:lnTo>
                          <a:lnTo>
                            <a:pt x="511" y="264"/>
                          </a:lnTo>
                          <a:lnTo>
                            <a:pt x="375" y="32"/>
                          </a:lnTo>
                          <a:lnTo>
                            <a:pt x="278" y="0"/>
                          </a:lnTo>
                          <a:lnTo>
                            <a:pt x="298" y="156"/>
                          </a:lnTo>
                          <a:lnTo>
                            <a:pt x="275" y="308"/>
                          </a:lnTo>
                          <a:lnTo>
                            <a:pt x="237" y="165"/>
                          </a:lnTo>
                          <a:lnTo>
                            <a:pt x="162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080600" y="5243400"/>
                      <a:ext cx="6768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24">
                          <a:moveTo>
                            <a:pt x="65" y="0"/>
                          </a:moveTo>
                          <a:lnTo>
                            <a:pt x="78" y="78"/>
                          </a:lnTo>
                          <a:lnTo>
                            <a:pt x="71" y="195"/>
                          </a:lnTo>
                          <a:lnTo>
                            <a:pt x="0" y="214"/>
                          </a:lnTo>
                          <a:lnTo>
                            <a:pt x="71" y="221"/>
                          </a:lnTo>
                          <a:lnTo>
                            <a:pt x="91" y="292"/>
                          </a:lnTo>
                          <a:lnTo>
                            <a:pt x="129" y="324"/>
                          </a:lnTo>
                          <a:lnTo>
                            <a:pt x="117" y="266"/>
                          </a:lnTo>
                          <a:lnTo>
                            <a:pt x="104" y="234"/>
                          </a:lnTo>
                          <a:lnTo>
                            <a:pt x="97" y="156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42160" y="5251320"/>
                      <a:ext cx="230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4">
                          <a:moveTo>
                            <a:pt x="0" y="44"/>
                          </a:moveTo>
                          <a:lnTo>
                            <a:pt x="9" y="0"/>
                          </a:lnTo>
                          <a:lnTo>
                            <a:pt x="45" y="37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4140000" y="5103720"/>
                <a:ext cx="146520" cy="249120"/>
                <a:chOff x="4140000" y="5103720"/>
                <a:chExt cx="146520" cy="24912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140000" y="5103720"/>
                  <a:ext cx="86760" cy="96840"/>
                  <a:chOff x="4140000" y="5103720"/>
                  <a:chExt cx="86760" cy="9684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4144320" y="5105160"/>
                    <a:ext cx="73440" cy="95400"/>
                    <a:chOff x="4144320" y="5105160"/>
                    <a:chExt cx="73440" cy="954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144320" y="5105160"/>
                      <a:ext cx="7344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240">
                          <a:moveTo>
                            <a:pt x="141" y="40"/>
                          </a:moveTo>
                          <a:lnTo>
                            <a:pt x="143" y="79"/>
                          </a:lnTo>
                          <a:lnTo>
                            <a:pt x="138" y="93"/>
                          </a:lnTo>
                          <a:lnTo>
                            <a:pt x="143" y="106"/>
                          </a:lnTo>
                          <a:lnTo>
                            <a:pt x="142" y="120"/>
                          </a:lnTo>
                          <a:lnTo>
                            <a:pt x="140" y="140"/>
                          </a:lnTo>
                          <a:lnTo>
                            <a:pt x="138" y="159"/>
                          </a:lnTo>
                          <a:lnTo>
                            <a:pt x="139" y="179"/>
                          </a:lnTo>
                          <a:lnTo>
                            <a:pt x="130" y="192"/>
                          </a:lnTo>
                          <a:lnTo>
                            <a:pt x="117" y="201"/>
                          </a:lnTo>
                          <a:lnTo>
                            <a:pt x="121" y="213"/>
                          </a:lnTo>
                          <a:lnTo>
                            <a:pt x="98" y="240"/>
                          </a:lnTo>
                          <a:lnTo>
                            <a:pt x="20" y="200"/>
                          </a:lnTo>
                          <a:lnTo>
                            <a:pt x="17" y="147"/>
                          </a:lnTo>
                          <a:lnTo>
                            <a:pt x="14" y="141"/>
                          </a:lnTo>
                          <a:lnTo>
                            <a:pt x="11" y="132"/>
                          </a:lnTo>
                          <a:lnTo>
                            <a:pt x="4" y="118"/>
                          </a:lnTo>
                          <a:lnTo>
                            <a:pt x="0" y="90"/>
                          </a:lnTo>
                          <a:lnTo>
                            <a:pt x="8" y="85"/>
                          </a:lnTo>
                          <a:lnTo>
                            <a:pt x="6" y="76"/>
                          </a:lnTo>
                          <a:lnTo>
                            <a:pt x="6" y="57"/>
                          </a:lnTo>
                          <a:lnTo>
                            <a:pt x="7" y="43"/>
                          </a:lnTo>
                          <a:lnTo>
                            <a:pt x="14" y="28"/>
                          </a:lnTo>
                          <a:lnTo>
                            <a:pt x="21" y="17"/>
                          </a:lnTo>
                          <a:lnTo>
                            <a:pt x="35" y="7"/>
                          </a:lnTo>
                          <a:lnTo>
                            <a:pt x="50" y="2"/>
                          </a:lnTo>
                          <a:lnTo>
                            <a:pt x="67" y="0"/>
                          </a:lnTo>
                          <a:lnTo>
                            <a:pt x="83" y="0"/>
                          </a:lnTo>
                          <a:lnTo>
                            <a:pt x="99" y="1"/>
                          </a:lnTo>
                          <a:lnTo>
                            <a:pt x="112" y="3"/>
                          </a:lnTo>
                          <a:lnTo>
                            <a:pt x="126" y="10"/>
                          </a:lnTo>
                          <a:lnTo>
                            <a:pt x="133" y="18"/>
                          </a:lnTo>
                          <a:lnTo>
                            <a:pt x="137" y="26"/>
                          </a:lnTo>
                          <a:lnTo>
                            <a:pt x="141" y="4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4150440" y="5136840"/>
                      <a:ext cx="65160" cy="46080"/>
                      <a:chOff x="4150440" y="5136840"/>
                      <a:chExt cx="65160" cy="4608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4175640" y="5136840"/>
                        <a:ext cx="252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2">
                            <a:moveTo>
                              <a:pt x="0" y="3"/>
                            </a:moveTo>
                            <a:lnTo>
                              <a:pt x="24" y="0"/>
                            </a:lnTo>
                            <a:lnTo>
                              <a:pt x="40" y="2"/>
                            </a:lnTo>
                            <a:lnTo>
                              <a:pt x="46" y="6"/>
                            </a:lnTo>
                            <a:lnTo>
                              <a:pt x="52" y="7"/>
                            </a:lnTo>
                            <a:lnTo>
                              <a:pt x="48" y="12"/>
                            </a:lnTo>
                            <a:lnTo>
                              <a:pt x="44" y="17"/>
                            </a:lnTo>
                            <a:lnTo>
                              <a:pt x="46" y="22"/>
                            </a:lnTo>
                            <a:lnTo>
                              <a:pt x="30" y="19"/>
                            </a:lnTo>
                            <a:lnTo>
                              <a:pt x="13" y="20"/>
                            </a:lnTo>
                            <a:lnTo>
                              <a:pt x="22" y="16"/>
                            </a:lnTo>
                            <a:lnTo>
                              <a:pt x="12" y="12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4209480" y="515916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0" y="0"/>
                            </a:moveTo>
                            <a:lnTo>
                              <a:pt x="15" y="0"/>
                            </a:lnTo>
                            <a:lnTo>
                              <a:pt x="13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4150440" y="5159160"/>
                        <a:ext cx="417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61">
                            <a:moveTo>
                              <a:pt x="6" y="7"/>
                            </a:moveTo>
                            <a:lnTo>
                              <a:pt x="15" y="6"/>
                            </a:lnTo>
                            <a:lnTo>
                              <a:pt x="33" y="39"/>
                            </a:lnTo>
                            <a:lnTo>
                              <a:pt x="78" y="61"/>
                            </a:lnTo>
                            <a:lnTo>
                              <a:pt x="32" y="46"/>
                            </a:lnTo>
                            <a:lnTo>
                              <a:pt x="14" y="27"/>
                            </a:lnTo>
                            <a:lnTo>
                              <a:pt x="4" y="35"/>
                            </a:lnTo>
                            <a:lnTo>
                              <a:pt x="0" y="0"/>
                            </a:lnTo>
                            <a:lnTo>
                              <a:pt x="6" y="7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1" name=""/>
                  <p:cNvSpPr/>
                  <p:nvPr/>
                </p:nvSpPr>
                <p:spPr>
                  <a:xfrm>
                    <a:off x="4140000" y="5103720"/>
                    <a:ext cx="86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54">
                        <a:moveTo>
                          <a:pt x="24" y="154"/>
                        </a:moveTo>
                        <a:lnTo>
                          <a:pt x="11" y="137"/>
                        </a:lnTo>
                        <a:lnTo>
                          <a:pt x="5" y="114"/>
                        </a:lnTo>
                        <a:lnTo>
                          <a:pt x="0" y="82"/>
                        </a:lnTo>
                        <a:lnTo>
                          <a:pt x="0" y="51"/>
                        </a:lnTo>
                        <a:lnTo>
                          <a:pt x="6" y="27"/>
                        </a:lnTo>
                        <a:lnTo>
                          <a:pt x="22" y="11"/>
                        </a:lnTo>
                        <a:lnTo>
                          <a:pt x="39" y="3"/>
                        </a:lnTo>
                        <a:lnTo>
                          <a:pt x="71" y="0"/>
                        </a:lnTo>
                        <a:lnTo>
                          <a:pt x="113" y="2"/>
                        </a:lnTo>
                        <a:lnTo>
                          <a:pt x="139" y="11"/>
                        </a:lnTo>
                        <a:lnTo>
                          <a:pt x="155" y="14"/>
                        </a:lnTo>
                        <a:lnTo>
                          <a:pt x="163" y="14"/>
                        </a:lnTo>
                        <a:lnTo>
                          <a:pt x="153" y="24"/>
                        </a:lnTo>
                        <a:lnTo>
                          <a:pt x="147" y="40"/>
                        </a:lnTo>
                        <a:lnTo>
                          <a:pt x="147" y="46"/>
                        </a:lnTo>
                        <a:lnTo>
                          <a:pt x="133" y="37"/>
                        </a:lnTo>
                        <a:lnTo>
                          <a:pt x="113" y="36"/>
                        </a:lnTo>
                        <a:lnTo>
                          <a:pt x="90" y="33"/>
                        </a:lnTo>
                        <a:lnTo>
                          <a:pt x="74" y="33"/>
                        </a:lnTo>
                        <a:lnTo>
                          <a:pt x="55" y="33"/>
                        </a:lnTo>
                        <a:lnTo>
                          <a:pt x="64" y="38"/>
                        </a:lnTo>
                        <a:lnTo>
                          <a:pt x="64" y="47"/>
                        </a:lnTo>
                        <a:lnTo>
                          <a:pt x="59" y="59"/>
                        </a:lnTo>
                        <a:lnTo>
                          <a:pt x="49" y="74"/>
                        </a:lnTo>
                        <a:lnTo>
                          <a:pt x="44" y="93"/>
                        </a:lnTo>
                        <a:lnTo>
                          <a:pt x="44" y="114"/>
                        </a:lnTo>
                        <a:lnTo>
                          <a:pt x="30" y="101"/>
                        </a:lnTo>
                        <a:lnTo>
                          <a:pt x="28" y="92"/>
                        </a:lnTo>
                        <a:lnTo>
                          <a:pt x="20" y="88"/>
                        </a:lnTo>
                        <a:lnTo>
                          <a:pt x="10" y="90"/>
                        </a:lnTo>
                        <a:lnTo>
                          <a:pt x="8" y="95"/>
                        </a:lnTo>
                        <a:lnTo>
                          <a:pt x="11" y="124"/>
                        </a:lnTo>
                        <a:lnTo>
                          <a:pt x="19" y="137"/>
                        </a:lnTo>
                        <a:lnTo>
                          <a:pt x="24" y="154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4212360" y="5321160"/>
                  <a:ext cx="74160" cy="31680"/>
                </a:xfrm>
                <a:custGeom>
                  <a:avLst/>
                  <a:gdLst/>
                  <a:ahLst/>
                  <a:rect l="l" t="t" r="r" b="b"/>
                  <a:pathLst>
                    <a:path w="140" h="78">
                      <a:moveTo>
                        <a:pt x="140" y="69"/>
                      </a:moveTo>
                      <a:lnTo>
                        <a:pt x="108" y="78"/>
                      </a:lnTo>
                      <a:lnTo>
                        <a:pt x="61" y="71"/>
                      </a:lnTo>
                      <a:lnTo>
                        <a:pt x="23" y="59"/>
                      </a:lnTo>
                      <a:lnTo>
                        <a:pt x="0" y="14"/>
                      </a:lnTo>
                      <a:lnTo>
                        <a:pt x="65" y="19"/>
                      </a:lnTo>
                      <a:lnTo>
                        <a:pt x="59" y="0"/>
                      </a:lnTo>
                      <a:lnTo>
                        <a:pt x="88" y="4"/>
                      </a:lnTo>
                      <a:lnTo>
                        <a:pt x="117" y="19"/>
                      </a:lnTo>
                      <a:lnTo>
                        <a:pt x="129" y="26"/>
                      </a:lnTo>
                      <a:lnTo>
                        <a:pt x="140" y="69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4557600" y="5448240"/>
              <a:ext cx="25560" cy="5076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6" y="1"/>
                  </a:moveTo>
                  <a:lnTo>
                    <a:pt x="48" y="69"/>
                  </a:lnTo>
                  <a:lnTo>
                    <a:pt x="23" y="111"/>
                  </a:lnTo>
                  <a:lnTo>
                    <a:pt x="10" y="124"/>
                  </a:lnTo>
                  <a:lnTo>
                    <a:pt x="13" y="65"/>
                  </a:lnTo>
                  <a:lnTo>
                    <a:pt x="7" y="71"/>
                  </a:lnTo>
                  <a:lnTo>
                    <a:pt x="1" y="91"/>
                  </a:lnTo>
                  <a:lnTo>
                    <a:pt x="0" y="69"/>
                  </a:lnTo>
                  <a:lnTo>
                    <a:pt x="6" y="32"/>
                  </a:lnTo>
                  <a:lnTo>
                    <a:pt x="22" y="0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7640" y="5435280"/>
              <a:ext cx="29880" cy="47880"/>
            </a:xfrm>
            <a:custGeom>
              <a:avLst/>
              <a:gdLst/>
              <a:ahLst/>
              <a:rect l="l" t="t" r="r" b="b"/>
              <a:pathLst>
                <a:path w="53" h="118">
                  <a:moveTo>
                    <a:pt x="37" y="0"/>
                  </a:moveTo>
                  <a:lnTo>
                    <a:pt x="53" y="62"/>
                  </a:lnTo>
                  <a:lnTo>
                    <a:pt x="25" y="118"/>
                  </a:lnTo>
                  <a:lnTo>
                    <a:pt x="16" y="112"/>
                  </a:lnTo>
                  <a:lnTo>
                    <a:pt x="0" y="106"/>
                  </a:lnTo>
                  <a:lnTo>
                    <a:pt x="6" y="88"/>
                  </a:lnTo>
                  <a:lnTo>
                    <a:pt x="8" y="66"/>
                  </a:lnTo>
                  <a:lnTo>
                    <a:pt x="0" y="44"/>
                  </a:lnTo>
                  <a:lnTo>
                    <a:pt x="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664160" y="5143320"/>
              <a:ext cx="173880" cy="596880"/>
              <a:chOff x="4664160" y="5143320"/>
              <a:chExt cx="173880" cy="596880"/>
            </a:xfrm>
          </p:grpSpPr>
          <p:sp>
            <p:nvSpPr>
              <p:cNvPr id="226" name=""/>
              <p:cNvSpPr/>
              <p:nvPr/>
            </p:nvSpPr>
            <p:spPr>
              <a:xfrm>
                <a:off x="4700160" y="5547960"/>
                <a:ext cx="91080" cy="174960"/>
              </a:xfrm>
              <a:custGeom>
                <a:avLst/>
                <a:gdLst/>
                <a:ahLst/>
                <a:rect l="l" t="t" r="r" b="b"/>
                <a:pathLst>
                  <a:path w="174" h="438">
                    <a:moveTo>
                      <a:pt x="38" y="0"/>
                    </a:moveTo>
                    <a:lnTo>
                      <a:pt x="34" y="51"/>
                    </a:lnTo>
                    <a:lnTo>
                      <a:pt x="31" y="111"/>
                    </a:lnTo>
                    <a:lnTo>
                      <a:pt x="31" y="169"/>
                    </a:lnTo>
                    <a:lnTo>
                      <a:pt x="34" y="223"/>
                    </a:lnTo>
                    <a:lnTo>
                      <a:pt x="35" y="266"/>
                    </a:lnTo>
                    <a:lnTo>
                      <a:pt x="35" y="322"/>
                    </a:lnTo>
                    <a:lnTo>
                      <a:pt x="32" y="344"/>
                    </a:lnTo>
                    <a:lnTo>
                      <a:pt x="8" y="412"/>
                    </a:lnTo>
                    <a:lnTo>
                      <a:pt x="0" y="437"/>
                    </a:lnTo>
                    <a:lnTo>
                      <a:pt x="37" y="438"/>
                    </a:lnTo>
                    <a:lnTo>
                      <a:pt x="53" y="408"/>
                    </a:lnTo>
                    <a:lnTo>
                      <a:pt x="64" y="373"/>
                    </a:lnTo>
                    <a:lnTo>
                      <a:pt x="71" y="318"/>
                    </a:lnTo>
                    <a:lnTo>
                      <a:pt x="92" y="169"/>
                    </a:lnTo>
                    <a:lnTo>
                      <a:pt x="100" y="127"/>
                    </a:lnTo>
                    <a:lnTo>
                      <a:pt x="94" y="208"/>
                    </a:lnTo>
                    <a:lnTo>
                      <a:pt x="101" y="258"/>
                    </a:lnTo>
                    <a:lnTo>
                      <a:pt x="103" y="304"/>
                    </a:lnTo>
                    <a:lnTo>
                      <a:pt x="99" y="346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8" y="346"/>
                    </a:lnTo>
                    <a:lnTo>
                      <a:pt x="155" y="195"/>
                    </a:lnTo>
                    <a:lnTo>
                      <a:pt x="161" y="124"/>
                    </a:lnTo>
                    <a:lnTo>
                      <a:pt x="174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665960" y="5332320"/>
                <a:ext cx="167400" cy="172800"/>
                <a:chOff x="4665960" y="5332320"/>
                <a:chExt cx="167400" cy="172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665960" y="5337000"/>
                  <a:ext cx="46440" cy="168120"/>
                </a:xfrm>
                <a:custGeom>
                  <a:avLst/>
                  <a:gdLst/>
                  <a:ahLst/>
                  <a:rect l="l" t="t" r="r" b="b"/>
                  <a:pathLst>
                    <a:path w="86" h="424">
                      <a:moveTo>
                        <a:pt x="5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6" y="342"/>
                      </a:lnTo>
                      <a:lnTo>
                        <a:pt x="48" y="411"/>
                      </a:lnTo>
                      <a:lnTo>
                        <a:pt x="57" y="424"/>
                      </a:lnTo>
                      <a:lnTo>
                        <a:pt x="64" y="405"/>
                      </a:lnTo>
                      <a:lnTo>
                        <a:pt x="67" y="356"/>
                      </a:lnTo>
                      <a:lnTo>
                        <a:pt x="86" y="343"/>
                      </a:lnTo>
                      <a:lnTo>
                        <a:pt x="60" y="304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4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795200" y="5332320"/>
                  <a:ext cx="38160" cy="156960"/>
                </a:xfrm>
                <a:custGeom>
                  <a:avLst/>
                  <a:gdLst/>
                  <a:ahLst/>
                  <a:rect l="l" t="t" r="r" b="b"/>
                  <a:pathLst>
                    <a:path w="76" h="396">
                      <a:moveTo>
                        <a:pt x="22" y="11"/>
                      </a:moveTo>
                      <a:lnTo>
                        <a:pt x="33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8" y="329"/>
                      </a:lnTo>
                      <a:lnTo>
                        <a:pt x="0" y="366"/>
                      </a:lnTo>
                      <a:lnTo>
                        <a:pt x="7" y="396"/>
                      </a:lnTo>
                      <a:lnTo>
                        <a:pt x="31" y="348"/>
                      </a:lnTo>
                      <a:lnTo>
                        <a:pt x="54" y="260"/>
                      </a:lnTo>
                      <a:lnTo>
                        <a:pt x="76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4727520" y="5154480"/>
                <a:ext cx="57240" cy="7920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6" y="200"/>
                    </a:moveTo>
                    <a:lnTo>
                      <a:pt x="16" y="170"/>
                    </a:lnTo>
                    <a:lnTo>
                      <a:pt x="4" y="134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67"/>
                    </a:lnTo>
                    <a:lnTo>
                      <a:pt x="4" y="46"/>
                    </a:lnTo>
                    <a:lnTo>
                      <a:pt x="9" y="32"/>
                    </a:lnTo>
                    <a:lnTo>
                      <a:pt x="16" y="19"/>
                    </a:lnTo>
                    <a:lnTo>
                      <a:pt x="26" y="9"/>
                    </a:lnTo>
                    <a:lnTo>
                      <a:pt x="41" y="1"/>
                    </a:lnTo>
                    <a:lnTo>
                      <a:pt x="58" y="0"/>
                    </a:lnTo>
                    <a:lnTo>
                      <a:pt x="74" y="3"/>
                    </a:lnTo>
                    <a:lnTo>
                      <a:pt x="86" y="8"/>
                    </a:lnTo>
                    <a:lnTo>
                      <a:pt x="96" y="19"/>
                    </a:lnTo>
                    <a:lnTo>
                      <a:pt x="104" y="32"/>
                    </a:lnTo>
                    <a:lnTo>
                      <a:pt x="109" y="47"/>
                    </a:lnTo>
                    <a:lnTo>
                      <a:pt x="108" y="81"/>
                    </a:lnTo>
                    <a:lnTo>
                      <a:pt x="104" y="108"/>
                    </a:lnTo>
                    <a:lnTo>
                      <a:pt x="99" y="139"/>
                    </a:lnTo>
                    <a:lnTo>
                      <a:pt x="91" y="154"/>
                    </a:lnTo>
                    <a:lnTo>
                      <a:pt x="83" y="167"/>
                    </a:lnTo>
                    <a:lnTo>
                      <a:pt x="79" y="175"/>
                    </a:lnTo>
                    <a:lnTo>
                      <a:pt x="75" y="200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01960" y="5143320"/>
                <a:ext cx="106560" cy="65160"/>
              </a:xfrm>
              <a:custGeom>
                <a:avLst/>
                <a:gdLst/>
                <a:ahLst/>
                <a:rect l="l" t="t" r="r" b="b"/>
                <a:pathLst>
                  <a:path w="199" h="166">
                    <a:moveTo>
                      <a:pt x="20" y="162"/>
                    </a:moveTo>
                    <a:lnTo>
                      <a:pt x="12" y="166"/>
                    </a:lnTo>
                    <a:lnTo>
                      <a:pt x="0" y="160"/>
                    </a:lnTo>
                    <a:lnTo>
                      <a:pt x="5" y="133"/>
                    </a:lnTo>
                    <a:lnTo>
                      <a:pt x="12" y="101"/>
                    </a:lnTo>
                    <a:lnTo>
                      <a:pt x="25" y="64"/>
                    </a:lnTo>
                    <a:lnTo>
                      <a:pt x="32" y="44"/>
                    </a:lnTo>
                    <a:lnTo>
                      <a:pt x="40" y="26"/>
                    </a:lnTo>
                    <a:lnTo>
                      <a:pt x="57" y="10"/>
                    </a:lnTo>
                    <a:lnTo>
                      <a:pt x="88" y="4"/>
                    </a:lnTo>
                    <a:lnTo>
                      <a:pt x="114" y="0"/>
                    </a:lnTo>
                    <a:lnTo>
                      <a:pt x="153" y="16"/>
                    </a:lnTo>
                    <a:lnTo>
                      <a:pt x="168" y="35"/>
                    </a:lnTo>
                    <a:lnTo>
                      <a:pt x="181" y="68"/>
                    </a:lnTo>
                    <a:lnTo>
                      <a:pt x="194" y="107"/>
                    </a:lnTo>
                    <a:lnTo>
                      <a:pt x="199" y="141"/>
                    </a:lnTo>
                    <a:lnTo>
                      <a:pt x="197" y="155"/>
                    </a:lnTo>
                    <a:lnTo>
                      <a:pt x="179" y="157"/>
                    </a:lnTo>
                    <a:lnTo>
                      <a:pt x="165" y="160"/>
                    </a:lnTo>
                    <a:lnTo>
                      <a:pt x="145" y="163"/>
                    </a:lnTo>
                    <a:lnTo>
                      <a:pt x="151" y="130"/>
                    </a:lnTo>
                    <a:lnTo>
                      <a:pt x="151" y="111"/>
                    </a:lnTo>
                    <a:lnTo>
                      <a:pt x="150" y="93"/>
                    </a:lnTo>
                    <a:lnTo>
                      <a:pt x="151" y="69"/>
                    </a:lnTo>
                    <a:lnTo>
                      <a:pt x="128" y="60"/>
                    </a:lnTo>
                    <a:lnTo>
                      <a:pt x="122" y="39"/>
                    </a:lnTo>
                    <a:lnTo>
                      <a:pt x="102" y="53"/>
                    </a:lnTo>
                    <a:lnTo>
                      <a:pt x="75" y="79"/>
                    </a:lnTo>
                    <a:lnTo>
                      <a:pt x="86" y="66"/>
                    </a:lnTo>
                    <a:lnTo>
                      <a:pt x="63" y="86"/>
                    </a:lnTo>
                    <a:lnTo>
                      <a:pt x="63" y="117"/>
                    </a:lnTo>
                    <a:lnTo>
                      <a:pt x="69" y="132"/>
                    </a:lnTo>
                    <a:lnTo>
                      <a:pt x="75" y="145"/>
                    </a:lnTo>
                    <a:lnTo>
                      <a:pt x="81" y="165"/>
                    </a:lnTo>
                    <a:lnTo>
                      <a:pt x="57" y="165"/>
                    </a:lnTo>
                    <a:lnTo>
                      <a:pt x="68" y="165"/>
                    </a:lnTo>
                    <a:lnTo>
                      <a:pt x="34" y="160"/>
                    </a:lnTo>
                    <a:lnTo>
                      <a:pt x="32" y="160"/>
                    </a:lnTo>
                    <a:lnTo>
                      <a:pt x="20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64160" y="5233680"/>
                <a:ext cx="173880" cy="320760"/>
              </a:xfrm>
              <a:custGeom>
                <a:avLst/>
                <a:gdLst/>
                <a:ahLst/>
                <a:rect l="l" t="t" r="r" b="b"/>
                <a:pathLst>
                  <a:path w="328" h="809">
                    <a:moveTo>
                      <a:pt x="132" y="0"/>
                    </a:moveTo>
                    <a:lnTo>
                      <a:pt x="52" y="45"/>
                    </a:lnTo>
                    <a:lnTo>
                      <a:pt x="42" y="59"/>
                    </a:lnTo>
                    <a:lnTo>
                      <a:pt x="0" y="264"/>
                    </a:lnTo>
                    <a:lnTo>
                      <a:pt x="62" y="273"/>
                    </a:lnTo>
                    <a:lnTo>
                      <a:pt x="71" y="221"/>
                    </a:lnTo>
                    <a:lnTo>
                      <a:pt x="95" y="330"/>
                    </a:lnTo>
                    <a:lnTo>
                      <a:pt x="55" y="572"/>
                    </a:lnTo>
                    <a:lnTo>
                      <a:pt x="75" y="806"/>
                    </a:lnTo>
                    <a:lnTo>
                      <a:pt x="99" y="809"/>
                    </a:lnTo>
                    <a:lnTo>
                      <a:pt x="133" y="805"/>
                    </a:lnTo>
                    <a:lnTo>
                      <a:pt x="183" y="802"/>
                    </a:lnTo>
                    <a:lnTo>
                      <a:pt x="226" y="802"/>
                    </a:lnTo>
                    <a:lnTo>
                      <a:pt x="262" y="803"/>
                    </a:lnTo>
                    <a:lnTo>
                      <a:pt x="276" y="466"/>
                    </a:lnTo>
                    <a:lnTo>
                      <a:pt x="240" y="318"/>
                    </a:lnTo>
                    <a:lnTo>
                      <a:pt x="254" y="236"/>
                    </a:lnTo>
                    <a:lnTo>
                      <a:pt x="262" y="266"/>
                    </a:lnTo>
                    <a:lnTo>
                      <a:pt x="328" y="249"/>
                    </a:lnTo>
                    <a:lnTo>
                      <a:pt x="278" y="56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715280" y="5233680"/>
                <a:ext cx="75600" cy="130320"/>
                <a:chOff x="4715280" y="5233680"/>
                <a:chExt cx="75600" cy="130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31840" y="5233680"/>
                  <a:ext cx="40320" cy="15840"/>
                </a:xfrm>
                <a:custGeom>
                  <a:avLst/>
                  <a:gdLst/>
                  <a:ahLst/>
                  <a:rect l="l" t="t" r="r" b="b"/>
                  <a:pathLst>
                    <a:path w="73" h="39">
                      <a:moveTo>
                        <a:pt x="0" y="4"/>
                      </a:moveTo>
                      <a:lnTo>
                        <a:pt x="16" y="39"/>
                      </a:lnTo>
                      <a:lnTo>
                        <a:pt x="38" y="0"/>
                      </a:lnTo>
                      <a:lnTo>
                        <a:pt x="59" y="39"/>
                      </a:lnTo>
                      <a:lnTo>
                        <a:pt x="73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53080" y="5236920"/>
                  <a:ext cx="2160" cy="125640"/>
                </a:xfrm>
                <a:custGeom>
                  <a:avLst/>
                  <a:gdLst/>
                  <a:ahLst/>
                  <a:rect l="l" t="t" r="r" b="b"/>
                  <a:pathLst>
                    <a:path w="5" h="316">
                      <a:moveTo>
                        <a:pt x="0" y="0"/>
                      </a:moveTo>
                      <a:lnTo>
                        <a:pt x="5" y="131"/>
                      </a:lnTo>
                      <a:lnTo>
                        <a:pt x="5" y="3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15280" y="5362560"/>
                  <a:ext cx="75600" cy="1440"/>
                </a:xfrm>
                <a:custGeom>
                  <a:avLst/>
                  <a:gdLst/>
                  <a:ahLst/>
                  <a:rect l="l" t="t" r="r" b="b"/>
                  <a:pathLst>
                    <a:path w="142" h="6">
                      <a:moveTo>
                        <a:pt x="0" y="6"/>
                      </a:moveTo>
                      <a:lnTo>
                        <a:pt x="77" y="0"/>
                      </a:lnTo>
                      <a:lnTo>
                        <a:pt x="142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695840" y="5688000"/>
                <a:ext cx="101520" cy="52200"/>
                <a:chOff x="4695840" y="5688000"/>
                <a:chExt cx="101520" cy="52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695840" y="5692680"/>
                  <a:ext cx="40320" cy="4752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14" y="59"/>
                      </a:moveTo>
                      <a:lnTo>
                        <a:pt x="3" y="77"/>
                      </a:lnTo>
                      <a:lnTo>
                        <a:pt x="0" y="91"/>
                      </a:lnTo>
                      <a:lnTo>
                        <a:pt x="0" y="102"/>
                      </a:lnTo>
                      <a:lnTo>
                        <a:pt x="2" y="110"/>
                      </a:lnTo>
                      <a:lnTo>
                        <a:pt x="8" y="116"/>
                      </a:lnTo>
                      <a:lnTo>
                        <a:pt x="17" y="120"/>
                      </a:lnTo>
                      <a:lnTo>
                        <a:pt x="30" y="118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1" y="85"/>
                      </a:lnTo>
                      <a:lnTo>
                        <a:pt x="67" y="53"/>
                      </a:lnTo>
                      <a:lnTo>
                        <a:pt x="75" y="20"/>
                      </a:lnTo>
                      <a:lnTo>
                        <a:pt x="74" y="0"/>
                      </a:lnTo>
                      <a:lnTo>
                        <a:pt x="59" y="46"/>
                      </a:lnTo>
                      <a:lnTo>
                        <a:pt x="46" y="75"/>
                      </a:lnTo>
                      <a:lnTo>
                        <a:pt x="27" y="75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920" y="5688000"/>
                  <a:ext cx="46440" cy="52200"/>
                </a:xfrm>
                <a:custGeom>
                  <a:avLst/>
                  <a:gdLst/>
                  <a:ahLst/>
                  <a:rect l="l" t="t" r="r" b="b"/>
                  <a:pathLst>
                    <a:path w="85" h="130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0" y="46"/>
                      </a:lnTo>
                      <a:lnTo>
                        <a:pt x="18" y="73"/>
                      </a:lnTo>
                      <a:lnTo>
                        <a:pt x="26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5" y="128"/>
                      </a:lnTo>
                      <a:lnTo>
                        <a:pt x="68" y="130"/>
                      </a:lnTo>
                      <a:lnTo>
                        <a:pt x="75" y="126"/>
                      </a:lnTo>
                      <a:lnTo>
                        <a:pt x="81" y="123"/>
                      </a:lnTo>
                      <a:lnTo>
                        <a:pt x="85" y="110"/>
                      </a:lnTo>
                      <a:lnTo>
                        <a:pt x="82" y="93"/>
                      </a:lnTo>
                      <a:lnTo>
                        <a:pt x="75" y="72"/>
                      </a:lnTo>
                      <a:lnTo>
                        <a:pt x="69" y="61"/>
                      </a:lnTo>
                      <a:lnTo>
                        <a:pt x="67" y="71"/>
                      </a:lnTo>
                      <a:lnTo>
                        <a:pt x="64" y="75"/>
                      </a:lnTo>
                      <a:lnTo>
                        <a:pt x="53" y="79"/>
                      </a:lnTo>
                      <a:lnTo>
                        <a:pt x="45" y="80"/>
                      </a:lnTo>
                      <a:lnTo>
                        <a:pt x="28" y="76"/>
                      </a:lnTo>
                      <a:lnTo>
                        <a:pt x="10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51280" y="520380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6"/>
                    </a:moveTo>
                    <a:lnTo>
                      <a:pt x="9" y="0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8" y="7"/>
                    </a:lnTo>
                  </a:path>
                </a:pathLst>
              </a:custGeom>
              <a:noFill/>
              <a:ln w="3240">
                <a:solidFill>
                  <a:srgbClr val="ff00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382920" y="5130720"/>
              <a:ext cx="171720" cy="592200"/>
              <a:chOff x="3382920" y="5130720"/>
              <a:chExt cx="171720" cy="5922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385080" y="5314680"/>
                <a:ext cx="167040" cy="173160"/>
                <a:chOff x="3385080" y="5314680"/>
                <a:chExt cx="167040" cy="173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385080" y="5319360"/>
                  <a:ext cx="4392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7"/>
                      </a:lnTo>
                      <a:lnTo>
                        <a:pt x="14" y="228"/>
                      </a:lnTo>
                      <a:lnTo>
                        <a:pt x="26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4" y="406"/>
                      </a:lnTo>
                      <a:lnTo>
                        <a:pt x="67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7"/>
                      </a:lnTo>
                      <a:lnTo>
                        <a:pt x="54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511800" y="5314680"/>
                  <a:ext cx="40320" cy="15732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2" y="11"/>
                      </a:moveTo>
                      <a:lnTo>
                        <a:pt x="32" y="83"/>
                      </a:lnTo>
                      <a:lnTo>
                        <a:pt x="31" y="252"/>
                      </a:lnTo>
                      <a:lnTo>
                        <a:pt x="0" y="324"/>
                      </a:lnTo>
                      <a:lnTo>
                        <a:pt x="8" y="330"/>
                      </a:lnTo>
                      <a:lnTo>
                        <a:pt x="0" y="367"/>
                      </a:lnTo>
                      <a:lnTo>
                        <a:pt x="7" y="397"/>
                      </a:lnTo>
                      <a:lnTo>
                        <a:pt x="31" y="348"/>
                      </a:lnTo>
                      <a:lnTo>
                        <a:pt x="54" y="261"/>
                      </a:lnTo>
                      <a:lnTo>
                        <a:pt x="75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3382920" y="5214600"/>
                <a:ext cx="171720" cy="255600"/>
              </a:xfrm>
              <a:custGeom>
                <a:avLst/>
                <a:gdLst/>
                <a:ahLst/>
                <a:rect l="l" t="t" r="r" b="b"/>
                <a:pathLst>
                  <a:path w="327" h="643">
                    <a:moveTo>
                      <a:pt x="132" y="0"/>
                    </a:moveTo>
                    <a:lnTo>
                      <a:pt x="51" y="43"/>
                    </a:lnTo>
                    <a:lnTo>
                      <a:pt x="42" y="58"/>
                    </a:lnTo>
                    <a:lnTo>
                      <a:pt x="0" y="264"/>
                    </a:lnTo>
                    <a:lnTo>
                      <a:pt x="6" y="482"/>
                    </a:lnTo>
                    <a:lnTo>
                      <a:pt x="58" y="466"/>
                    </a:lnTo>
                    <a:lnTo>
                      <a:pt x="62" y="272"/>
                    </a:lnTo>
                    <a:lnTo>
                      <a:pt x="71" y="220"/>
                    </a:lnTo>
                    <a:lnTo>
                      <a:pt x="72" y="333"/>
                    </a:lnTo>
                    <a:lnTo>
                      <a:pt x="58" y="529"/>
                    </a:lnTo>
                    <a:lnTo>
                      <a:pt x="82" y="530"/>
                    </a:lnTo>
                    <a:lnTo>
                      <a:pt x="79" y="597"/>
                    </a:lnTo>
                    <a:lnTo>
                      <a:pt x="82" y="636"/>
                    </a:lnTo>
                    <a:lnTo>
                      <a:pt x="167" y="643"/>
                    </a:lnTo>
                    <a:lnTo>
                      <a:pt x="235" y="627"/>
                    </a:lnTo>
                    <a:lnTo>
                      <a:pt x="275" y="624"/>
                    </a:lnTo>
                    <a:lnTo>
                      <a:pt x="271" y="517"/>
                    </a:lnTo>
                    <a:lnTo>
                      <a:pt x="276" y="466"/>
                    </a:lnTo>
                    <a:lnTo>
                      <a:pt x="256" y="314"/>
                    </a:lnTo>
                    <a:lnTo>
                      <a:pt x="254" y="235"/>
                    </a:lnTo>
                    <a:lnTo>
                      <a:pt x="262" y="266"/>
                    </a:lnTo>
                    <a:lnTo>
                      <a:pt x="271" y="440"/>
                    </a:lnTo>
                    <a:lnTo>
                      <a:pt x="313" y="449"/>
                    </a:lnTo>
                    <a:lnTo>
                      <a:pt x="327" y="248"/>
                    </a:lnTo>
                    <a:lnTo>
                      <a:pt x="277" y="55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9fbfff"/>
              </a:solidFill>
              <a:ln w="3240">
                <a:solidFill>
                  <a:srgbClr val="9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3412440" y="5130720"/>
                <a:ext cx="107280" cy="592200"/>
                <a:chOff x="3412440" y="5130720"/>
                <a:chExt cx="107280" cy="592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416760" y="5462280"/>
                  <a:ext cx="101160" cy="241560"/>
                </a:xfrm>
                <a:custGeom>
                  <a:avLst/>
                  <a:gdLst/>
                  <a:ahLst/>
                  <a:rect l="l" t="t" r="r" b="b"/>
                  <a:pathLst>
                    <a:path w="191" h="611">
                      <a:moveTo>
                        <a:pt x="26" y="10"/>
                      </a:moveTo>
                      <a:lnTo>
                        <a:pt x="35" y="224"/>
                      </a:lnTo>
                      <a:lnTo>
                        <a:pt x="32" y="282"/>
                      </a:lnTo>
                      <a:lnTo>
                        <a:pt x="32" y="342"/>
                      </a:lnTo>
                      <a:lnTo>
                        <a:pt x="35" y="396"/>
                      </a:lnTo>
                      <a:lnTo>
                        <a:pt x="36" y="439"/>
                      </a:lnTo>
                      <a:lnTo>
                        <a:pt x="36" y="494"/>
                      </a:lnTo>
                      <a:lnTo>
                        <a:pt x="33" y="517"/>
                      </a:lnTo>
                      <a:lnTo>
                        <a:pt x="9" y="585"/>
                      </a:lnTo>
                      <a:lnTo>
                        <a:pt x="0" y="610"/>
                      </a:lnTo>
                      <a:lnTo>
                        <a:pt x="38" y="611"/>
                      </a:lnTo>
                      <a:lnTo>
                        <a:pt x="54" y="581"/>
                      </a:lnTo>
                      <a:lnTo>
                        <a:pt x="65" y="546"/>
                      </a:lnTo>
                      <a:lnTo>
                        <a:pt x="71" y="491"/>
                      </a:lnTo>
                      <a:lnTo>
                        <a:pt x="93" y="342"/>
                      </a:lnTo>
                      <a:lnTo>
                        <a:pt x="101" y="300"/>
                      </a:lnTo>
                      <a:lnTo>
                        <a:pt x="95" y="381"/>
                      </a:lnTo>
                      <a:lnTo>
                        <a:pt x="102" y="430"/>
                      </a:lnTo>
                      <a:lnTo>
                        <a:pt x="104" y="477"/>
                      </a:lnTo>
                      <a:lnTo>
                        <a:pt x="99" y="519"/>
                      </a:lnTo>
                      <a:lnTo>
                        <a:pt x="103" y="540"/>
                      </a:lnTo>
                      <a:lnTo>
                        <a:pt x="126" y="603"/>
                      </a:lnTo>
                      <a:lnTo>
                        <a:pt x="148" y="604"/>
                      </a:lnTo>
                      <a:lnTo>
                        <a:pt x="159" y="604"/>
                      </a:lnTo>
                      <a:lnTo>
                        <a:pt x="172" y="591"/>
                      </a:lnTo>
                      <a:lnTo>
                        <a:pt x="139" y="519"/>
                      </a:lnTo>
                      <a:lnTo>
                        <a:pt x="155" y="368"/>
                      </a:lnTo>
                      <a:lnTo>
                        <a:pt x="162" y="295"/>
                      </a:lnTo>
                      <a:lnTo>
                        <a:pt x="191" y="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3433320" y="5216400"/>
                  <a:ext cx="73440" cy="129960"/>
                  <a:chOff x="3433320" y="5216400"/>
                  <a:chExt cx="73440" cy="1299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449880" y="5216400"/>
                    <a:ext cx="38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8">
                        <a:moveTo>
                          <a:pt x="0" y="3"/>
                        </a:moveTo>
                        <a:lnTo>
                          <a:pt x="16" y="38"/>
                        </a:lnTo>
                        <a:lnTo>
                          <a:pt x="37" y="0"/>
                        </a:lnTo>
                        <a:lnTo>
                          <a:pt x="59" y="38"/>
                        </a:lnTo>
                        <a:lnTo>
                          <a:pt x="73" y="4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468960" y="5219640"/>
                    <a:ext cx="1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15">
                        <a:moveTo>
                          <a:pt x="0" y="0"/>
                        </a:moveTo>
                        <a:lnTo>
                          <a:pt x="6" y="130"/>
                        </a:lnTo>
                        <a:lnTo>
                          <a:pt x="6" y="315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433320" y="5343480"/>
                    <a:ext cx="73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">
                        <a:moveTo>
                          <a:pt x="0" y="5"/>
                        </a:moveTo>
                        <a:lnTo>
                          <a:pt x="77" y="0"/>
                        </a:lnTo>
                        <a:lnTo>
                          <a:pt x="142" y="2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3412440" y="5670360"/>
                  <a:ext cx="101520" cy="52560"/>
                  <a:chOff x="3412440" y="5670360"/>
                  <a:chExt cx="101520" cy="5256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3412440" y="5675040"/>
                    <a:ext cx="403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20">
                        <a:moveTo>
                          <a:pt x="14" y="60"/>
                        </a:moveTo>
                        <a:lnTo>
                          <a:pt x="3" y="78"/>
                        </a:lnTo>
                        <a:lnTo>
                          <a:pt x="0" y="92"/>
                        </a:lnTo>
                        <a:lnTo>
                          <a:pt x="0" y="103"/>
                        </a:lnTo>
                        <a:lnTo>
                          <a:pt x="2" y="110"/>
                        </a:lnTo>
                        <a:lnTo>
                          <a:pt x="7" y="117"/>
                        </a:lnTo>
                        <a:lnTo>
                          <a:pt x="17" y="120"/>
                        </a:lnTo>
                        <a:lnTo>
                          <a:pt x="30" y="119"/>
                        </a:lnTo>
                        <a:lnTo>
                          <a:pt x="43" y="114"/>
                        </a:lnTo>
                        <a:lnTo>
                          <a:pt x="53" y="102"/>
                        </a:lnTo>
                        <a:lnTo>
                          <a:pt x="61" y="86"/>
                        </a:lnTo>
                        <a:lnTo>
                          <a:pt x="67" y="53"/>
                        </a:lnTo>
                        <a:lnTo>
                          <a:pt x="75" y="21"/>
                        </a:lnTo>
                        <a:lnTo>
                          <a:pt x="74" y="0"/>
                        </a:lnTo>
                        <a:lnTo>
                          <a:pt x="59" y="47"/>
                        </a:lnTo>
                        <a:lnTo>
                          <a:pt x="46" y="76"/>
                        </a:lnTo>
                        <a:lnTo>
                          <a:pt x="27" y="76"/>
                        </a:lnTo>
                        <a:lnTo>
                          <a:pt x="11" y="74"/>
                        </a:lnTo>
                        <a:lnTo>
                          <a:pt x="14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469320" y="5670360"/>
                    <a:ext cx="446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31">
                        <a:moveTo>
                          <a:pt x="1" y="0"/>
                        </a:moveTo>
                        <a:lnTo>
                          <a:pt x="0" y="13"/>
                        </a:lnTo>
                        <a:lnTo>
                          <a:pt x="11" y="47"/>
                        </a:lnTo>
                        <a:lnTo>
                          <a:pt x="19" y="74"/>
                        </a:lnTo>
                        <a:lnTo>
                          <a:pt x="27" y="100"/>
                        </a:lnTo>
                        <a:lnTo>
                          <a:pt x="36" y="114"/>
                        </a:lnTo>
                        <a:lnTo>
                          <a:pt x="44" y="125"/>
                        </a:lnTo>
                        <a:lnTo>
                          <a:pt x="56" y="129"/>
                        </a:lnTo>
                        <a:lnTo>
                          <a:pt x="69" y="131"/>
                        </a:lnTo>
                        <a:lnTo>
                          <a:pt x="76" y="127"/>
                        </a:lnTo>
                        <a:lnTo>
                          <a:pt x="82" y="124"/>
                        </a:lnTo>
                        <a:lnTo>
                          <a:pt x="85" y="111"/>
                        </a:lnTo>
                        <a:lnTo>
                          <a:pt x="83" y="93"/>
                        </a:lnTo>
                        <a:lnTo>
                          <a:pt x="76" y="73"/>
                        </a:lnTo>
                        <a:lnTo>
                          <a:pt x="70" y="62"/>
                        </a:lnTo>
                        <a:lnTo>
                          <a:pt x="68" y="72"/>
                        </a:lnTo>
                        <a:lnTo>
                          <a:pt x="65" y="76"/>
                        </a:lnTo>
                        <a:lnTo>
                          <a:pt x="54" y="79"/>
                        </a:lnTo>
                        <a:lnTo>
                          <a:pt x="46" y="80"/>
                        </a:lnTo>
                        <a:lnTo>
                          <a:pt x="28" y="77"/>
                        </a:lnTo>
                        <a:lnTo>
                          <a:pt x="11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424680" y="5130720"/>
                  <a:ext cx="95040" cy="85680"/>
                  <a:chOff x="3424680" y="5130720"/>
                  <a:chExt cx="95040" cy="856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437280" y="5135400"/>
                    <a:ext cx="673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201">
                        <a:moveTo>
                          <a:pt x="32" y="200"/>
                        </a:moveTo>
                        <a:lnTo>
                          <a:pt x="32" y="170"/>
                        </a:lnTo>
                        <a:lnTo>
                          <a:pt x="22" y="147"/>
                        </a:lnTo>
                        <a:lnTo>
                          <a:pt x="11" y="131"/>
                        </a:lnTo>
                        <a:lnTo>
                          <a:pt x="7" y="105"/>
                        </a:lnTo>
                        <a:lnTo>
                          <a:pt x="1" y="93"/>
                        </a:lnTo>
                        <a:lnTo>
                          <a:pt x="0" y="63"/>
                        </a:lnTo>
                        <a:lnTo>
                          <a:pt x="11" y="28"/>
                        </a:lnTo>
                        <a:lnTo>
                          <a:pt x="31" y="10"/>
                        </a:lnTo>
                        <a:lnTo>
                          <a:pt x="54" y="0"/>
                        </a:lnTo>
                        <a:lnTo>
                          <a:pt x="81" y="0"/>
                        </a:lnTo>
                        <a:lnTo>
                          <a:pt x="105" y="9"/>
                        </a:lnTo>
                        <a:lnTo>
                          <a:pt x="124" y="26"/>
                        </a:lnTo>
                        <a:lnTo>
                          <a:pt x="131" y="51"/>
                        </a:lnTo>
                        <a:lnTo>
                          <a:pt x="131" y="77"/>
                        </a:lnTo>
                        <a:lnTo>
                          <a:pt x="128" y="102"/>
                        </a:lnTo>
                        <a:lnTo>
                          <a:pt x="115" y="132"/>
                        </a:lnTo>
                        <a:lnTo>
                          <a:pt x="109" y="144"/>
                        </a:lnTo>
                        <a:lnTo>
                          <a:pt x="103" y="157"/>
                        </a:lnTo>
                        <a:lnTo>
                          <a:pt x="101" y="171"/>
                        </a:lnTo>
                        <a:lnTo>
                          <a:pt x="96" y="201"/>
                        </a:lnTo>
                        <a:lnTo>
                          <a:pt x="32" y="200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424680" y="5130720"/>
                    <a:ext cx="95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57">
                        <a:moveTo>
                          <a:pt x="12" y="135"/>
                        </a:moveTo>
                        <a:lnTo>
                          <a:pt x="2" y="120"/>
                        </a:lnTo>
                        <a:lnTo>
                          <a:pt x="0" y="103"/>
                        </a:lnTo>
                        <a:lnTo>
                          <a:pt x="1" y="81"/>
                        </a:lnTo>
                        <a:lnTo>
                          <a:pt x="6" y="64"/>
                        </a:lnTo>
                        <a:lnTo>
                          <a:pt x="12" y="44"/>
                        </a:lnTo>
                        <a:lnTo>
                          <a:pt x="22" y="34"/>
                        </a:lnTo>
                        <a:lnTo>
                          <a:pt x="30" y="19"/>
                        </a:lnTo>
                        <a:lnTo>
                          <a:pt x="47" y="6"/>
                        </a:lnTo>
                        <a:lnTo>
                          <a:pt x="60" y="2"/>
                        </a:lnTo>
                        <a:lnTo>
                          <a:pt x="88" y="0"/>
                        </a:lnTo>
                        <a:lnTo>
                          <a:pt x="111" y="1"/>
                        </a:lnTo>
                        <a:lnTo>
                          <a:pt x="129" y="6"/>
                        </a:lnTo>
                        <a:lnTo>
                          <a:pt x="143" y="12"/>
                        </a:lnTo>
                        <a:lnTo>
                          <a:pt x="156" y="26"/>
                        </a:lnTo>
                        <a:lnTo>
                          <a:pt x="165" y="39"/>
                        </a:lnTo>
                        <a:lnTo>
                          <a:pt x="174" y="52"/>
                        </a:lnTo>
                        <a:lnTo>
                          <a:pt x="178" y="68"/>
                        </a:lnTo>
                        <a:lnTo>
                          <a:pt x="178" y="96"/>
                        </a:lnTo>
                        <a:lnTo>
                          <a:pt x="178" y="115"/>
                        </a:lnTo>
                        <a:lnTo>
                          <a:pt x="172" y="124"/>
                        </a:lnTo>
                        <a:lnTo>
                          <a:pt x="162" y="137"/>
                        </a:lnTo>
                        <a:lnTo>
                          <a:pt x="156" y="147"/>
                        </a:lnTo>
                        <a:lnTo>
                          <a:pt x="138" y="152"/>
                        </a:lnTo>
                        <a:lnTo>
                          <a:pt x="122" y="157"/>
                        </a:lnTo>
                        <a:lnTo>
                          <a:pt x="135" y="137"/>
                        </a:lnTo>
                        <a:lnTo>
                          <a:pt x="148" y="104"/>
                        </a:lnTo>
                        <a:lnTo>
                          <a:pt x="143" y="65"/>
                        </a:lnTo>
                        <a:lnTo>
                          <a:pt x="115" y="73"/>
                        </a:lnTo>
                        <a:lnTo>
                          <a:pt x="81" y="73"/>
                        </a:lnTo>
                        <a:lnTo>
                          <a:pt x="58" y="71"/>
                        </a:lnTo>
                        <a:lnTo>
                          <a:pt x="39" y="67"/>
                        </a:lnTo>
                        <a:lnTo>
                          <a:pt x="37" y="78"/>
                        </a:lnTo>
                        <a:lnTo>
                          <a:pt x="29" y="106"/>
                        </a:lnTo>
                        <a:lnTo>
                          <a:pt x="41" y="138"/>
                        </a:lnTo>
                        <a:lnTo>
                          <a:pt x="49" y="157"/>
                        </a:lnTo>
                        <a:lnTo>
                          <a:pt x="29" y="146"/>
                        </a:lnTo>
                        <a:lnTo>
                          <a:pt x="12" y="135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435120" y="5175000"/>
                    <a:ext cx="73440" cy="7920"/>
                    <a:chOff x="3435120" y="5175000"/>
                    <a:chExt cx="73440" cy="792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435120" y="5175000"/>
                      <a:ext cx="8280" cy="79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500280" y="5176800"/>
                      <a:ext cx="828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1" name=""/>
            <p:cNvGrpSpPr/>
            <p:nvPr/>
          </p:nvGrpSpPr>
          <p:grpSpPr>
            <a:xfrm>
              <a:off x="3648600" y="5079960"/>
              <a:ext cx="209880" cy="658800"/>
              <a:chOff x="3648600" y="5079960"/>
              <a:chExt cx="209880" cy="6588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48600" y="5675040"/>
                <a:ext cx="205200" cy="63720"/>
                <a:chOff x="3648600" y="5675040"/>
                <a:chExt cx="205200" cy="63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648600" y="5675040"/>
                  <a:ext cx="84960" cy="39960"/>
                </a:xfrm>
                <a:custGeom>
                  <a:avLst/>
                  <a:gdLst/>
                  <a:ahLst/>
                  <a:rect l="l" t="t" r="r" b="b"/>
                  <a:pathLst>
                    <a:path w="162" h="101">
                      <a:moveTo>
                        <a:pt x="82" y="0"/>
                      </a:moveTo>
                      <a:lnTo>
                        <a:pt x="56" y="26"/>
                      </a:lnTo>
                      <a:lnTo>
                        <a:pt x="33" y="55"/>
                      </a:lnTo>
                      <a:lnTo>
                        <a:pt x="3" y="80"/>
                      </a:lnTo>
                      <a:lnTo>
                        <a:pt x="0" y="93"/>
                      </a:lnTo>
                      <a:lnTo>
                        <a:pt x="29" y="101"/>
                      </a:lnTo>
                      <a:lnTo>
                        <a:pt x="59" y="97"/>
                      </a:lnTo>
                      <a:lnTo>
                        <a:pt x="97" y="80"/>
                      </a:lnTo>
                      <a:lnTo>
                        <a:pt x="124" y="64"/>
                      </a:lnTo>
                      <a:lnTo>
                        <a:pt x="153" y="61"/>
                      </a:lnTo>
                      <a:lnTo>
                        <a:pt x="162" y="52"/>
                      </a:lnTo>
                      <a:lnTo>
                        <a:pt x="159" y="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01240" y="5694120"/>
                  <a:ext cx="52560" cy="44640"/>
                </a:xfrm>
                <a:custGeom>
                  <a:avLst/>
                  <a:gdLst/>
                  <a:ahLst/>
                  <a:rect l="l" t="t" r="r" b="b"/>
                  <a:pathLst>
                    <a:path w="101" h="111">
                      <a:moveTo>
                        <a:pt x="1" y="2"/>
                      </a:moveTo>
                      <a:lnTo>
                        <a:pt x="0" y="31"/>
                      </a:lnTo>
                      <a:lnTo>
                        <a:pt x="14" y="46"/>
                      </a:lnTo>
                      <a:lnTo>
                        <a:pt x="17" y="71"/>
                      </a:lnTo>
                      <a:lnTo>
                        <a:pt x="39" y="95"/>
                      </a:lnTo>
                      <a:lnTo>
                        <a:pt x="59" y="108"/>
                      </a:lnTo>
                      <a:lnTo>
                        <a:pt x="76" y="111"/>
                      </a:lnTo>
                      <a:lnTo>
                        <a:pt x="92" y="110"/>
                      </a:lnTo>
                      <a:lnTo>
                        <a:pt x="101" y="93"/>
                      </a:lnTo>
                      <a:lnTo>
                        <a:pt x="99" y="68"/>
                      </a:lnTo>
                      <a:lnTo>
                        <a:pt x="81" y="40"/>
                      </a:lnTo>
                      <a:lnTo>
                        <a:pt x="57" y="10"/>
                      </a:lnTo>
                      <a:lnTo>
                        <a:pt x="55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667680" y="5163840"/>
                <a:ext cx="190800" cy="532080"/>
                <a:chOff x="3667680" y="5163840"/>
                <a:chExt cx="190800" cy="5320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673800" y="5438520"/>
                  <a:ext cx="25200" cy="49320"/>
                </a:xfrm>
                <a:custGeom>
                  <a:avLst/>
                  <a:gdLst/>
                  <a:ahLst/>
                  <a:rect l="l" t="t" r="r" b="b"/>
                  <a:pathLst>
                    <a:path w="49" h="124">
                      <a:moveTo>
                        <a:pt x="3" y="1"/>
                      </a:moveTo>
                      <a:lnTo>
                        <a:pt x="0" y="69"/>
                      </a:lnTo>
                      <a:lnTo>
                        <a:pt x="25" y="111"/>
                      </a:lnTo>
                      <a:lnTo>
                        <a:pt x="38" y="124"/>
                      </a:lnTo>
                      <a:lnTo>
                        <a:pt x="36" y="65"/>
                      </a:lnTo>
                      <a:lnTo>
                        <a:pt x="41" y="71"/>
                      </a:lnTo>
                      <a:lnTo>
                        <a:pt x="48" y="91"/>
                      </a:lnTo>
                      <a:lnTo>
                        <a:pt x="49" y="69"/>
                      </a:lnTo>
                      <a:lnTo>
                        <a:pt x="42" y="32"/>
                      </a:lnTo>
                      <a:lnTo>
                        <a:pt x="26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686760" y="5330520"/>
                  <a:ext cx="148680" cy="365400"/>
                </a:xfrm>
                <a:custGeom>
                  <a:avLst/>
                  <a:gdLst/>
                  <a:ahLst/>
                  <a:rect l="l" t="t" r="r" b="b"/>
                  <a:pathLst>
                    <a:path w="282" h="918">
                      <a:moveTo>
                        <a:pt x="3" y="0"/>
                      </a:moveTo>
                      <a:lnTo>
                        <a:pt x="0" y="499"/>
                      </a:lnTo>
                      <a:lnTo>
                        <a:pt x="3" y="870"/>
                      </a:lnTo>
                      <a:lnTo>
                        <a:pt x="87" y="886"/>
                      </a:lnTo>
                      <a:lnTo>
                        <a:pt x="100" y="583"/>
                      </a:lnTo>
                      <a:lnTo>
                        <a:pt x="90" y="554"/>
                      </a:lnTo>
                      <a:lnTo>
                        <a:pt x="100" y="538"/>
                      </a:lnTo>
                      <a:lnTo>
                        <a:pt x="100" y="353"/>
                      </a:lnTo>
                      <a:lnTo>
                        <a:pt x="121" y="411"/>
                      </a:lnTo>
                      <a:lnTo>
                        <a:pt x="169" y="662"/>
                      </a:lnTo>
                      <a:lnTo>
                        <a:pt x="211" y="918"/>
                      </a:lnTo>
                      <a:lnTo>
                        <a:pt x="282" y="918"/>
                      </a:lnTo>
                      <a:lnTo>
                        <a:pt x="250" y="573"/>
                      </a:lnTo>
                      <a:lnTo>
                        <a:pt x="237" y="282"/>
                      </a:lnTo>
                      <a:lnTo>
                        <a:pt x="243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667680" y="5163840"/>
                  <a:ext cx="190800" cy="277920"/>
                </a:xfrm>
                <a:custGeom>
                  <a:avLst/>
                  <a:gdLst/>
                  <a:ahLst/>
                  <a:rect l="l" t="t" r="r" b="b"/>
                  <a:pathLst>
                    <a:path w="359" h="701">
                      <a:moveTo>
                        <a:pt x="118" y="9"/>
                      </a:moveTo>
                      <a:lnTo>
                        <a:pt x="9" y="94"/>
                      </a:lnTo>
                      <a:lnTo>
                        <a:pt x="2" y="319"/>
                      </a:lnTo>
                      <a:lnTo>
                        <a:pt x="0" y="432"/>
                      </a:lnTo>
                      <a:lnTo>
                        <a:pt x="6" y="701"/>
                      </a:lnTo>
                      <a:lnTo>
                        <a:pt x="31" y="701"/>
                      </a:lnTo>
                      <a:lnTo>
                        <a:pt x="43" y="426"/>
                      </a:lnTo>
                      <a:lnTo>
                        <a:pt x="273" y="426"/>
                      </a:lnTo>
                      <a:lnTo>
                        <a:pt x="280" y="357"/>
                      </a:lnTo>
                      <a:lnTo>
                        <a:pt x="287" y="405"/>
                      </a:lnTo>
                      <a:lnTo>
                        <a:pt x="271" y="510"/>
                      </a:lnTo>
                      <a:lnTo>
                        <a:pt x="256" y="666"/>
                      </a:lnTo>
                      <a:lnTo>
                        <a:pt x="295" y="675"/>
                      </a:lnTo>
                      <a:lnTo>
                        <a:pt x="359" y="401"/>
                      </a:lnTo>
                      <a:lnTo>
                        <a:pt x="318" y="79"/>
                      </a:lnTo>
                      <a:lnTo>
                        <a:pt x="196" y="0"/>
                      </a:lnTo>
                      <a:lnTo>
                        <a:pt x="142" y="36"/>
                      </a:lnTo>
                      <a:lnTo>
                        <a:pt x="118" y="9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99440" y="5425920"/>
                  <a:ext cx="27360" cy="4608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16" y="0"/>
                      </a:moveTo>
                      <a:lnTo>
                        <a:pt x="0" y="62"/>
                      </a:lnTo>
                      <a:lnTo>
                        <a:pt x="28" y="118"/>
                      </a:lnTo>
                      <a:lnTo>
                        <a:pt x="38" y="112"/>
                      </a:lnTo>
                      <a:lnTo>
                        <a:pt x="54" y="106"/>
                      </a:lnTo>
                      <a:lnTo>
                        <a:pt x="47" y="88"/>
                      </a:lnTo>
                      <a:lnTo>
                        <a:pt x="45" y="66"/>
                      </a:lnTo>
                      <a:lnTo>
                        <a:pt x="54" y="44"/>
                      </a:lnTo>
                      <a:lnTo>
                        <a:pt x="47" y="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3691080" y="5168880"/>
                  <a:ext cx="121320" cy="174600"/>
                  <a:chOff x="3691080" y="5168880"/>
                  <a:chExt cx="121320" cy="17460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3691080" y="5168880"/>
                    <a:ext cx="121320" cy="174600"/>
                    <a:chOff x="3691080" y="5168880"/>
                    <a:chExt cx="121320" cy="174600"/>
                  </a:xfrm>
                </p:grpSpPr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3691080" y="5333760"/>
                      <a:ext cx="121320" cy="9720"/>
                      <a:chOff x="3691080" y="5333760"/>
                      <a:chExt cx="121320" cy="972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3691080" y="534168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3691080" y="533376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724200" y="5168880"/>
                      <a:ext cx="568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63">
                          <a:moveTo>
                            <a:pt x="0" y="8"/>
                          </a:moveTo>
                          <a:lnTo>
                            <a:pt x="5" y="63"/>
                          </a:lnTo>
                          <a:lnTo>
                            <a:pt x="35" y="23"/>
                          </a:lnTo>
                          <a:lnTo>
                            <a:pt x="55" y="62"/>
                          </a:lnTo>
                          <a:lnTo>
                            <a:pt x="10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3741120" y="5181480"/>
                    <a:ext cx="2160" cy="1587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3708000" y="5079960"/>
                <a:ext cx="78120" cy="98280"/>
                <a:chOff x="3708000" y="5079960"/>
                <a:chExt cx="78120" cy="9828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3709800" y="5084640"/>
                  <a:ext cx="73800" cy="93600"/>
                  <a:chOff x="3709800" y="5084640"/>
                  <a:chExt cx="73800" cy="936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3709800" y="5084640"/>
                    <a:ext cx="73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235">
                        <a:moveTo>
                          <a:pt x="6" y="42"/>
                        </a:moveTo>
                        <a:lnTo>
                          <a:pt x="2" y="66"/>
                        </a:lnTo>
                        <a:lnTo>
                          <a:pt x="1" y="75"/>
                        </a:lnTo>
                        <a:lnTo>
                          <a:pt x="6" y="84"/>
                        </a:lnTo>
                        <a:lnTo>
                          <a:pt x="0" y="102"/>
                        </a:lnTo>
                        <a:lnTo>
                          <a:pt x="4" y="129"/>
                        </a:lnTo>
                        <a:lnTo>
                          <a:pt x="7" y="143"/>
                        </a:lnTo>
                        <a:lnTo>
                          <a:pt x="10" y="156"/>
                        </a:lnTo>
                        <a:lnTo>
                          <a:pt x="14" y="169"/>
                        </a:lnTo>
                        <a:lnTo>
                          <a:pt x="20" y="183"/>
                        </a:lnTo>
                        <a:lnTo>
                          <a:pt x="30" y="186"/>
                        </a:lnTo>
                        <a:lnTo>
                          <a:pt x="41" y="189"/>
                        </a:lnTo>
                        <a:lnTo>
                          <a:pt x="41" y="200"/>
                        </a:lnTo>
                        <a:lnTo>
                          <a:pt x="40" y="208"/>
                        </a:lnTo>
                        <a:lnTo>
                          <a:pt x="63" y="235"/>
                        </a:lnTo>
                        <a:lnTo>
                          <a:pt x="120" y="200"/>
                        </a:lnTo>
                        <a:lnTo>
                          <a:pt x="122" y="135"/>
                        </a:lnTo>
                        <a:lnTo>
                          <a:pt x="129" y="117"/>
                        </a:lnTo>
                        <a:lnTo>
                          <a:pt x="134" y="103"/>
                        </a:lnTo>
                        <a:lnTo>
                          <a:pt x="138" y="85"/>
                        </a:lnTo>
                        <a:lnTo>
                          <a:pt x="140" y="69"/>
                        </a:lnTo>
                        <a:lnTo>
                          <a:pt x="139" y="55"/>
                        </a:lnTo>
                        <a:lnTo>
                          <a:pt x="137" y="40"/>
                        </a:lnTo>
                        <a:lnTo>
                          <a:pt x="134" y="28"/>
                        </a:lnTo>
                        <a:lnTo>
                          <a:pt x="128" y="19"/>
                        </a:lnTo>
                        <a:lnTo>
                          <a:pt x="120" y="11"/>
                        </a:lnTo>
                        <a:lnTo>
                          <a:pt x="110" y="7"/>
                        </a:lnTo>
                        <a:lnTo>
                          <a:pt x="98" y="4"/>
                        </a:lnTo>
                        <a:lnTo>
                          <a:pt x="85" y="1"/>
                        </a:lnTo>
                        <a:lnTo>
                          <a:pt x="69" y="0"/>
                        </a:lnTo>
                        <a:lnTo>
                          <a:pt x="53" y="1"/>
                        </a:lnTo>
                        <a:lnTo>
                          <a:pt x="36" y="6"/>
                        </a:lnTo>
                        <a:lnTo>
                          <a:pt x="26" y="12"/>
                        </a:lnTo>
                        <a:lnTo>
                          <a:pt x="16" y="19"/>
                        </a:lnTo>
                        <a:lnTo>
                          <a:pt x="10" y="29"/>
                        </a:lnTo>
                        <a:lnTo>
                          <a:pt x="6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728880" y="51163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6" y="3"/>
                        </a:moveTo>
                        <a:lnTo>
                          <a:pt x="17" y="1"/>
                        </a:lnTo>
                        <a:lnTo>
                          <a:pt x="33" y="0"/>
                        </a:lnTo>
                        <a:lnTo>
                          <a:pt x="44" y="3"/>
                        </a:lnTo>
                        <a:lnTo>
                          <a:pt x="47" y="6"/>
                        </a:lnTo>
                        <a:lnTo>
                          <a:pt x="48" y="10"/>
                        </a:lnTo>
                        <a:lnTo>
                          <a:pt x="52" y="12"/>
                        </a:lnTo>
                        <a:lnTo>
                          <a:pt x="29" y="13"/>
                        </a:lnTo>
                        <a:lnTo>
                          <a:pt x="32" y="15"/>
                        </a:lnTo>
                        <a:lnTo>
                          <a:pt x="44" y="16"/>
                        </a:lnTo>
                        <a:lnTo>
                          <a:pt x="17" y="16"/>
                        </a:lnTo>
                        <a:lnTo>
                          <a:pt x="9" y="16"/>
                        </a:lnTo>
                        <a:lnTo>
                          <a:pt x="4" y="46"/>
                        </a:lnTo>
                        <a:lnTo>
                          <a:pt x="7" y="52"/>
                        </a:lnTo>
                        <a:lnTo>
                          <a:pt x="9" y="56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5" y="13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709800" y="5116320"/>
                    <a:ext cx="14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25" y="4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3" y="8"/>
                        </a:lnTo>
                        <a:lnTo>
                          <a:pt x="0" y="13"/>
                        </a:lnTo>
                        <a:lnTo>
                          <a:pt x="12" y="13"/>
                        </a:lnTo>
                        <a:lnTo>
                          <a:pt x="20" y="13"/>
                        </a:lnTo>
                        <a:lnTo>
                          <a:pt x="9" y="16"/>
                        </a:lnTo>
                        <a:lnTo>
                          <a:pt x="3" y="19"/>
                        </a:lnTo>
                        <a:lnTo>
                          <a:pt x="23" y="16"/>
                        </a:lnTo>
                        <a:lnTo>
                          <a:pt x="28" y="15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735000" y="513540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72">
                        <a:moveTo>
                          <a:pt x="59" y="19"/>
                        </a:moveTo>
                        <a:lnTo>
                          <a:pt x="53" y="37"/>
                        </a:lnTo>
                        <a:lnTo>
                          <a:pt x="0" y="63"/>
                        </a:lnTo>
                        <a:lnTo>
                          <a:pt x="28" y="56"/>
                        </a:lnTo>
                        <a:lnTo>
                          <a:pt x="40" y="53"/>
                        </a:lnTo>
                        <a:lnTo>
                          <a:pt x="54" y="55"/>
                        </a:lnTo>
                        <a:lnTo>
                          <a:pt x="64" y="59"/>
                        </a:lnTo>
                        <a:lnTo>
                          <a:pt x="70" y="72"/>
                        </a:lnTo>
                        <a:lnTo>
                          <a:pt x="71" y="21"/>
                        </a:lnTo>
                        <a:lnTo>
                          <a:pt x="69" y="11"/>
                        </a:lnTo>
                        <a:lnTo>
                          <a:pt x="61" y="0"/>
                        </a:lnTo>
                        <a:lnTo>
                          <a:pt x="59" y="19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3708000" y="5079960"/>
                  <a:ext cx="78120" cy="6804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27" y="14"/>
                      </a:moveTo>
                      <a:lnTo>
                        <a:pt x="40" y="8"/>
                      </a:lnTo>
                      <a:lnTo>
                        <a:pt x="51" y="5"/>
                      </a:lnTo>
                      <a:lnTo>
                        <a:pt x="70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1" y="4"/>
                      </a:lnTo>
                      <a:lnTo>
                        <a:pt x="120" y="4"/>
                      </a:lnTo>
                      <a:lnTo>
                        <a:pt x="130" y="7"/>
                      </a:lnTo>
                      <a:lnTo>
                        <a:pt x="139" y="14"/>
                      </a:lnTo>
                      <a:lnTo>
                        <a:pt x="145" y="23"/>
                      </a:lnTo>
                      <a:lnTo>
                        <a:pt x="146" y="36"/>
                      </a:lnTo>
                      <a:lnTo>
                        <a:pt x="148" y="52"/>
                      </a:lnTo>
                      <a:lnTo>
                        <a:pt x="151" y="75"/>
                      </a:lnTo>
                      <a:lnTo>
                        <a:pt x="150" y="94"/>
                      </a:lnTo>
                      <a:lnTo>
                        <a:pt x="145" y="112"/>
                      </a:lnTo>
                      <a:lnTo>
                        <a:pt x="142" y="128"/>
                      </a:lnTo>
                      <a:lnTo>
                        <a:pt x="138" y="139"/>
                      </a:lnTo>
                      <a:lnTo>
                        <a:pt x="133" y="150"/>
                      </a:lnTo>
                      <a:lnTo>
                        <a:pt x="129" y="159"/>
                      </a:lnTo>
                      <a:lnTo>
                        <a:pt x="124" y="170"/>
                      </a:lnTo>
                      <a:lnTo>
                        <a:pt x="118" y="170"/>
                      </a:lnTo>
                      <a:lnTo>
                        <a:pt x="120" y="155"/>
                      </a:lnTo>
                      <a:lnTo>
                        <a:pt x="117" y="145"/>
                      </a:lnTo>
                      <a:lnTo>
                        <a:pt x="115" y="139"/>
                      </a:lnTo>
                      <a:lnTo>
                        <a:pt x="118" y="129"/>
                      </a:lnTo>
                      <a:lnTo>
                        <a:pt x="120" y="112"/>
                      </a:lnTo>
                      <a:lnTo>
                        <a:pt x="116" y="107"/>
                      </a:lnTo>
                      <a:lnTo>
                        <a:pt x="110" y="116"/>
                      </a:lnTo>
                      <a:lnTo>
                        <a:pt x="104" y="125"/>
                      </a:lnTo>
                      <a:lnTo>
                        <a:pt x="105" y="107"/>
                      </a:lnTo>
                      <a:lnTo>
                        <a:pt x="102" y="87"/>
                      </a:lnTo>
                      <a:lnTo>
                        <a:pt x="102" y="65"/>
                      </a:lnTo>
                      <a:lnTo>
                        <a:pt x="101" y="53"/>
                      </a:lnTo>
                      <a:lnTo>
                        <a:pt x="107" y="48"/>
                      </a:lnTo>
                      <a:lnTo>
                        <a:pt x="96" y="51"/>
                      </a:lnTo>
                      <a:lnTo>
                        <a:pt x="87" y="54"/>
                      </a:lnTo>
                      <a:lnTo>
                        <a:pt x="80" y="56"/>
                      </a:lnTo>
                      <a:lnTo>
                        <a:pt x="65" y="58"/>
                      </a:lnTo>
                      <a:lnTo>
                        <a:pt x="55" y="61"/>
                      </a:lnTo>
                      <a:lnTo>
                        <a:pt x="69" y="54"/>
                      </a:lnTo>
                      <a:lnTo>
                        <a:pt x="60" y="54"/>
                      </a:lnTo>
                      <a:lnTo>
                        <a:pt x="43" y="54"/>
                      </a:lnTo>
                      <a:lnTo>
                        <a:pt x="30" y="52"/>
                      </a:lnTo>
                      <a:lnTo>
                        <a:pt x="14" y="53"/>
                      </a:lnTo>
                      <a:lnTo>
                        <a:pt x="10" y="64"/>
                      </a:lnTo>
                      <a:lnTo>
                        <a:pt x="8" y="77"/>
                      </a:lnTo>
                      <a:lnTo>
                        <a:pt x="4" y="61"/>
                      </a:lnTo>
                      <a:lnTo>
                        <a:pt x="0" y="43"/>
                      </a:lnTo>
                      <a:lnTo>
                        <a:pt x="8" y="30"/>
                      </a:lnTo>
                      <a:lnTo>
                        <a:pt x="16" y="21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3525120" y="5095800"/>
              <a:ext cx="180000" cy="635040"/>
              <a:chOff x="3525120" y="5095800"/>
              <a:chExt cx="180000" cy="6350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562920" y="5095800"/>
                <a:ext cx="94680" cy="109440"/>
                <a:chOff x="3562920" y="5095800"/>
                <a:chExt cx="94680" cy="1094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562920" y="5095800"/>
                  <a:ext cx="94680" cy="85680"/>
                </a:xfrm>
                <a:custGeom>
                  <a:avLst/>
                  <a:gdLst/>
                  <a:ahLst/>
                  <a:rect l="l" t="t" r="r" b="b"/>
                  <a:pathLst>
                    <a:path w="181" h="216">
                      <a:moveTo>
                        <a:pt x="69" y="2"/>
                      </a:moveTo>
                      <a:lnTo>
                        <a:pt x="48" y="13"/>
                      </a:lnTo>
                      <a:lnTo>
                        <a:pt x="36" y="25"/>
                      </a:lnTo>
                      <a:lnTo>
                        <a:pt x="27" y="40"/>
                      </a:lnTo>
                      <a:lnTo>
                        <a:pt x="17" y="71"/>
                      </a:lnTo>
                      <a:lnTo>
                        <a:pt x="6" y="115"/>
                      </a:lnTo>
                      <a:lnTo>
                        <a:pt x="0" y="154"/>
                      </a:lnTo>
                      <a:lnTo>
                        <a:pt x="1" y="171"/>
                      </a:lnTo>
                      <a:lnTo>
                        <a:pt x="4" y="187"/>
                      </a:lnTo>
                      <a:lnTo>
                        <a:pt x="7" y="206"/>
                      </a:lnTo>
                      <a:lnTo>
                        <a:pt x="7" y="213"/>
                      </a:lnTo>
                      <a:lnTo>
                        <a:pt x="14" y="213"/>
                      </a:lnTo>
                      <a:lnTo>
                        <a:pt x="25" y="210"/>
                      </a:lnTo>
                      <a:lnTo>
                        <a:pt x="36" y="211"/>
                      </a:lnTo>
                      <a:lnTo>
                        <a:pt x="53" y="215"/>
                      </a:lnTo>
                      <a:lnTo>
                        <a:pt x="62" y="216"/>
                      </a:lnTo>
                      <a:lnTo>
                        <a:pt x="62" y="202"/>
                      </a:lnTo>
                      <a:lnTo>
                        <a:pt x="49" y="172"/>
                      </a:lnTo>
                      <a:lnTo>
                        <a:pt x="46" y="125"/>
                      </a:lnTo>
                      <a:lnTo>
                        <a:pt x="49" y="81"/>
                      </a:lnTo>
                      <a:lnTo>
                        <a:pt x="74" y="54"/>
                      </a:lnTo>
                      <a:lnTo>
                        <a:pt x="117" y="50"/>
                      </a:lnTo>
                      <a:lnTo>
                        <a:pt x="138" y="77"/>
                      </a:lnTo>
                      <a:lnTo>
                        <a:pt x="135" y="168"/>
                      </a:lnTo>
                      <a:lnTo>
                        <a:pt x="117" y="203"/>
                      </a:lnTo>
                      <a:lnTo>
                        <a:pt x="117" y="215"/>
                      </a:lnTo>
                      <a:lnTo>
                        <a:pt x="128" y="215"/>
                      </a:lnTo>
                      <a:lnTo>
                        <a:pt x="141" y="213"/>
                      </a:lnTo>
                      <a:lnTo>
                        <a:pt x="153" y="212"/>
                      </a:lnTo>
                      <a:lnTo>
                        <a:pt x="162" y="214"/>
                      </a:lnTo>
                      <a:lnTo>
                        <a:pt x="168" y="215"/>
                      </a:lnTo>
                      <a:lnTo>
                        <a:pt x="170" y="201"/>
                      </a:lnTo>
                      <a:lnTo>
                        <a:pt x="176" y="181"/>
                      </a:lnTo>
                      <a:lnTo>
                        <a:pt x="180" y="160"/>
                      </a:lnTo>
                      <a:lnTo>
                        <a:pt x="181" y="144"/>
                      </a:lnTo>
                      <a:lnTo>
                        <a:pt x="180" y="125"/>
                      </a:lnTo>
                      <a:lnTo>
                        <a:pt x="176" y="111"/>
                      </a:lnTo>
                      <a:lnTo>
                        <a:pt x="172" y="95"/>
                      </a:lnTo>
                      <a:lnTo>
                        <a:pt x="169" y="80"/>
                      </a:lnTo>
                      <a:lnTo>
                        <a:pt x="169" y="69"/>
                      </a:lnTo>
                      <a:lnTo>
                        <a:pt x="166" y="53"/>
                      </a:lnTo>
                      <a:lnTo>
                        <a:pt x="161" y="34"/>
                      </a:lnTo>
                      <a:lnTo>
                        <a:pt x="148" y="17"/>
                      </a:lnTo>
                      <a:lnTo>
                        <a:pt x="130" y="5"/>
                      </a:lnTo>
                      <a:lnTo>
                        <a:pt x="111" y="0"/>
                      </a:lnTo>
                      <a:lnTo>
                        <a:pt x="94" y="0"/>
                      </a:lnTo>
                      <a:lnTo>
                        <a:pt x="69" y="2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583800" y="5111640"/>
                  <a:ext cx="55080" cy="93600"/>
                </a:xfrm>
                <a:custGeom>
                  <a:avLst/>
                  <a:gdLst/>
                  <a:ahLst/>
                  <a:rect l="l" t="t" r="r" b="b"/>
                  <a:pathLst>
                    <a:path w="104" h="237">
                      <a:moveTo>
                        <a:pt x="9" y="25"/>
                      </a:moveTo>
                      <a:lnTo>
                        <a:pt x="3" y="41"/>
                      </a:lnTo>
                      <a:lnTo>
                        <a:pt x="1" y="61"/>
                      </a:lnTo>
                      <a:lnTo>
                        <a:pt x="0" y="81"/>
                      </a:lnTo>
                      <a:lnTo>
                        <a:pt x="1" y="98"/>
                      </a:lnTo>
                      <a:lnTo>
                        <a:pt x="3" y="114"/>
                      </a:lnTo>
                      <a:lnTo>
                        <a:pt x="22" y="162"/>
                      </a:lnTo>
                      <a:lnTo>
                        <a:pt x="22" y="208"/>
                      </a:lnTo>
                      <a:lnTo>
                        <a:pt x="54" y="237"/>
                      </a:lnTo>
                      <a:lnTo>
                        <a:pt x="77" y="204"/>
                      </a:lnTo>
                      <a:lnTo>
                        <a:pt x="77" y="164"/>
                      </a:lnTo>
                      <a:lnTo>
                        <a:pt x="99" y="124"/>
                      </a:lnTo>
                      <a:lnTo>
                        <a:pt x="102" y="100"/>
                      </a:lnTo>
                      <a:lnTo>
                        <a:pt x="104" y="81"/>
                      </a:lnTo>
                      <a:lnTo>
                        <a:pt x="103" y="64"/>
                      </a:lnTo>
                      <a:lnTo>
                        <a:pt x="102" y="50"/>
                      </a:lnTo>
                      <a:lnTo>
                        <a:pt x="99" y="33"/>
                      </a:lnTo>
                      <a:lnTo>
                        <a:pt x="91" y="17"/>
                      </a:lnTo>
                      <a:lnTo>
                        <a:pt x="81" y="8"/>
                      </a:lnTo>
                      <a:lnTo>
                        <a:pt x="64" y="3"/>
                      </a:lnTo>
                      <a:lnTo>
                        <a:pt x="47" y="0"/>
                      </a:lnTo>
                      <a:lnTo>
                        <a:pt x="32" y="4"/>
                      </a:lnTo>
                      <a:lnTo>
                        <a:pt x="19" y="12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3579480" y="5152680"/>
                  <a:ext cx="63000" cy="12960"/>
                  <a:chOff x="3579480" y="5152680"/>
                  <a:chExt cx="63000" cy="1296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3579480" y="5152680"/>
                    <a:ext cx="10080" cy="12960"/>
                    <a:chOff x="3579480" y="5152680"/>
                    <a:chExt cx="10080" cy="1296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7948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57948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632400" y="5152680"/>
                    <a:ext cx="10080" cy="12960"/>
                    <a:chOff x="3632400" y="5152680"/>
                    <a:chExt cx="10080" cy="129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363240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363420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3554280" y="5402160"/>
                <a:ext cx="147960" cy="299880"/>
                <a:chOff x="3554280" y="5402160"/>
                <a:chExt cx="147960" cy="29988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554280" y="5402160"/>
                  <a:ext cx="147960" cy="299880"/>
                  <a:chOff x="3554280" y="5402160"/>
                  <a:chExt cx="147960" cy="2998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554280" y="5467320"/>
                    <a:ext cx="10584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595">
                        <a:moveTo>
                          <a:pt x="36" y="13"/>
                        </a:moveTo>
                        <a:lnTo>
                          <a:pt x="38" y="184"/>
                        </a:lnTo>
                        <a:lnTo>
                          <a:pt x="37" y="329"/>
                        </a:lnTo>
                        <a:lnTo>
                          <a:pt x="46" y="468"/>
                        </a:lnTo>
                        <a:lnTo>
                          <a:pt x="23" y="529"/>
                        </a:lnTo>
                        <a:lnTo>
                          <a:pt x="5" y="569"/>
                        </a:lnTo>
                        <a:lnTo>
                          <a:pt x="0" y="581"/>
                        </a:lnTo>
                        <a:lnTo>
                          <a:pt x="8" y="595"/>
                        </a:lnTo>
                        <a:lnTo>
                          <a:pt x="44" y="592"/>
                        </a:lnTo>
                        <a:lnTo>
                          <a:pt x="76" y="514"/>
                        </a:lnTo>
                        <a:lnTo>
                          <a:pt x="78" y="464"/>
                        </a:lnTo>
                        <a:lnTo>
                          <a:pt x="102" y="300"/>
                        </a:lnTo>
                        <a:lnTo>
                          <a:pt x="105" y="261"/>
                        </a:lnTo>
                        <a:lnTo>
                          <a:pt x="104" y="338"/>
                        </a:lnTo>
                        <a:lnTo>
                          <a:pt x="115" y="448"/>
                        </a:lnTo>
                        <a:lnTo>
                          <a:pt x="112" y="498"/>
                        </a:lnTo>
                        <a:lnTo>
                          <a:pt x="128" y="549"/>
                        </a:lnTo>
                        <a:lnTo>
                          <a:pt x="149" y="586"/>
                        </a:lnTo>
                        <a:lnTo>
                          <a:pt x="181" y="588"/>
                        </a:lnTo>
                        <a:lnTo>
                          <a:pt x="191" y="575"/>
                        </a:lnTo>
                        <a:lnTo>
                          <a:pt x="157" y="496"/>
                        </a:lnTo>
                        <a:lnTo>
                          <a:pt x="153" y="459"/>
                        </a:lnTo>
                        <a:lnTo>
                          <a:pt x="160" y="381"/>
                        </a:lnTo>
                        <a:lnTo>
                          <a:pt x="173" y="250"/>
                        </a:lnTo>
                        <a:lnTo>
                          <a:pt x="201" y="0"/>
                        </a:lnTo>
                        <a:lnTo>
                          <a:pt x="36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677040" y="5402160"/>
                    <a:ext cx="252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4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4"/>
                        </a:lnTo>
                        <a:lnTo>
                          <a:pt x="22" y="5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3609360" y="5468760"/>
                  <a:ext cx="864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2">
                      <a:moveTo>
                        <a:pt x="15" y="0"/>
                      </a:moveTo>
                      <a:lnTo>
                        <a:pt x="15" y="87"/>
                      </a:lnTo>
                      <a:lnTo>
                        <a:pt x="12" y="139"/>
                      </a:lnTo>
                      <a:lnTo>
                        <a:pt x="9" y="195"/>
                      </a:lnTo>
                      <a:lnTo>
                        <a:pt x="0" y="249"/>
                      </a:lnTo>
                      <a:lnTo>
                        <a:pt x="2" y="26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525120" y="5190840"/>
                <a:ext cx="180000" cy="284400"/>
                <a:chOff x="3525120" y="5190840"/>
                <a:chExt cx="180000" cy="28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525120" y="5190840"/>
                  <a:ext cx="180000" cy="284400"/>
                </a:xfrm>
                <a:custGeom>
                  <a:avLst/>
                  <a:gdLst/>
                  <a:ahLst/>
                  <a:rect l="l" t="t" r="r" b="b"/>
                  <a:pathLst>
                    <a:path w="342" h="716">
                      <a:moveTo>
                        <a:pt x="135" y="6"/>
                      </a:moveTo>
                      <a:lnTo>
                        <a:pt x="30" y="73"/>
                      </a:lnTo>
                      <a:lnTo>
                        <a:pt x="13" y="104"/>
                      </a:lnTo>
                      <a:lnTo>
                        <a:pt x="0" y="372"/>
                      </a:lnTo>
                      <a:lnTo>
                        <a:pt x="5" y="436"/>
                      </a:lnTo>
                      <a:lnTo>
                        <a:pt x="46" y="431"/>
                      </a:lnTo>
                      <a:lnTo>
                        <a:pt x="44" y="588"/>
                      </a:lnTo>
                      <a:lnTo>
                        <a:pt x="63" y="588"/>
                      </a:lnTo>
                      <a:lnTo>
                        <a:pt x="82" y="711"/>
                      </a:lnTo>
                      <a:lnTo>
                        <a:pt x="154" y="713"/>
                      </a:lnTo>
                      <a:lnTo>
                        <a:pt x="214" y="706"/>
                      </a:lnTo>
                      <a:lnTo>
                        <a:pt x="256" y="716"/>
                      </a:lnTo>
                      <a:lnTo>
                        <a:pt x="315" y="537"/>
                      </a:lnTo>
                      <a:lnTo>
                        <a:pt x="342" y="534"/>
                      </a:lnTo>
                      <a:lnTo>
                        <a:pt x="317" y="287"/>
                      </a:lnTo>
                      <a:lnTo>
                        <a:pt x="316" y="92"/>
                      </a:lnTo>
                      <a:lnTo>
                        <a:pt x="301" y="71"/>
                      </a:lnTo>
                      <a:lnTo>
                        <a:pt x="188" y="0"/>
                      </a:lnTo>
                      <a:lnTo>
                        <a:pt x="167" y="30"/>
                      </a:lnTo>
                      <a:lnTo>
                        <a:pt x="135" y="6"/>
                      </a:lnTo>
                      <a:close/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3548160" y="5248080"/>
                  <a:ext cx="111240" cy="176400"/>
                  <a:chOff x="3548160" y="5248080"/>
                  <a:chExt cx="111240" cy="17640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3552120" y="5327640"/>
                    <a:ext cx="77760" cy="96840"/>
                    <a:chOff x="3552120" y="5327640"/>
                    <a:chExt cx="77760" cy="9684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3562560" y="5327640"/>
                      <a:ext cx="673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3552120" y="5340240"/>
                      <a:ext cx="759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2">
                          <a:moveTo>
                            <a:pt x="0" y="62"/>
                          </a:moveTo>
                          <a:lnTo>
                            <a:pt x="52" y="45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3548160" y="5248080"/>
                    <a:ext cx="111240" cy="114480"/>
                    <a:chOff x="3548160" y="5248080"/>
                    <a:chExt cx="111240" cy="11448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556440" y="5248080"/>
                      <a:ext cx="943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17">
                          <a:moveTo>
                            <a:pt x="0" y="77"/>
                          </a:moveTo>
                          <a:lnTo>
                            <a:pt x="116" y="0"/>
                          </a:lnTo>
                          <a:lnTo>
                            <a:pt x="181" y="146"/>
                          </a:lnTo>
                          <a:lnTo>
                            <a:pt x="65" y="217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3548160" y="5284440"/>
                      <a:ext cx="111240" cy="78120"/>
                      <a:chOff x="3548160" y="5284440"/>
                      <a:chExt cx="111240" cy="7812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3617640" y="5284440"/>
                        <a:ext cx="417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117">
                            <a:moveTo>
                              <a:pt x="0" y="71"/>
                            </a:moveTo>
                            <a:lnTo>
                              <a:pt x="20" y="54"/>
                            </a:lnTo>
                            <a:lnTo>
                              <a:pt x="30" y="19"/>
                            </a:lnTo>
                            <a:lnTo>
                              <a:pt x="45" y="9"/>
                            </a:lnTo>
                            <a:lnTo>
                              <a:pt x="53" y="0"/>
                            </a:lnTo>
                            <a:lnTo>
                              <a:pt x="58" y="3"/>
                            </a:lnTo>
                            <a:lnTo>
                              <a:pt x="59" y="12"/>
                            </a:lnTo>
                            <a:lnTo>
                              <a:pt x="75" y="28"/>
                            </a:lnTo>
                            <a:lnTo>
                              <a:pt x="79" y="57"/>
                            </a:lnTo>
                            <a:lnTo>
                              <a:pt x="75" y="78"/>
                            </a:lnTo>
                            <a:lnTo>
                              <a:pt x="52" y="100"/>
                            </a:lnTo>
                            <a:lnTo>
                              <a:pt x="8" y="117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3548160" y="5311440"/>
                        <a:ext cx="77400" cy="5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130">
                            <a:moveTo>
                              <a:pt x="0" y="130"/>
                            </a:moveTo>
                            <a:lnTo>
                              <a:pt x="59" y="107"/>
                            </a:lnTo>
                            <a:lnTo>
                              <a:pt x="104" y="81"/>
                            </a:lnTo>
                            <a:lnTo>
                              <a:pt x="146" y="56"/>
                            </a:lnTo>
                            <a:lnTo>
                              <a:pt x="130" y="0"/>
                            </a:lnTo>
                            <a:lnTo>
                              <a:pt x="53" y="36"/>
                            </a:lnTo>
                            <a:lnTo>
                              <a:pt x="6" y="53"/>
                            </a:lnTo>
                            <a:lnTo>
                              <a:pt x="4" y="43"/>
                            </a:lnTo>
                            <a:lnTo>
                              <a:pt x="0" y="130"/>
                            </a:lnTo>
                            <a:close/>
                          </a:path>
                        </a:pathLst>
                      </a:cu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3548160" y="5663880"/>
                <a:ext cx="112320" cy="66960"/>
                <a:chOff x="3548160" y="5663880"/>
                <a:chExt cx="112320" cy="66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609720" y="566388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7" y="0"/>
                      </a:moveTo>
                      <a:lnTo>
                        <a:pt x="0" y="24"/>
                      </a:lnTo>
                      <a:lnTo>
                        <a:pt x="0" y="71"/>
                      </a:lnTo>
                      <a:lnTo>
                        <a:pt x="10" y="53"/>
                      </a:lnTo>
                      <a:lnTo>
                        <a:pt x="21" y="76"/>
                      </a:lnTo>
                      <a:lnTo>
                        <a:pt x="24" y="108"/>
                      </a:lnTo>
                      <a:lnTo>
                        <a:pt x="39" y="138"/>
                      </a:lnTo>
                      <a:lnTo>
                        <a:pt x="63" y="154"/>
                      </a:lnTo>
                      <a:lnTo>
                        <a:pt x="81" y="158"/>
                      </a:lnTo>
                      <a:lnTo>
                        <a:pt x="97" y="155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7" y="89"/>
                      </a:lnTo>
                      <a:lnTo>
                        <a:pt x="63" y="89"/>
                      </a:lnTo>
                      <a:lnTo>
                        <a:pt x="43" y="87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548160" y="566568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4"/>
                      </a:lnTo>
                      <a:lnTo>
                        <a:pt x="84" y="48"/>
                      </a:lnTo>
                      <a:lnTo>
                        <a:pt x="76" y="69"/>
                      </a:lnTo>
                      <a:lnTo>
                        <a:pt x="70" y="100"/>
                      </a:lnTo>
                      <a:lnTo>
                        <a:pt x="62" y="126"/>
                      </a:lnTo>
                      <a:lnTo>
                        <a:pt x="44" y="147"/>
                      </a:lnTo>
                      <a:lnTo>
                        <a:pt x="28" y="158"/>
                      </a:lnTo>
                      <a:lnTo>
                        <a:pt x="12" y="163"/>
                      </a:lnTo>
                      <a:lnTo>
                        <a:pt x="6" y="155"/>
                      </a:lnTo>
                      <a:lnTo>
                        <a:pt x="1" y="140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10" y="80"/>
                      </a:lnTo>
                      <a:lnTo>
                        <a:pt x="22" y="89"/>
                      </a:lnTo>
                      <a:lnTo>
                        <a:pt x="42" y="89"/>
                      </a:lnTo>
                      <a:lnTo>
                        <a:pt x="55" y="88"/>
                      </a:lnTo>
                      <a:lnTo>
                        <a:pt x="78" y="33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4400280" y="5083200"/>
              <a:ext cx="212040" cy="658800"/>
              <a:chOff x="4400280" y="5083200"/>
              <a:chExt cx="212040" cy="6588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404600" y="5677200"/>
                <a:ext cx="207720" cy="64800"/>
                <a:chOff x="4404600" y="5677200"/>
                <a:chExt cx="207720" cy="64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525200" y="5677200"/>
                  <a:ext cx="87120" cy="39600"/>
                </a:xfrm>
                <a:custGeom>
                  <a:avLst/>
                  <a:gdLst/>
                  <a:ahLst/>
                  <a:rect l="l" t="t" r="r" b="b"/>
                  <a:pathLst>
                    <a:path w="162" h="100">
                      <a:moveTo>
                        <a:pt x="80" y="0"/>
                      </a:moveTo>
                      <a:lnTo>
                        <a:pt x="106" y="26"/>
                      </a:lnTo>
                      <a:lnTo>
                        <a:pt x="129" y="55"/>
                      </a:lnTo>
                      <a:lnTo>
                        <a:pt x="159" y="80"/>
                      </a:lnTo>
                      <a:lnTo>
                        <a:pt x="162" y="93"/>
                      </a:lnTo>
                      <a:lnTo>
                        <a:pt x="133" y="100"/>
                      </a:lnTo>
                      <a:lnTo>
                        <a:pt x="103" y="97"/>
                      </a:lnTo>
                      <a:lnTo>
                        <a:pt x="65" y="80"/>
                      </a:lnTo>
                      <a:lnTo>
                        <a:pt x="38" y="63"/>
                      </a:lnTo>
                      <a:lnTo>
                        <a:pt x="9" y="60"/>
                      </a:lnTo>
                      <a:lnTo>
                        <a:pt x="0" y="52"/>
                      </a:lnTo>
                      <a:lnTo>
                        <a:pt x="3" y="5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404600" y="5697720"/>
                  <a:ext cx="52920" cy="4428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100" y="2"/>
                      </a:moveTo>
                      <a:lnTo>
                        <a:pt x="102" y="31"/>
                      </a:lnTo>
                      <a:lnTo>
                        <a:pt x="88" y="46"/>
                      </a:lnTo>
                      <a:lnTo>
                        <a:pt x="84" y="71"/>
                      </a:lnTo>
                      <a:lnTo>
                        <a:pt x="62" y="95"/>
                      </a:lnTo>
                      <a:lnTo>
                        <a:pt x="42" y="108"/>
                      </a:lnTo>
                      <a:lnTo>
                        <a:pt x="25" y="111"/>
                      </a:lnTo>
                      <a:lnTo>
                        <a:pt x="9" y="110"/>
                      </a:lnTo>
                      <a:lnTo>
                        <a:pt x="0" y="92"/>
                      </a:lnTo>
                      <a:lnTo>
                        <a:pt x="3" y="68"/>
                      </a:lnTo>
                      <a:lnTo>
                        <a:pt x="20" y="39"/>
                      </a:lnTo>
                      <a:lnTo>
                        <a:pt x="45" y="9"/>
                      </a:lnTo>
                      <a:lnTo>
                        <a:pt x="4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4561560" y="5442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49" h="125">
                    <a:moveTo>
                      <a:pt x="47" y="1"/>
                    </a:moveTo>
                    <a:lnTo>
                      <a:pt x="49" y="70"/>
                    </a:lnTo>
                    <a:lnTo>
                      <a:pt x="24" y="112"/>
                    </a:lnTo>
                    <a:lnTo>
                      <a:pt x="11" y="125"/>
                    </a:lnTo>
                    <a:lnTo>
                      <a:pt x="13" y="65"/>
                    </a:lnTo>
                    <a:lnTo>
                      <a:pt x="8" y="72"/>
                    </a:lnTo>
                    <a:lnTo>
                      <a:pt x="1" y="91"/>
                    </a:lnTo>
                    <a:lnTo>
                      <a:pt x="0" y="70"/>
                    </a:lnTo>
                    <a:lnTo>
                      <a:pt x="7" y="33"/>
                    </a:lnTo>
                    <a:lnTo>
                      <a:pt x="23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25480" y="5334120"/>
                <a:ext cx="148680" cy="363600"/>
              </a:xfrm>
              <a:custGeom>
                <a:avLst/>
                <a:gdLst/>
                <a:ahLst/>
                <a:rect l="l" t="t" r="r" b="b"/>
                <a:pathLst>
                  <a:path w="282" h="919">
                    <a:moveTo>
                      <a:pt x="279" y="0"/>
                    </a:moveTo>
                    <a:lnTo>
                      <a:pt x="282" y="499"/>
                    </a:lnTo>
                    <a:lnTo>
                      <a:pt x="279" y="870"/>
                    </a:lnTo>
                    <a:lnTo>
                      <a:pt x="195" y="886"/>
                    </a:lnTo>
                    <a:lnTo>
                      <a:pt x="182" y="584"/>
                    </a:lnTo>
                    <a:lnTo>
                      <a:pt x="192" y="554"/>
                    </a:lnTo>
                    <a:lnTo>
                      <a:pt x="182" y="538"/>
                    </a:lnTo>
                    <a:lnTo>
                      <a:pt x="182" y="353"/>
                    </a:lnTo>
                    <a:lnTo>
                      <a:pt x="163" y="412"/>
                    </a:lnTo>
                    <a:lnTo>
                      <a:pt x="114" y="663"/>
                    </a:lnTo>
                    <a:lnTo>
                      <a:pt x="71" y="919"/>
                    </a:lnTo>
                    <a:lnTo>
                      <a:pt x="0" y="919"/>
                    </a:lnTo>
                    <a:lnTo>
                      <a:pt x="32" y="574"/>
                    </a:lnTo>
                    <a:lnTo>
                      <a:pt x="45" y="282"/>
                    </a:lnTo>
                    <a:lnTo>
                      <a:pt x="39" y="7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00280" y="5166000"/>
                <a:ext cx="191160" cy="277560"/>
              </a:xfrm>
              <a:custGeom>
                <a:avLst/>
                <a:gdLst/>
                <a:ahLst/>
                <a:rect l="l" t="t" r="r" b="b"/>
                <a:pathLst>
                  <a:path w="359" h="701">
                    <a:moveTo>
                      <a:pt x="241" y="8"/>
                    </a:moveTo>
                    <a:lnTo>
                      <a:pt x="350" y="94"/>
                    </a:lnTo>
                    <a:lnTo>
                      <a:pt x="357" y="318"/>
                    </a:lnTo>
                    <a:lnTo>
                      <a:pt x="359" y="432"/>
                    </a:lnTo>
                    <a:lnTo>
                      <a:pt x="353" y="701"/>
                    </a:lnTo>
                    <a:lnTo>
                      <a:pt x="328" y="701"/>
                    </a:lnTo>
                    <a:lnTo>
                      <a:pt x="316" y="425"/>
                    </a:lnTo>
                    <a:lnTo>
                      <a:pt x="86" y="425"/>
                    </a:lnTo>
                    <a:lnTo>
                      <a:pt x="80" y="356"/>
                    </a:lnTo>
                    <a:lnTo>
                      <a:pt x="72" y="405"/>
                    </a:lnTo>
                    <a:lnTo>
                      <a:pt x="88" y="510"/>
                    </a:lnTo>
                    <a:lnTo>
                      <a:pt x="103" y="665"/>
                    </a:lnTo>
                    <a:lnTo>
                      <a:pt x="64" y="675"/>
                    </a:lnTo>
                    <a:lnTo>
                      <a:pt x="0" y="400"/>
                    </a:lnTo>
                    <a:lnTo>
                      <a:pt x="41" y="78"/>
                    </a:lnTo>
                    <a:lnTo>
                      <a:pt x="165" y="0"/>
                    </a:lnTo>
                    <a:lnTo>
                      <a:pt x="218" y="35"/>
                    </a:lnTo>
                    <a:lnTo>
                      <a:pt x="241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1960" y="5427720"/>
                <a:ext cx="29880" cy="4788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38" y="0"/>
                    </a:moveTo>
                    <a:lnTo>
                      <a:pt x="54" y="62"/>
                    </a:lnTo>
                    <a:lnTo>
                      <a:pt x="26" y="118"/>
                    </a:lnTo>
                    <a:lnTo>
                      <a:pt x="16" y="111"/>
                    </a:lnTo>
                    <a:lnTo>
                      <a:pt x="0" y="106"/>
                    </a:lnTo>
                    <a:lnTo>
                      <a:pt x="7" y="87"/>
                    </a:lnTo>
                    <a:lnTo>
                      <a:pt x="9" y="66"/>
                    </a:lnTo>
                    <a:lnTo>
                      <a:pt x="0" y="43"/>
                    </a:lnTo>
                    <a:lnTo>
                      <a:pt x="7" y="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446360" y="5172120"/>
                <a:ext cx="119880" cy="173160"/>
                <a:chOff x="4446360" y="5172120"/>
                <a:chExt cx="119880" cy="173160"/>
              </a:xfrm>
            </p:grpSpPr>
            <p:grpSp>
              <p:nvGrpSpPr>
                <p:cNvPr id="323" name=""/>
                <p:cNvGrpSpPr/>
                <p:nvPr/>
              </p:nvGrpSpPr>
              <p:grpSpPr>
                <a:xfrm>
                  <a:off x="4446360" y="5172120"/>
                  <a:ext cx="119880" cy="173160"/>
                  <a:chOff x="4446360" y="5172120"/>
                  <a:chExt cx="119880" cy="17316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446360" y="5335920"/>
                    <a:ext cx="119880" cy="9360"/>
                    <a:chOff x="4446360" y="5335920"/>
                    <a:chExt cx="119880" cy="936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>
                      <a:off x="4446360" y="534384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>
                      <a:off x="4446360" y="533592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4478400" y="5172120"/>
                    <a:ext cx="550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62">
                        <a:moveTo>
                          <a:pt x="106" y="7"/>
                        </a:moveTo>
                        <a:lnTo>
                          <a:pt x="101" y="62"/>
                        </a:lnTo>
                        <a:lnTo>
                          <a:pt x="72" y="22"/>
                        </a:lnTo>
                        <a:lnTo>
                          <a:pt x="52" y="6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4516920" y="5183280"/>
                  <a:ext cx="1800" cy="160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472280" y="5083200"/>
                <a:ext cx="80640" cy="96840"/>
                <a:chOff x="4472280" y="5083200"/>
                <a:chExt cx="80640" cy="9684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4476600" y="5088240"/>
                  <a:ext cx="73440" cy="91800"/>
                  <a:chOff x="4476600" y="5088240"/>
                  <a:chExt cx="73440" cy="918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76600" y="5088240"/>
                    <a:ext cx="734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34">
                        <a:moveTo>
                          <a:pt x="133" y="42"/>
                        </a:moveTo>
                        <a:lnTo>
                          <a:pt x="137" y="66"/>
                        </a:lnTo>
                        <a:lnTo>
                          <a:pt x="138" y="74"/>
                        </a:lnTo>
                        <a:lnTo>
                          <a:pt x="133" y="83"/>
                        </a:lnTo>
                        <a:lnTo>
                          <a:pt x="139" y="101"/>
                        </a:lnTo>
                        <a:lnTo>
                          <a:pt x="136" y="128"/>
                        </a:lnTo>
                        <a:lnTo>
                          <a:pt x="132" y="142"/>
                        </a:lnTo>
                        <a:lnTo>
                          <a:pt x="129" y="155"/>
                        </a:lnTo>
                        <a:lnTo>
                          <a:pt x="125" y="168"/>
                        </a:lnTo>
                        <a:lnTo>
                          <a:pt x="119" y="182"/>
                        </a:lnTo>
                        <a:lnTo>
                          <a:pt x="109" y="186"/>
                        </a:lnTo>
                        <a:lnTo>
                          <a:pt x="98" y="189"/>
                        </a:lnTo>
                        <a:lnTo>
                          <a:pt x="98" y="200"/>
                        </a:lnTo>
                        <a:lnTo>
                          <a:pt x="99" y="207"/>
                        </a:lnTo>
                        <a:lnTo>
                          <a:pt x="77" y="234"/>
                        </a:lnTo>
                        <a:lnTo>
                          <a:pt x="20" y="200"/>
                        </a:lnTo>
                        <a:lnTo>
                          <a:pt x="18" y="135"/>
                        </a:lnTo>
                        <a:lnTo>
                          <a:pt x="11" y="117"/>
                        </a:lnTo>
                        <a:lnTo>
                          <a:pt x="6" y="102"/>
                        </a:lnTo>
                        <a:lnTo>
                          <a:pt x="2" y="84"/>
                        </a:lnTo>
                        <a:lnTo>
                          <a:pt x="0" y="69"/>
                        </a:lnTo>
                        <a:lnTo>
                          <a:pt x="1" y="55"/>
                        </a:lnTo>
                        <a:lnTo>
                          <a:pt x="3" y="40"/>
                        </a:lnTo>
                        <a:lnTo>
                          <a:pt x="6" y="28"/>
                        </a:lnTo>
                        <a:lnTo>
                          <a:pt x="12" y="18"/>
                        </a:lnTo>
                        <a:lnTo>
                          <a:pt x="20" y="11"/>
                        </a:lnTo>
                        <a:lnTo>
                          <a:pt x="30" y="6"/>
                        </a:lnTo>
                        <a:lnTo>
                          <a:pt x="42" y="3"/>
                        </a:lnTo>
                        <a:lnTo>
                          <a:pt x="55" y="1"/>
                        </a:lnTo>
                        <a:lnTo>
                          <a:pt x="71" y="0"/>
                        </a:lnTo>
                        <a:lnTo>
                          <a:pt x="86" y="1"/>
                        </a:lnTo>
                        <a:lnTo>
                          <a:pt x="103" y="5"/>
                        </a:lnTo>
                        <a:lnTo>
                          <a:pt x="113" y="12"/>
                        </a:lnTo>
                        <a:lnTo>
                          <a:pt x="123" y="18"/>
                        </a:lnTo>
                        <a:lnTo>
                          <a:pt x="129" y="29"/>
                        </a:lnTo>
                        <a:lnTo>
                          <a:pt x="133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503600" y="5118120"/>
                    <a:ext cx="252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6">
                        <a:moveTo>
                          <a:pt x="44" y="3"/>
                        </a:moveTo>
                        <a:lnTo>
                          <a:pt x="33" y="1"/>
                        </a:lnTo>
                        <a:lnTo>
                          <a:pt x="18" y="0"/>
                        </a:lnTo>
                        <a:lnTo>
                          <a:pt x="7" y="3"/>
                        </a:lnTo>
                        <a:lnTo>
                          <a:pt x="4" y="5"/>
                        </a:lnTo>
                        <a:lnTo>
                          <a:pt x="3" y="9"/>
                        </a:lnTo>
                        <a:lnTo>
                          <a:pt x="0" y="12"/>
                        </a:lnTo>
                        <a:lnTo>
                          <a:pt x="22" y="13"/>
                        </a:lnTo>
                        <a:lnTo>
                          <a:pt x="19" y="15"/>
                        </a:lnTo>
                        <a:lnTo>
                          <a:pt x="7" y="16"/>
                        </a:lnTo>
                        <a:lnTo>
                          <a:pt x="33" y="16"/>
                        </a:lnTo>
                        <a:lnTo>
                          <a:pt x="42" y="16"/>
                        </a:lnTo>
                        <a:lnTo>
                          <a:pt x="46" y="45"/>
                        </a:lnTo>
                        <a:lnTo>
                          <a:pt x="43" y="52"/>
                        </a:lnTo>
                        <a:lnTo>
                          <a:pt x="42" y="56"/>
                        </a:lnTo>
                        <a:lnTo>
                          <a:pt x="50" y="48"/>
                        </a:lnTo>
                        <a:lnTo>
                          <a:pt x="50" y="48"/>
                        </a:lnTo>
                        <a:lnTo>
                          <a:pt x="45" y="13"/>
                        </a:lnTo>
                        <a:lnTo>
                          <a:pt x="44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533480" y="5119920"/>
                    <a:ext cx="14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8">
                        <a:moveTo>
                          <a:pt x="3" y="3"/>
                        </a:moveTo>
                        <a:lnTo>
                          <a:pt x="17" y="0"/>
                        </a:lnTo>
                        <a:lnTo>
                          <a:pt x="27" y="0"/>
                        </a:lnTo>
                        <a:lnTo>
                          <a:pt x="25" y="7"/>
                        </a:lnTo>
                        <a:lnTo>
                          <a:pt x="28" y="13"/>
                        </a:lnTo>
                        <a:lnTo>
                          <a:pt x="16" y="13"/>
                        </a:lnTo>
                        <a:lnTo>
                          <a:pt x="8" y="13"/>
                        </a:lnTo>
                        <a:lnTo>
                          <a:pt x="19" y="16"/>
                        </a:lnTo>
                        <a:lnTo>
                          <a:pt x="25" y="18"/>
                        </a:lnTo>
                        <a:lnTo>
                          <a:pt x="5" y="16"/>
                        </a:lnTo>
                        <a:lnTo>
                          <a:pt x="0" y="15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487040" y="5139000"/>
                    <a:ext cx="35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3">
                        <a:moveTo>
                          <a:pt x="12" y="20"/>
                        </a:moveTo>
                        <a:lnTo>
                          <a:pt x="19" y="37"/>
                        </a:lnTo>
                        <a:lnTo>
                          <a:pt x="70" y="63"/>
                        </a:lnTo>
                        <a:lnTo>
                          <a:pt x="43" y="57"/>
                        </a:lnTo>
                        <a:lnTo>
                          <a:pt x="32" y="53"/>
                        </a:lnTo>
                        <a:lnTo>
                          <a:pt x="18" y="55"/>
                        </a:lnTo>
                        <a:lnTo>
                          <a:pt x="7" y="60"/>
                        </a:lnTo>
                        <a:lnTo>
                          <a:pt x="1" y="73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10" y="0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4472280" y="5083200"/>
                  <a:ext cx="80640" cy="6696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124" y="14"/>
                      </a:moveTo>
                      <a:lnTo>
                        <a:pt x="111" y="7"/>
                      </a:lnTo>
                      <a:lnTo>
                        <a:pt x="101" y="4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5" y="0"/>
                      </a:lnTo>
                      <a:lnTo>
                        <a:pt x="41" y="3"/>
                      </a:lnTo>
                      <a:lnTo>
                        <a:pt x="32" y="3"/>
                      </a:lnTo>
                      <a:lnTo>
                        <a:pt x="22" y="6"/>
                      </a:lnTo>
                      <a:lnTo>
                        <a:pt x="13" y="14"/>
                      </a:lnTo>
                      <a:lnTo>
                        <a:pt x="7" y="23"/>
                      </a:lnTo>
                      <a:lnTo>
                        <a:pt x="6" y="36"/>
                      </a:lnTo>
                      <a:lnTo>
                        <a:pt x="4" y="52"/>
                      </a:lnTo>
                      <a:lnTo>
                        <a:pt x="0" y="74"/>
                      </a:lnTo>
                      <a:lnTo>
                        <a:pt x="3" y="94"/>
                      </a:lnTo>
                      <a:lnTo>
                        <a:pt x="7" y="111"/>
                      </a:lnTo>
                      <a:lnTo>
                        <a:pt x="10" y="127"/>
                      </a:lnTo>
                      <a:lnTo>
                        <a:pt x="14" y="138"/>
                      </a:lnTo>
                      <a:lnTo>
                        <a:pt x="19" y="149"/>
                      </a:lnTo>
                      <a:lnTo>
                        <a:pt x="23" y="159"/>
                      </a:lnTo>
                      <a:lnTo>
                        <a:pt x="28" y="170"/>
                      </a:lnTo>
                      <a:lnTo>
                        <a:pt x="34" y="170"/>
                      </a:lnTo>
                      <a:lnTo>
                        <a:pt x="32" y="154"/>
                      </a:lnTo>
                      <a:lnTo>
                        <a:pt x="35" y="145"/>
                      </a:lnTo>
                      <a:lnTo>
                        <a:pt x="37" y="138"/>
                      </a:lnTo>
                      <a:lnTo>
                        <a:pt x="34" y="129"/>
                      </a:lnTo>
                      <a:lnTo>
                        <a:pt x="32" y="111"/>
                      </a:lnTo>
                      <a:lnTo>
                        <a:pt x="36" y="107"/>
                      </a:lnTo>
                      <a:lnTo>
                        <a:pt x="42" y="116"/>
                      </a:lnTo>
                      <a:lnTo>
                        <a:pt x="48" y="124"/>
                      </a:lnTo>
                      <a:lnTo>
                        <a:pt x="47" y="107"/>
                      </a:lnTo>
                      <a:lnTo>
                        <a:pt x="50" y="86"/>
                      </a:lnTo>
                      <a:lnTo>
                        <a:pt x="50" y="65"/>
                      </a:lnTo>
                      <a:lnTo>
                        <a:pt x="51" y="53"/>
                      </a:lnTo>
                      <a:lnTo>
                        <a:pt x="46" y="47"/>
                      </a:lnTo>
                      <a:lnTo>
                        <a:pt x="56" y="51"/>
                      </a:lnTo>
                      <a:lnTo>
                        <a:pt x="65" y="54"/>
                      </a:lnTo>
                      <a:lnTo>
                        <a:pt x="73" y="55"/>
                      </a:lnTo>
                      <a:lnTo>
                        <a:pt x="87" y="57"/>
                      </a:lnTo>
                      <a:lnTo>
                        <a:pt x="96" y="60"/>
                      </a:lnTo>
                      <a:lnTo>
                        <a:pt x="83" y="54"/>
                      </a:lnTo>
                      <a:lnTo>
                        <a:pt x="91" y="54"/>
                      </a:lnTo>
                      <a:lnTo>
                        <a:pt x="108" y="54"/>
                      </a:lnTo>
                      <a:lnTo>
                        <a:pt x="121" y="52"/>
                      </a:lnTo>
                      <a:lnTo>
                        <a:pt x="137" y="53"/>
                      </a:lnTo>
                      <a:lnTo>
                        <a:pt x="141" y="64"/>
                      </a:lnTo>
                      <a:lnTo>
                        <a:pt x="144" y="77"/>
                      </a:lnTo>
                      <a:lnTo>
                        <a:pt x="147" y="60"/>
                      </a:lnTo>
                      <a:lnTo>
                        <a:pt x="151" y="42"/>
                      </a:lnTo>
                      <a:lnTo>
                        <a:pt x="144" y="29"/>
                      </a:lnTo>
                      <a:lnTo>
                        <a:pt x="135" y="20"/>
                      </a:lnTo>
                      <a:lnTo>
                        <a:pt x="124" y="14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4540680" y="5118120"/>
              <a:ext cx="180360" cy="636120"/>
              <a:chOff x="4540680" y="5118120"/>
              <a:chExt cx="180360" cy="636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587120" y="5118120"/>
                <a:ext cx="95400" cy="153360"/>
                <a:chOff x="4587120" y="5118120"/>
                <a:chExt cx="95400" cy="153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87120" y="511812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180" h="217">
                      <a:moveTo>
                        <a:pt x="104" y="4"/>
                      </a:moveTo>
                      <a:lnTo>
                        <a:pt x="130" y="13"/>
                      </a:lnTo>
                      <a:lnTo>
                        <a:pt x="144" y="25"/>
                      </a:lnTo>
                      <a:lnTo>
                        <a:pt x="153" y="40"/>
                      </a:lnTo>
                      <a:lnTo>
                        <a:pt x="163" y="70"/>
                      </a:lnTo>
                      <a:lnTo>
                        <a:pt x="174" y="114"/>
                      </a:lnTo>
                      <a:lnTo>
                        <a:pt x="180" y="153"/>
                      </a:lnTo>
                      <a:lnTo>
                        <a:pt x="179" y="170"/>
                      </a:lnTo>
                      <a:lnTo>
                        <a:pt x="176" y="187"/>
                      </a:lnTo>
                      <a:lnTo>
                        <a:pt x="174" y="214"/>
                      </a:lnTo>
                      <a:lnTo>
                        <a:pt x="166" y="213"/>
                      </a:lnTo>
                      <a:lnTo>
                        <a:pt x="156" y="209"/>
                      </a:lnTo>
                      <a:lnTo>
                        <a:pt x="144" y="210"/>
                      </a:lnTo>
                      <a:lnTo>
                        <a:pt x="128" y="215"/>
                      </a:lnTo>
                      <a:lnTo>
                        <a:pt x="118" y="216"/>
                      </a:lnTo>
                      <a:lnTo>
                        <a:pt x="118" y="202"/>
                      </a:lnTo>
                      <a:lnTo>
                        <a:pt x="131" y="172"/>
                      </a:lnTo>
                      <a:lnTo>
                        <a:pt x="134" y="124"/>
                      </a:lnTo>
                      <a:lnTo>
                        <a:pt x="131" y="81"/>
                      </a:lnTo>
                      <a:lnTo>
                        <a:pt x="106" y="54"/>
                      </a:lnTo>
                      <a:lnTo>
                        <a:pt x="63" y="49"/>
                      </a:lnTo>
                      <a:lnTo>
                        <a:pt x="43" y="76"/>
                      </a:lnTo>
                      <a:lnTo>
                        <a:pt x="45" y="167"/>
                      </a:lnTo>
                      <a:lnTo>
                        <a:pt x="63" y="203"/>
                      </a:lnTo>
                      <a:lnTo>
                        <a:pt x="63" y="215"/>
                      </a:lnTo>
                      <a:lnTo>
                        <a:pt x="52" y="215"/>
                      </a:lnTo>
                      <a:lnTo>
                        <a:pt x="39" y="213"/>
                      </a:lnTo>
                      <a:lnTo>
                        <a:pt x="28" y="211"/>
                      </a:lnTo>
                      <a:lnTo>
                        <a:pt x="14" y="217"/>
                      </a:lnTo>
                      <a:lnTo>
                        <a:pt x="11" y="202"/>
                      </a:lnTo>
                      <a:lnTo>
                        <a:pt x="4" y="180"/>
                      </a:lnTo>
                      <a:lnTo>
                        <a:pt x="1" y="160"/>
                      </a:lnTo>
                      <a:lnTo>
                        <a:pt x="0" y="143"/>
                      </a:lnTo>
                      <a:lnTo>
                        <a:pt x="1" y="124"/>
                      </a:lnTo>
                      <a:lnTo>
                        <a:pt x="4" y="110"/>
                      </a:lnTo>
                      <a:lnTo>
                        <a:pt x="8" y="95"/>
                      </a:lnTo>
                      <a:lnTo>
                        <a:pt x="11" y="80"/>
                      </a:lnTo>
                      <a:lnTo>
                        <a:pt x="11" y="69"/>
                      </a:lnTo>
                      <a:lnTo>
                        <a:pt x="15" y="53"/>
                      </a:lnTo>
                      <a:lnTo>
                        <a:pt x="19" y="33"/>
                      </a:lnTo>
                      <a:lnTo>
                        <a:pt x="37" y="16"/>
                      </a:lnTo>
                      <a:lnTo>
                        <a:pt x="50" y="4"/>
                      </a:lnTo>
                      <a:lnTo>
                        <a:pt x="70" y="0"/>
                      </a:lnTo>
                      <a:lnTo>
                        <a:pt x="87" y="0"/>
                      </a:lnTo>
                      <a:lnTo>
                        <a:pt x="10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3240" y="5133960"/>
                  <a:ext cx="78480" cy="137520"/>
                </a:xfrm>
                <a:custGeom>
                  <a:avLst/>
                  <a:gdLst/>
                  <a:ahLst/>
                  <a:rect l="l" t="t" r="r" b="b"/>
                  <a:pathLst>
                    <a:path w="149" h="344">
                      <a:moveTo>
                        <a:pt x="92" y="3"/>
                      </a:moveTo>
                      <a:lnTo>
                        <a:pt x="103" y="8"/>
                      </a:lnTo>
                      <a:lnTo>
                        <a:pt x="112" y="16"/>
                      </a:lnTo>
                      <a:lnTo>
                        <a:pt x="120" y="28"/>
                      </a:lnTo>
                      <a:lnTo>
                        <a:pt x="122" y="41"/>
                      </a:lnTo>
                      <a:lnTo>
                        <a:pt x="125" y="83"/>
                      </a:lnTo>
                      <a:lnTo>
                        <a:pt x="125" y="100"/>
                      </a:lnTo>
                      <a:lnTo>
                        <a:pt x="121" y="128"/>
                      </a:lnTo>
                      <a:lnTo>
                        <a:pt x="116" y="143"/>
                      </a:lnTo>
                      <a:lnTo>
                        <a:pt x="106" y="163"/>
                      </a:lnTo>
                      <a:lnTo>
                        <a:pt x="106" y="215"/>
                      </a:lnTo>
                      <a:lnTo>
                        <a:pt x="149" y="243"/>
                      </a:lnTo>
                      <a:lnTo>
                        <a:pt x="72" y="344"/>
                      </a:lnTo>
                      <a:lnTo>
                        <a:pt x="0" y="236"/>
                      </a:lnTo>
                      <a:lnTo>
                        <a:pt x="51" y="204"/>
                      </a:lnTo>
                      <a:lnTo>
                        <a:pt x="51" y="164"/>
                      </a:lnTo>
                      <a:lnTo>
                        <a:pt x="38" y="143"/>
                      </a:lnTo>
                      <a:lnTo>
                        <a:pt x="32" y="129"/>
                      </a:lnTo>
                      <a:lnTo>
                        <a:pt x="28" y="112"/>
                      </a:lnTo>
                      <a:lnTo>
                        <a:pt x="27" y="92"/>
                      </a:lnTo>
                      <a:lnTo>
                        <a:pt x="27" y="77"/>
                      </a:lnTo>
                      <a:lnTo>
                        <a:pt x="27" y="56"/>
                      </a:lnTo>
                      <a:lnTo>
                        <a:pt x="27" y="42"/>
                      </a:lnTo>
                      <a:lnTo>
                        <a:pt x="31" y="27"/>
                      </a:lnTo>
                      <a:lnTo>
                        <a:pt x="39" y="14"/>
                      </a:lnTo>
                      <a:lnTo>
                        <a:pt x="51" y="5"/>
                      </a:lnTo>
                      <a:lnTo>
                        <a:pt x="62" y="1"/>
                      </a:lnTo>
                      <a:lnTo>
                        <a:pt x="76" y="0"/>
                      </a:lnTo>
                      <a:lnTo>
                        <a:pt x="92" y="3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542840" y="5424480"/>
                <a:ext cx="147600" cy="300600"/>
                <a:chOff x="4542840" y="5424480"/>
                <a:chExt cx="147600" cy="3006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4542840" y="5424480"/>
                  <a:ext cx="147600" cy="300600"/>
                  <a:chOff x="4542840" y="5424480"/>
                  <a:chExt cx="147600" cy="3006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584960" y="5488920"/>
                    <a:ext cx="10548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165" y="13"/>
                        </a:moveTo>
                        <a:lnTo>
                          <a:pt x="163" y="183"/>
                        </a:lnTo>
                        <a:lnTo>
                          <a:pt x="164" y="328"/>
                        </a:lnTo>
                        <a:lnTo>
                          <a:pt x="155" y="467"/>
                        </a:lnTo>
                        <a:lnTo>
                          <a:pt x="178" y="528"/>
                        </a:lnTo>
                        <a:lnTo>
                          <a:pt x="196" y="568"/>
                        </a:lnTo>
                        <a:lnTo>
                          <a:pt x="202" y="580"/>
                        </a:lnTo>
                        <a:lnTo>
                          <a:pt x="193" y="594"/>
                        </a:lnTo>
                        <a:lnTo>
                          <a:pt x="158" y="592"/>
                        </a:lnTo>
                        <a:lnTo>
                          <a:pt x="125" y="513"/>
                        </a:lnTo>
                        <a:lnTo>
                          <a:pt x="123" y="463"/>
                        </a:lnTo>
                        <a:lnTo>
                          <a:pt x="99" y="299"/>
                        </a:lnTo>
                        <a:lnTo>
                          <a:pt x="96" y="261"/>
                        </a:lnTo>
                        <a:lnTo>
                          <a:pt x="97" y="338"/>
                        </a:lnTo>
                        <a:lnTo>
                          <a:pt x="87" y="447"/>
                        </a:lnTo>
                        <a:lnTo>
                          <a:pt x="90" y="498"/>
                        </a:lnTo>
                        <a:lnTo>
                          <a:pt x="74" y="549"/>
                        </a:lnTo>
                        <a:lnTo>
                          <a:pt x="52" y="585"/>
                        </a:lnTo>
                        <a:lnTo>
                          <a:pt x="20" y="587"/>
                        </a:lnTo>
                        <a:lnTo>
                          <a:pt x="10" y="574"/>
                        </a:lnTo>
                        <a:lnTo>
                          <a:pt x="45" y="496"/>
                        </a:lnTo>
                        <a:lnTo>
                          <a:pt x="48" y="459"/>
                        </a:lnTo>
                        <a:lnTo>
                          <a:pt x="41" y="380"/>
                        </a:lnTo>
                        <a:lnTo>
                          <a:pt x="28" y="250"/>
                        </a:lnTo>
                        <a:lnTo>
                          <a:pt x="0" y="0"/>
                        </a:lnTo>
                        <a:lnTo>
                          <a:pt x="165" y="13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542840" y="5424480"/>
                    <a:ext cx="248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0" y="0"/>
                        </a:moveTo>
                        <a:lnTo>
                          <a:pt x="0" y="39"/>
                        </a:lnTo>
                        <a:lnTo>
                          <a:pt x="47" y="75"/>
                        </a:lnTo>
                        <a:lnTo>
                          <a:pt x="26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4629240" y="5492160"/>
                  <a:ext cx="6480" cy="104400"/>
                </a:xfrm>
                <a:custGeom>
                  <a:avLst/>
                  <a:gdLst/>
                  <a:ahLst/>
                  <a:rect l="l" t="t" r="r" b="b"/>
                  <a:pathLst>
                    <a:path w="15" h="264">
                      <a:moveTo>
                        <a:pt x="0" y="0"/>
                      </a:moveTo>
                      <a:lnTo>
                        <a:pt x="0" y="87"/>
                      </a:lnTo>
                      <a:lnTo>
                        <a:pt x="3" y="139"/>
                      </a:lnTo>
                      <a:lnTo>
                        <a:pt x="7" y="196"/>
                      </a:lnTo>
                      <a:lnTo>
                        <a:pt x="15" y="251"/>
                      </a:lnTo>
                      <a:lnTo>
                        <a:pt x="13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585320" y="5688000"/>
                <a:ext cx="111600" cy="66240"/>
                <a:chOff x="4585320" y="5688000"/>
                <a:chExt cx="111600" cy="662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585320" y="5688000"/>
                  <a:ext cx="50760" cy="61560"/>
                </a:xfrm>
                <a:custGeom>
                  <a:avLst/>
                  <a:gdLst/>
                  <a:ahLst/>
                  <a:rect l="l" t="t" r="r" b="b"/>
                  <a:pathLst>
                    <a:path w="97" h="157">
                      <a:moveTo>
                        <a:pt x="91" y="0"/>
                      </a:moveTo>
                      <a:lnTo>
                        <a:pt x="97" y="23"/>
                      </a:lnTo>
                      <a:lnTo>
                        <a:pt x="97" y="70"/>
                      </a:lnTo>
                      <a:lnTo>
                        <a:pt x="87" y="53"/>
                      </a:lnTo>
                      <a:lnTo>
                        <a:pt x="77" y="75"/>
                      </a:lnTo>
                      <a:lnTo>
                        <a:pt x="73" y="108"/>
                      </a:lnTo>
                      <a:lnTo>
                        <a:pt x="58" y="137"/>
                      </a:lnTo>
                      <a:lnTo>
                        <a:pt x="35" y="153"/>
                      </a:lnTo>
                      <a:lnTo>
                        <a:pt x="16" y="157"/>
                      </a:lnTo>
                      <a:lnTo>
                        <a:pt x="0" y="154"/>
                      </a:lnTo>
                      <a:lnTo>
                        <a:pt x="0" y="123"/>
                      </a:lnTo>
                      <a:lnTo>
                        <a:pt x="13" y="76"/>
                      </a:lnTo>
                      <a:lnTo>
                        <a:pt x="21" y="88"/>
                      </a:lnTo>
                      <a:lnTo>
                        <a:pt x="35" y="88"/>
                      </a:lnTo>
                      <a:lnTo>
                        <a:pt x="54" y="86"/>
                      </a:lnTo>
                      <a:lnTo>
                        <a:pt x="67" y="66"/>
                      </a:lnTo>
                      <a:lnTo>
                        <a:pt x="79" y="41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50480" y="5688000"/>
                  <a:ext cx="46440" cy="66240"/>
                </a:xfrm>
                <a:custGeom>
                  <a:avLst/>
                  <a:gdLst/>
                  <a:ahLst/>
                  <a:rect l="l" t="t" r="r" b="b"/>
                  <a:pathLst>
                    <a:path w="89" h="164">
                      <a:moveTo>
                        <a:pt x="1" y="0"/>
                      </a:moveTo>
                      <a:lnTo>
                        <a:pt x="0" y="65"/>
                      </a:lnTo>
                      <a:lnTo>
                        <a:pt x="5" y="49"/>
                      </a:lnTo>
                      <a:lnTo>
                        <a:pt x="13" y="69"/>
                      </a:lnTo>
                      <a:lnTo>
                        <a:pt x="19" y="100"/>
                      </a:lnTo>
                      <a:lnTo>
                        <a:pt x="27" y="126"/>
                      </a:lnTo>
                      <a:lnTo>
                        <a:pt x="45" y="147"/>
                      </a:lnTo>
                      <a:lnTo>
                        <a:pt x="61" y="159"/>
                      </a:lnTo>
                      <a:lnTo>
                        <a:pt x="78" y="164"/>
                      </a:lnTo>
                      <a:lnTo>
                        <a:pt x="83" y="156"/>
                      </a:lnTo>
                      <a:lnTo>
                        <a:pt x="88" y="140"/>
                      </a:lnTo>
                      <a:lnTo>
                        <a:pt x="89" y="124"/>
                      </a:lnTo>
                      <a:lnTo>
                        <a:pt x="87" y="108"/>
                      </a:lnTo>
                      <a:lnTo>
                        <a:pt x="80" y="80"/>
                      </a:lnTo>
                      <a:lnTo>
                        <a:pt x="67" y="90"/>
                      </a:lnTo>
                      <a:lnTo>
                        <a:pt x="47" y="90"/>
                      </a:lnTo>
                      <a:lnTo>
                        <a:pt x="35" y="89"/>
                      </a:lnTo>
                      <a:lnTo>
                        <a:pt x="11" y="3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540680" y="5224320"/>
                <a:ext cx="180360" cy="460080"/>
              </a:xfrm>
              <a:custGeom>
                <a:avLst/>
                <a:gdLst/>
                <a:ahLst/>
                <a:rect l="l" t="t" r="r" b="b"/>
                <a:pathLst>
                  <a:path w="343" h="1162">
                    <a:moveTo>
                      <a:pt x="246" y="12"/>
                    </a:moveTo>
                    <a:lnTo>
                      <a:pt x="312" y="51"/>
                    </a:lnTo>
                    <a:lnTo>
                      <a:pt x="330" y="83"/>
                    </a:lnTo>
                    <a:lnTo>
                      <a:pt x="343" y="350"/>
                    </a:lnTo>
                    <a:lnTo>
                      <a:pt x="337" y="413"/>
                    </a:lnTo>
                    <a:lnTo>
                      <a:pt x="296" y="408"/>
                    </a:lnTo>
                    <a:lnTo>
                      <a:pt x="298" y="566"/>
                    </a:lnTo>
                    <a:lnTo>
                      <a:pt x="279" y="566"/>
                    </a:lnTo>
                    <a:lnTo>
                      <a:pt x="255" y="894"/>
                    </a:lnTo>
                    <a:lnTo>
                      <a:pt x="253" y="1068"/>
                    </a:lnTo>
                    <a:lnTo>
                      <a:pt x="250" y="1147"/>
                    </a:lnTo>
                    <a:lnTo>
                      <a:pt x="233" y="1162"/>
                    </a:lnTo>
                    <a:lnTo>
                      <a:pt x="204" y="1149"/>
                    </a:lnTo>
                    <a:lnTo>
                      <a:pt x="188" y="1015"/>
                    </a:lnTo>
                    <a:lnTo>
                      <a:pt x="176" y="1155"/>
                    </a:lnTo>
                    <a:lnTo>
                      <a:pt x="151" y="1161"/>
                    </a:lnTo>
                    <a:lnTo>
                      <a:pt x="128" y="1151"/>
                    </a:lnTo>
                    <a:lnTo>
                      <a:pt x="104" y="887"/>
                    </a:lnTo>
                    <a:lnTo>
                      <a:pt x="74" y="694"/>
                    </a:lnTo>
                    <a:lnTo>
                      <a:pt x="27" y="515"/>
                    </a:lnTo>
                    <a:lnTo>
                      <a:pt x="0" y="512"/>
                    </a:lnTo>
                    <a:lnTo>
                      <a:pt x="25" y="264"/>
                    </a:lnTo>
                    <a:lnTo>
                      <a:pt x="26" y="71"/>
                    </a:lnTo>
                    <a:lnTo>
                      <a:pt x="41" y="49"/>
                    </a:lnTo>
                    <a:lnTo>
                      <a:pt x="112" y="0"/>
                    </a:lnTo>
                    <a:lnTo>
                      <a:pt x="173" y="105"/>
                    </a:lnTo>
                    <a:lnTo>
                      <a:pt x="246" y="1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4585320" y="5271840"/>
                <a:ext cx="111600" cy="113760"/>
                <a:chOff x="4585320" y="5271840"/>
                <a:chExt cx="111600" cy="1137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593240" y="5271840"/>
                  <a:ext cx="95400" cy="85320"/>
                </a:xfrm>
                <a:custGeom>
                  <a:avLst/>
                  <a:gdLst/>
                  <a:ahLst/>
                  <a:rect l="l" t="t" r="r" b="b"/>
                  <a:pathLst>
                    <a:path w="181" h="218">
                      <a:moveTo>
                        <a:pt x="181" y="77"/>
                      </a:moveTo>
                      <a:lnTo>
                        <a:pt x="65" y="0"/>
                      </a:lnTo>
                      <a:lnTo>
                        <a:pt x="0" y="146"/>
                      </a:lnTo>
                      <a:lnTo>
                        <a:pt x="117" y="218"/>
                      </a:lnTo>
                      <a:lnTo>
                        <a:pt x="181" y="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85320" y="5308200"/>
                  <a:ext cx="42120" cy="45360"/>
                </a:xfrm>
                <a:custGeom>
                  <a:avLst/>
                  <a:gdLst/>
                  <a:ahLst/>
                  <a:rect l="l" t="t" r="r" b="b"/>
                  <a:pathLst>
                    <a:path w="79" h="117">
                      <a:moveTo>
                        <a:pt x="79" y="72"/>
                      </a:moveTo>
                      <a:lnTo>
                        <a:pt x="60" y="54"/>
                      </a:lnTo>
                      <a:lnTo>
                        <a:pt x="49" y="20"/>
                      </a:lnTo>
                      <a:lnTo>
                        <a:pt x="34" y="9"/>
                      </a:lnTo>
                      <a:lnTo>
                        <a:pt x="26" y="0"/>
                      </a:lnTo>
                      <a:lnTo>
                        <a:pt x="21" y="4"/>
                      </a:lnTo>
                      <a:lnTo>
                        <a:pt x="20" y="12"/>
                      </a:lnTo>
                      <a:lnTo>
                        <a:pt x="5" y="28"/>
                      </a:lnTo>
                      <a:lnTo>
                        <a:pt x="0" y="58"/>
                      </a:lnTo>
                      <a:lnTo>
                        <a:pt x="5" y="78"/>
                      </a:lnTo>
                      <a:lnTo>
                        <a:pt x="27" y="101"/>
                      </a:lnTo>
                      <a:lnTo>
                        <a:pt x="71" y="117"/>
                      </a:lnTo>
                      <a:lnTo>
                        <a:pt x="79" y="72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18800" y="5333400"/>
                  <a:ext cx="78120" cy="52200"/>
                </a:xfrm>
                <a:custGeom>
                  <a:avLst/>
                  <a:gdLst/>
                  <a:ahLst/>
                  <a:rect l="l" t="t" r="r" b="b"/>
                  <a:pathLst>
                    <a:path w="146" h="130">
                      <a:moveTo>
                        <a:pt x="146" y="130"/>
                      </a:moveTo>
                      <a:lnTo>
                        <a:pt x="87" y="107"/>
                      </a:lnTo>
                      <a:lnTo>
                        <a:pt x="42" y="81"/>
                      </a:lnTo>
                      <a:lnTo>
                        <a:pt x="0" y="56"/>
                      </a:lnTo>
                      <a:lnTo>
                        <a:pt x="16" y="0"/>
                      </a:lnTo>
                      <a:lnTo>
                        <a:pt x="94" y="36"/>
                      </a:lnTo>
                      <a:lnTo>
                        <a:pt x="140" y="53"/>
                      </a:lnTo>
                      <a:lnTo>
                        <a:pt x="142" y="43"/>
                      </a:lnTo>
                      <a:lnTo>
                        <a:pt x="146" y="13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614840" y="5351400"/>
                <a:ext cx="78120" cy="276840"/>
                <a:chOff x="4614840" y="5351400"/>
                <a:chExt cx="78120" cy="27684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4614840" y="5351400"/>
                  <a:ext cx="78120" cy="96480"/>
                  <a:chOff x="4614840" y="5351400"/>
                  <a:chExt cx="78120" cy="964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4614840" y="5351400"/>
                    <a:ext cx="67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245">
                        <a:moveTo>
                          <a:pt x="130" y="245"/>
                        </a:moveTo>
                        <a:lnTo>
                          <a:pt x="4" y="2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617000" y="5362200"/>
                    <a:ext cx="75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1">
                        <a:moveTo>
                          <a:pt x="146" y="61"/>
                        </a:moveTo>
                        <a:lnTo>
                          <a:pt x="94" y="4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4627800" y="5461920"/>
                  <a:ext cx="10440" cy="166320"/>
                </a:xfrm>
                <a:custGeom>
                  <a:avLst/>
                  <a:gdLst/>
                  <a:ahLst/>
                  <a:rect l="l" t="t" r="r" b="b"/>
                  <a:pathLst>
                    <a:path w="19" h="423">
                      <a:moveTo>
                        <a:pt x="0" y="0"/>
                      </a:moveTo>
                      <a:lnTo>
                        <a:pt x="7" y="227"/>
                      </a:lnTo>
                      <a:lnTo>
                        <a:pt x="19" y="423"/>
                      </a:lnTo>
                    </a:path>
                  </a:pathLst>
                </a:custGeom>
                <a:noFill/>
                <a:ln w="32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8960" y="14400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-911880" y="912960"/>
            <a:ext cx="10922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  <a:cs typeface="FreesiaUPC"/>
              </a:rPr>
              <a:t>หลักการในการออกแบบระบบจำแนกตำแหน่งและค่าตอบแทนใหม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11480" y="3002040"/>
            <a:ext cx="858240" cy="1799640"/>
            <a:chOff x="4011480" y="3002040"/>
            <a:chExt cx="858240" cy="1799640"/>
          </a:xfrm>
        </p:grpSpPr>
        <p:sp>
          <p:nvSpPr>
            <p:cNvPr id="363" name=""/>
            <p:cNvSpPr/>
            <p:nvPr/>
          </p:nvSpPr>
          <p:spPr>
            <a:xfrm>
              <a:off x="4070520" y="4676400"/>
              <a:ext cx="69948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4880" y="3113640"/>
              <a:ext cx="759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074480" y="3102480"/>
              <a:ext cx="795240" cy="1546560"/>
              <a:chOff x="4074480" y="3102480"/>
              <a:chExt cx="795240" cy="1546560"/>
            </a:xfrm>
          </p:grpSpPr>
          <p:sp>
            <p:nvSpPr>
              <p:cNvPr id="366" name=""/>
              <p:cNvSpPr/>
              <p:nvPr/>
            </p:nvSpPr>
            <p:spPr>
              <a:xfrm>
                <a:off x="4600080" y="3395880"/>
                <a:ext cx="10728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1200" y="3393000"/>
                <a:ext cx="11052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50600" y="3391200"/>
                <a:ext cx="11880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241880" y="3391200"/>
                <a:ext cx="10836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29560" y="3393000"/>
                <a:ext cx="12204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09400" y="3281400"/>
                <a:ext cx="6735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74480" y="3102480"/>
                <a:ext cx="79524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011480" y="3002040"/>
              <a:ext cx="8233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066680" y="2863800"/>
            <a:ext cx="7083720" cy="7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1480" y="4878360"/>
            <a:ext cx="7061040" cy="9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23880" y="3002040"/>
            <a:ext cx="837720" cy="1799640"/>
            <a:chOff x="1523880" y="3002040"/>
            <a:chExt cx="837720" cy="1799640"/>
          </a:xfrm>
        </p:grpSpPr>
        <p:sp>
          <p:nvSpPr>
            <p:cNvPr id="377" name=""/>
            <p:cNvSpPr/>
            <p:nvPr/>
          </p:nvSpPr>
          <p:spPr>
            <a:xfrm>
              <a:off x="1581480" y="4676400"/>
              <a:ext cx="68256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46920" y="3113640"/>
              <a:ext cx="741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585440" y="3102480"/>
              <a:ext cx="776160" cy="1546560"/>
              <a:chOff x="1585440" y="3102480"/>
              <a:chExt cx="776160" cy="1546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09844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7280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5472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4888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3908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1928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8544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523880" y="3002040"/>
              <a:ext cx="8035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629400" y="3002040"/>
            <a:ext cx="837720" cy="1799640"/>
            <a:chOff x="6629400" y="3002040"/>
            <a:chExt cx="837720" cy="1799640"/>
          </a:xfrm>
        </p:grpSpPr>
        <p:sp>
          <p:nvSpPr>
            <p:cNvPr id="389" name=""/>
            <p:cNvSpPr/>
            <p:nvPr/>
          </p:nvSpPr>
          <p:spPr>
            <a:xfrm>
              <a:off x="6687000" y="4676400"/>
              <a:ext cx="68220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2440" y="3113640"/>
              <a:ext cx="74160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690960" y="3102480"/>
              <a:ext cx="776160" cy="1546560"/>
              <a:chOff x="6690960" y="3102480"/>
              <a:chExt cx="776160" cy="1546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20396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7832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6024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440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4460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2480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9096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629400" y="3002040"/>
              <a:ext cx="80316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272040" y="1797120"/>
            <a:ext cx="21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Microsoft Sans Serif"/>
                <a:cs typeface="Microsoft Sans Serif"/>
              </a:rPr>
              <a:t>หลัก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icrosoft Sans Serif"/>
                <a:ea typeface="Microsoft Sans Serif"/>
              </a:rPr>
              <a:t>(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7120" y="1774800"/>
            <a:ext cx="230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00"/>
                </a:solidFill>
                <a:latin typeface="Microsoft Sans Serif"/>
                <a:cs typeface="Microsoft Sans Serif"/>
              </a:rPr>
              <a:t>หลักผลงา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Microsoft Sans Serif"/>
                <a:ea typeface="Microsoft Sans Serif"/>
              </a:rPr>
              <a:t>(Performanc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82440" y="180504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00"/>
                </a:solidFill>
                <a:latin typeface="Microsoft Sans Serif"/>
                <a:cs typeface="Microsoft Sans Serif"/>
              </a:rPr>
              <a:t>หลักคุณธร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crosoft Sans Serif"/>
                <a:ea typeface="Microsoft Sans Serif"/>
              </a:rPr>
              <a:t>(Mer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5257800"/>
            <a:ext cx="883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กระจายความรับผิดชอ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ในการบริหารทรัพยากรบุคค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030640"/>
            <a:ext cx="739152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400040"/>
            <a:ext cx="9144000" cy="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6240" y="285840"/>
            <a:ext cx="889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แนวคิดหลักในการออกแบบระบบ </a:t>
            </a: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2080" y="933480"/>
            <a:ext cx="85136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3399"/>
                </a:solidFill>
                <a:uFillTx/>
                <a:latin typeface="Times New Roman"/>
                <a:cs typeface="Angsana New"/>
              </a:rPr>
              <a:t>คนที่มีคุณภา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ใ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9900"/>
                </a:solidFill>
                <a:latin typeface="Times New Roman"/>
                <a:cs typeface="Angsana New"/>
              </a:rPr>
              <a:t>งานที่เหมาะส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ความรู้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ทักษะ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สมรรถนะที่ต้อง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แล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9900"/>
                </a:solidFill>
                <a:latin typeface="Times New Roman"/>
                <a:ea typeface="Angsana New"/>
              </a:rPr>
              <a:t>   </a:t>
            </a:r>
            <a:r>
              <a:rPr b="0" lang="th-TH" sz="3200" spc="-1" strike="noStrike">
                <a:solidFill>
                  <a:srgbClr val="669900"/>
                </a:solidFill>
                <a:latin typeface="Times New Roman"/>
                <a:cs typeface="Angsana New"/>
              </a:rPr>
              <a:t>ค่าตอบแทนที่เป็นธ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03:31:41Z</dcterms:created>
  <dc:creator>Sirirat Piriyathanalai</dc:creator>
  <dc:description/>
  <dc:language>en-US</dc:language>
  <cp:lastModifiedBy>User</cp:lastModifiedBy>
  <cp:lastPrinted>2005-07-18T03:03:05Z</cp:lastPrinted>
  <dcterms:modified xsi:type="dcterms:W3CDTF">2006-05-16T02:30:13Z</dcterms:modified>
  <cp:revision>604</cp:revision>
  <dc:subject/>
  <dc:title>JF 2</dc:title>
</cp:coreProperties>
</file>